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3.wmf" ContentType="image/x-wmf"/>
  <Override PartName="/ppt/media/image76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7.png" ContentType="image/png"/>
  <Override PartName="/ppt/media/image6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26.png" ContentType="image/png"/>
  <Override PartName="/ppt/media/image8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2.wmf" ContentType="image/x-wmf"/>
  <Override PartName="/ppt/media/image7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8956583252277"/>
          <c:y val="0.101836504674136"/>
          <c:w val="0.766071270669378"/>
          <c:h val="0.878273553006696"/>
        </c:manualLayout>
      </c:layout>
      <c:scatterChart>
        <c:scatterStyle val="line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palte E</c:v>
                </c:pt>
              </c:strCache>
            </c:strRef>
          </c:tx>
          <c:spPr>
            <a:solidFill>
              <a:srgbClr val="000080"/>
            </a:solidFill>
            <a:ln w="21600">
              <a:solidFill>
                <a:srgbClr val="000080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171"/>
                <c:pt idx="19">
                  <c:v>0.25634</c:v>
                </c:pt>
                <c:pt idx="20">
                  <c:v>0.28103</c:v>
                </c:pt>
                <c:pt idx="21">
                  <c:v>0.2919</c:v>
                </c:pt>
                <c:pt idx="22">
                  <c:v>0.30072</c:v>
                </c:pt>
                <c:pt idx="23">
                  <c:v>0.30744</c:v>
                </c:pt>
                <c:pt idx="24">
                  <c:v>0.31343</c:v>
                </c:pt>
                <c:pt idx="25">
                  <c:v>0.32086</c:v>
                </c:pt>
                <c:pt idx="26">
                  <c:v>0.32882</c:v>
                </c:pt>
                <c:pt idx="27">
                  <c:v>0.33885</c:v>
                </c:pt>
                <c:pt idx="28">
                  <c:v>0.34595</c:v>
                </c:pt>
                <c:pt idx="29">
                  <c:v>0.3543</c:v>
                </c:pt>
                <c:pt idx="30">
                  <c:v>0.3684</c:v>
                </c:pt>
                <c:pt idx="31">
                  <c:v>0.38007</c:v>
                </c:pt>
                <c:pt idx="32">
                  <c:v>0.39025</c:v>
                </c:pt>
                <c:pt idx="33">
                  <c:v>0.40161</c:v>
                </c:pt>
                <c:pt idx="34">
                  <c:v>0.41341</c:v>
                </c:pt>
                <c:pt idx="35">
                  <c:v>0.42734</c:v>
                </c:pt>
                <c:pt idx="36">
                  <c:v>0.44063</c:v>
                </c:pt>
                <c:pt idx="37">
                  <c:v>0.44977</c:v>
                </c:pt>
                <c:pt idx="38">
                  <c:v>0.46217</c:v>
                </c:pt>
                <c:pt idx="39">
                  <c:v>0.47111</c:v>
                </c:pt>
                <c:pt idx="40">
                  <c:v>0.48421</c:v>
                </c:pt>
                <c:pt idx="41">
                  <c:v>0.49406</c:v>
                </c:pt>
                <c:pt idx="42">
                  <c:v>0.50779</c:v>
                </c:pt>
                <c:pt idx="43">
                  <c:v>0.5195</c:v>
                </c:pt>
                <c:pt idx="44">
                  <c:v>0.53188</c:v>
                </c:pt>
                <c:pt idx="45">
                  <c:v>0.53665</c:v>
                </c:pt>
                <c:pt idx="46">
                  <c:v>0.5445</c:v>
                </c:pt>
                <c:pt idx="47">
                  <c:v>0.55526</c:v>
                </c:pt>
                <c:pt idx="48">
                  <c:v>0.56699</c:v>
                </c:pt>
                <c:pt idx="49">
                  <c:v>0.57466</c:v>
                </c:pt>
                <c:pt idx="50">
                  <c:v>0.58407</c:v>
                </c:pt>
                <c:pt idx="51">
                  <c:v>0.59242</c:v>
                </c:pt>
                <c:pt idx="52">
                  <c:v>0.60244</c:v>
                </c:pt>
                <c:pt idx="53">
                  <c:v>0.61682</c:v>
                </c:pt>
                <c:pt idx="54">
                  <c:v>0.61874</c:v>
                </c:pt>
                <c:pt idx="55">
                  <c:v>0.62401</c:v>
                </c:pt>
                <c:pt idx="56">
                  <c:v>0.63086</c:v>
                </c:pt>
                <c:pt idx="57">
                  <c:v>0.6413</c:v>
                </c:pt>
                <c:pt idx="58">
                  <c:v>0.64137</c:v>
                </c:pt>
                <c:pt idx="59">
                  <c:v>0.65171</c:v>
                </c:pt>
                <c:pt idx="60">
                  <c:v>0.66022</c:v>
                </c:pt>
                <c:pt idx="61">
                  <c:v>0.66327</c:v>
                </c:pt>
                <c:pt idx="62">
                  <c:v>0.6738</c:v>
                </c:pt>
                <c:pt idx="63">
                  <c:v>0.68602</c:v>
                </c:pt>
                <c:pt idx="64">
                  <c:v>0.69634</c:v>
                </c:pt>
                <c:pt idx="65">
                  <c:v>0.7087</c:v>
                </c:pt>
                <c:pt idx="66">
                  <c:v>0.71836</c:v>
                </c:pt>
                <c:pt idx="67">
                  <c:v>0.72242</c:v>
                </c:pt>
                <c:pt idx="68">
                  <c:v>0.7245</c:v>
                </c:pt>
                <c:pt idx="69">
                  <c:v>0.72566</c:v>
                </c:pt>
                <c:pt idx="70">
                  <c:v>0.72656</c:v>
                </c:pt>
                <c:pt idx="71">
                  <c:v>0.72806</c:v>
                </c:pt>
                <c:pt idx="72">
                  <c:v>0.72056</c:v>
                </c:pt>
                <c:pt idx="73">
                  <c:v>0.71618</c:v>
                </c:pt>
                <c:pt idx="74">
                  <c:v>0.71291</c:v>
                </c:pt>
                <c:pt idx="75">
                  <c:v>0.71243</c:v>
                </c:pt>
                <c:pt idx="76">
                  <c:v>0.706</c:v>
                </c:pt>
                <c:pt idx="77">
                  <c:v>0.70458</c:v>
                </c:pt>
                <c:pt idx="78">
                  <c:v>0.69656</c:v>
                </c:pt>
                <c:pt idx="79">
                  <c:v>0.68617</c:v>
                </c:pt>
                <c:pt idx="80">
                  <c:v>0.67366</c:v>
                </c:pt>
                <c:pt idx="81">
                  <c:v>0.65834</c:v>
                </c:pt>
                <c:pt idx="82">
                  <c:v>0.64853</c:v>
                </c:pt>
                <c:pt idx="83">
                  <c:v>0.64338</c:v>
                </c:pt>
                <c:pt idx="84">
                  <c:v>0.63011</c:v>
                </c:pt>
                <c:pt idx="97">
                  <c:v>0.58175</c:v>
                </c:pt>
                <c:pt idx="98">
                  <c:v>0.54902</c:v>
                </c:pt>
                <c:pt idx="99">
                  <c:v>0.53079</c:v>
                </c:pt>
                <c:pt idx="100">
                  <c:v>0.51702</c:v>
                </c:pt>
                <c:pt idx="101">
                  <c:v>0.50581</c:v>
                </c:pt>
                <c:pt idx="102">
                  <c:v>0.50624</c:v>
                </c:pt>
                <c:pt idx="103">
                  <c:v>0.48347</c:v>
                </c:pt>
                <c:pt idx="104">
                  <c:v>0.4882</c:v>
                </c:pt>
                <c:pt idx="105">
                  <c:v>0.48764</c:v>
                </c:pt>
                <c:pt idx="107">
                  <c:v>0.47277</c:v>
                </c:pt>
                <c:pt idx="108">
                  <c:v>0.46708</c:v>
                </c:pt>
                <c:pt idx="109">
                  <c:v>0.46168</c:v>
                </c:pt>
                <c:pt idx="110">
                  <c:v>0.46013</c:v>
                </c:pt>
                <c:pt idx="112">
                  <c:v>0.44593</c:v>
                </c:pt>
                <c:pt idx="113">
                  <c:v>0.44061</c:v>
                </c:pt>
                <c:pt idx="115">
                  <c:v>0.43728</c:v>
                </c:pt>
                <c:pt idx="116">
                  <c:v>0.43113</c:v>
                </c:pt>
                <c:pt idx="117">
                  <c:v>0.42339</c:v>
                </c:pt>
                <c:pt idx="119">
                  <c:v>0.41323</c:v>
                </c:pt>
                <c:pt idx="120">
                  <c:v>0.41332</c:v>
                </c:pt>
                <c:pt idx="121">
                  <c:v>0.40853</c:v>
                </c:pt>
                <c:pt idx="124">
                  <c:v>0.39697</c:v>
                </c:pt>
                <c:pt idx="125">
                  <c:v>0.3919</c:v>
                </c:pt>
                <c:pt idx="126">
                  <c:v>0.38965</c:v>
                </c:pt>
                <c:pt idx="127">
                  <c:v>0.39362</c:v>
                </c:pt>
                <c:pt idx="129">
                  <c:v>0.38008</c:v>
                </c:pt>
                <c:pt idx="130">
                  <c:v>0.37675</c:v>
                </c:pt>
                <c:pt idx="131">
                  <c:v>0.37359</c:v>
                </c:pt>
                <c:pt idx="132">
                  <c:v>0.37041</c:v>
                </c:pt>
                <c:pt idx="133">
                  <c:v>0.3674</c:v>
                </c:pt>
                <c:pt idx="134">
                  <c:v>0.36428</c:v>
                </c:pt>
                <c:pt idx="135">
                  <c:v>0.36146</c:v>
                </c:pt>
                <c:pt idx="136">
                  <c:v>0.3586</c:v>
                </c:pt>
                <c:pt idx="137">
                  <c:v>0.35444</c:v>
                </c:pt>
                <c:pt idx="138">
                  <c:v>0.3503</c:v>
                </c:pt>
                <c:pt idx="139">
                  <c:v>0.34781</c:v>
                </c:pt>
                <c:pt idx="140">
                  <c:v>0.3453</c:v>
                </c:pt>
                <c:pt idx="141">
                  <c:v>0.34289</c:v>
                </c:pt>
                <c:pt idx="142">
                  <c:v>0.3394</c:v>
                </c:pt>
                <c:pt idx="143">
                  <c:v>0.33599</c:v>
                </c:pt>
                <c:pt idx="144">
                  <c:v>0.33264</c:v>
                </c:pt>
                <c:pt idx="145">
                  <c:v>0.32926</c:v>
                </c:pt>
                <c:pt idx="146">
                  <c:v>0.32725</c:v>
                </c:pt>
                <c:pt idx="147">
                  <c:v>0.32437</c:v>
                </c:pt>
                <c:pt idx="148">
                  <c:v>0.32076</c:v>
                </c:pt>
                <c:pt idx="149">
                  <c:v>0.31736</c:v>
                </c:pt>
                <c:pt idx="150">
                  <c:v>0.31492</c:v>
                </c:pt>
                <c:pt idx="151">
                  <c:v>0.3126</c:v>
                </c:pt>
                <c:pt idx="152">
                  <c:v>0.30883</c:v>
                </c:pt>
                <c:pt idx="153">
                  <c:v>0.30536</c:v>
                </c:pt>
                <c:pt idx="154">
                  <c:v>0.30283</c:v>
                </c:pt>
                <c:pt idx="155">
                  <c:v>0.30046</c:v>
                </c:pt>
                <c:pt idx="156">
                  <c:v>0.29764</c:v>
                </c:pt>
                <c:pt idx="157">
                  <c:v>0.29455</c:v>
                </c:pt>
                <c:pt idx="158">
                  <c:v>0.29261</c:v>
                </c:pt>
              </c:numCache>
            </c:numRef>
          </c:yVal>
          <c:smooth val="0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palte G</c:v>
                </c:pt>
              </c:strCache>
            </c:strRef>
          </c:tx>
          <c:spPr>
            <a:solidFill>
              <a:srgbClr val="ff00ff"/>
            </a:solidFill>
            <a:ln w="21600">
              <a:solidFill>
                <a:srgbClr val="ff00ff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171"/>
                <c:pt idx="17">
                  <c:v>0.25856</c:v>
                </c:pt>
                <c:pt idx="18">
                  <c:v>0.27307</c:v>
                </c:pt>
                <c:pt idx="19">
                  <c:v>0.28669</c:v>
                </c:pt>
                <c:pt idx="20">
                  <c:v>0.29622</c:v>
                </c:pt>
                <c:pt idx="21">
                  <c:v>0.30186</c:v>
                </c:pt>
                <c:pt idx="22">
                  <c:v>0.3089</c:v>
                </c:pt>
                <c:pt idx="23">
                  <c:v>0.31527</c:v>
                </c:pt>
                <c:pt idx="24">
                  <c:v>0.31445</c:v>
                </c:pt>
                <c:pt idx="25">
                  <c:v>0.31844</c:v>
                </c:pt>
                <c:pt idx="26">
                  <c:v>0.32536</c:v>
                </c:pt>
                <c:pt idx="27">
                  <c:v>0.33323</c:v>
                </c:pt>
                <c:pt idx="28">
                  <c:v>0.33592</c:v>
                </c:pt>
                <c:pt idx="29">
                  <c:v>0.34723</c:v>
                </c:pt>
                <c:pt idx="30">
                  <c:v>0.35198</c:v>
                </c:pt>
                <c:pt idx="31">
                  <c:v>0.36061</c:v>
                </c:pt>
                <c:pt idx="32">
                  <c:v>0.36975</c:v>
                </c:pt>
                <c:pt idx="33">
                  <c:v>0.37685</c:v>
                </c:pt>
                <c:pt idx="35">
                  <c:v>0.3949</c:v>
                </c:pt>
                <c:pt idx="36">
                  <c:v>0.41286</c:v>
                </c:pt>
                <c:pt idx="37">
                  <c:v>0.43198</c:v>
                </c:pt>
                <c:pt idx="38">
                  <c:v>0.42897</c:v>
                </c:pt>
                <c:pt idx="39">
                  <c:v>0.43952</c:v>
                </c:pt>
                <c:pt idx="40">
                  <c:v>0.47252</c:v>
                </c:pt>
                <c:pt idx="42">
                  <c:v>0.48798</c:v>
                </c:pt>
                <c:pt idx="43">
                  <c:v>0.5026</c:v>
                </c:pt>
                <c:pt idx="44">
                  <c:v>0.50546</c:v>
                </c:pt>
                <c:pt idx="45">
                  <c:v>0.5197</c:v>
                </c:pt>
                <c:pt idx="46">
                  <c:v>0.54578</c:v>
                </c:pt>
                <c:pt idx="47">
                  <c:v>0.56705</c:v>
                </c:pt>
                <c:pt idx="48">
                  <c:v>0.56596</c:v>
                </c:pt>
                <c:pt idx="49">
                  <c:v>0.58606</c:v>
                </c:pt>
                <c:pt idx="50">
                  <c:v>0.59939</c:v>
                </c:pt>
                <c:pt idx="51">
                  <c:v>0.6185</c:v>
                </c:pt>
                <c:pt idx="52">
                  <c:v>0.62557</c:v>
                </c:pt>
                <c:pt idx="53">
                  <c:v>0.62411</c:v>
                </c:pt>
                <c:pt idx="54">
                  <c:v>0.63574</c:v>
                </c:pt>
                <c:pt idx="55">
                  <c:v>0.64951</c:v>
                </c:pt>
                <c:pt idx="56">
                  <c:v>0.66418</c:v>
                </c:pt>
                <c:pt idx="57">
                  <c:v>0.66816</c:v>
                </c:pt>
                <c:pt idx="58">
                  <c:v>0.6669</c:v>
                </c:pt>
                <c:pt idx="61">
                  <c:v>0.68994</c:v>
                </c:pt>
                <c:pt idx="62">
                  <c:v>0.6991</c:v>
                </c:pt>
                <c:pt idx="63">
                  <c:v>0.71511</c:v>
                </c:pt>
                <c:pt idx="64">
                  <c:v>0.71408</c:v>
                </c:pt>
                <c:pt idx="65">
                  <c:v>0.72163</c:v>
                </c:pt>
                <c:pt idx="66">
                  <c:v>0.73017</c:v>
                </c:pt>
                <c:pt idx="67">
                  <c:v>0.72402</c:v>
                </c:pt>
                <c:pt idx="68">
                  <c:v>0.72414</c:v>
                </c:pt>
                <c:pt idx="69">
                  <c:v>0.7291</c:v>
                </c:pt>
                <c:pt idx="70">
                  <c:v>0.73074</c:v>
                </c:pt>
                <c:pt idx="71">
                  <c:v>0.72765</c:v>
                </c:pt>
                <c:pt idx="72">
                  <c:v>0.73042</c:v>
                </c:pt>
                <c:pt idx="73">
                  <c:v>0.74483</c:v>
                </c:pt>
                <c:pt idx="74">
                  <c:v>0.75589</c:v>
                </c:pt>
                <c:pt idx="75">
                  <c:v>0.77083</c:v>
                </c:pt>
                <c:pt idx="76">
                  <c:v>0.76516</c:v>
                </c:pt>
                <c:pt idx="77">
                  <c:v>0.7599</c:v>
                </c:pt>
                <c:pt idx="78">
                  <c:v>0.74352</c:v>
                </c:pt>
                <c:pt idx="79">
                  <c:v>0.73344</c:v>
                </c:pt>
                <c:pt idx="80">
                  <c:v>0.7158</c:v>
                </c:pt>
                <c:pt idx="81">
                  <c:v>0.72354</c:v>
                </c:pt>
                <c:pt idx="82">
                  <c:v>0.70858</c:v>
                </c:pt>
                <c:pt idx="83">
                  <c:v>0.70767</c:v>
                </c:pt>
                <c:pt idx="84">
                  <c:v>0.68312</c:v>
                </c:pt>
                <c:pt idx="85">
                  <c:v>0.6855</c:v>
                </c:pt>
                <c:pt idx="86">
                  <c:v>0.66897</c:v>
                </c:pt>
                <c:pt idx="87">
                  <c:v>0.65823</c:v>
                </c:pt>
                <c:pt idx="88">
                  <c:v>0.63794</c:v>
                </c:pt>
                <c:pt idx="93">
                  <c:v>0.63877</c:v>
                </c:pt>
                <c:pt idx="94">
                  <c:v>0.63668</c:v>
                </c:pt>
                <c:pt idx="95">
                  <c:v>0.60542</c:v>
                </c:pt>
                <c:pt idx="96">
                  <c:v>0.59682</c:v>
                </c:pt>
                <c:pt idx="97">
                  <c:v>0.59085</c:v>
                </c:pt>
                <c:pt idx="98">
                  <c:v>0.58598</c:v>
                </c:pt>
                <c:pt idx="99">
                  <c:v>0.58557</c:v>
                </c:pt>
                <c:pt idx="100">
                  <c:v>0.58409</c:v>
                </c:pt>
                <c:pt idx="101">
                  <c:v>0.57179</c:v>
                </c:pt>
                <c:pt idx="102">
                  <c:v>0.57643</c:v>
                </c:pt>
                <c:pt idx="104">
                  <c:v>0.57481</c:v>
                </c:pt>
                <c:pt idx="105">
                  <c:v>0.56844</c:v>
                </c:pt>
                <c:pt idx="106">
                  <c:v>0.57178</c:v>
                </c:pt>
                <c:pt idx="107">
                  <c:v>0.56469</c:v>
                </c:pt>
                <c:pt idx="109">
                  <c:v>0.55352</c:v>
                </c:pt>
                <c:pt idx="111">
                  <c:v>0.54633</c:v>
                </c:pt>
                <c:pt idx="112">
                  <c:v>0.54073</c:v>
                </c:pt>
                <c:pt idx="113">
                  <c:v>0.53489</c:v>
                </c:pt>
                <c:pt idx="114">
                  <c:v>0.52884</c:v>
                </c:pt>
                <c:pt idx="116">
                  <c:v>0.52279</c:v>
                </c:pt>
                <c:pt idx="117">
                  <c:v>0.51661</c:v>
                </c:pt>
                <c:pt idx="118">
                  <c:v>0.51052</c:v>
                </c:pt>
                <c:pt idx="119">
                  <c:v>0.50446</c:v>
                </c:pt>
                <c:pt idx="120">
                  <c:v>0.49843</c:v>
                </c:pt>
                <c:pt idx="121">
                  <c:v>0.49244</c:v>
                </c:pt>
                <c:pt idx="123">
                  <c:v>0.48596</c:v>
                </c:pt>
                <c:pt idx="124">
                  <c:v>0.48011</c:v>
                </c:pt>
                <c:pt idx="125">
                  <c:v>0.47438</c:v>
                </c:pt>
                <c:pt idx="126">
                  <c:v>0.46871</c:v>
                </c:pt>
                <c:pt idx="127">
                  <c:v>0.46295</c:v>
                </c:pt>
                <c:pt idx="128">
                  <c:v>0.45738</c:v>
                </c:pt>
                <c:pt idx="129">
                  <c:v>0.45188</c:v>
                </c:pt>
                <c:pt idx="130">
                  <c:v>0.44655</c:v>
                </c:pt>
                <c:pt idx="131">
                  <c:v>0.44139</c:v>
                </c:pt>
                <c:pt idx="132">
                  <c:v>0.43646</c:v>
                </c:pt>
                <c:pt idx="133">
                  <c:v>0.42966</c:v>
                </c:pt>
                <c:pt idx="134">
                  <c:v>0.42339</c:v>
                </c:pt>
                <c:pt idx="135">
                  <c:v>0.41956</c:v>
                </c:pt>
                <c:pt idx="136">
                  <c:v>0.4158</c:v>
                </c:pt>
                <c:pt idx="137">
                  <c:v>0.41568</c:v>
                </c:pt>
                <c:pt idx="140">
                  <c:v>0.40205</c:v>
                </c:pt>
                <c:pt idx="141">
                  <c:v>0.39553</c:v>
                </c:pt>
                <c:pt idx="144">
                  <c:v>0.38768</c:v>
                </c:pt>
                <c:pt idx="145">
                  <c:v>0.38353</c:v>
                </c:pt>
                <c:pt idx="146">
                  <c:v>0.37008</c:v>
                </c:pt>
                <c:pt idx="147">
                  <c:v>0.37016</c:v>
                </c:pt>
                <c:pt idx="148">
                  <c:v>0.36884</c:v>
                </c:pt>
                <c:pt idx="149">
                  <c:v>0.36046</c:v>
                </c:pt>
                <c:pt idx="150">
                  <c:v>0.36135</c:v>
                </c:pt>
                <c:pt idx="151">
                  <c:v>0.35374</c:v>
                </c:pt>
                <c:pt idx="152">
                  <c:v>0.35002</c:v>
                </c:pt>
                <c:pt idx="153">
                  <c:v>0.34562</c:v>
                </c:pt>
                <c:pt idx="154">
                  <c:v>0.34085</c:v>
                </c:pt>
                <c:pt idx="155">
                  <c:v>0.33944</c:v>
                </c:pt>
                <c:pt idx="156">
                  <c:v>0.33872</c:v>
                </c:pt>
                <c:pt idx="157">
                  <c:v>0.33233</c:v>
                </c:pt>
                <c:pt idx="158">
                  <c:v>0.32705</c:v>
                </c:pt>
                <c:pt idx="159">
                  <c:v>0.32752</c:v>
                </c:pt>
              </c:numCache>
            </c:numRef>
          </c:yVal>
          <c:smooth val="0"/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>Spalte I</c:v>
                </c:pt>
              </c:strCache>
            </c:strRef>
          </c:tx>
          <c:spPr>
            <a:solidFill>
              <a:srgbClr val="ffff00"/>
            </a:solidFill>
            <a:ln w="21600">
              <a:solidFill>
                <a:srgbClr val="ffff00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3</c:f>
              <c:numCache>
                <c:formatCode>General</c:formatCode>
                <c:ptCount val="171"/>
                <c:pt idx="11">
                  <c:v>0.21993</c:v>
                </c:pt>
                <c:pt idx="12">
                  <c:v>0.22312</c:v>
                </c:pt>
                <c:pt idx="13">
                  <c:v>0.22362</c:v>
                </c:pt>
                <c:pt idx="15">
                  <c:v>0.24115</c:v>
                </c:pt>
                <c:pt idx="16">
                  <c:v>0.25897</c:v>
                </c:pt>
                <c:pt idx="17">
                  <c:v>0.27057</c:v>
                </c:pt>
                <c:pt idx="18">
                  <c:v>0.27811</c:v>
                </c:pt>
                <c:pt idx="19">
                  <c:v>0.28201</c:v>
                </c:pt>
                <c:pt idx="20">
                  <c:v>0.28807</c:v>
                </c:pt>
                <c:pt idx="21">
                  <c:v>0.30031</c:v>
                </c:pt>
                <c:pt idx="22">
                  <c:v>0.30195</c:v>
                </c:pt>
                <c:pt idx="23">
                  <c:v>0.30565</c:v>
                </c:pt>
                <c:pt idx="24">
                  <c:v>0.31905</c:v>
                </c:pt>
                <c:pt idx="26">
                  <c:v>0.33122</c:v>
                </c:pt>
                <c:pt idx="27">
                  <c:v>0.33951</c:v>
                </c:pt>
                <c:pt idx="28">
                  <c:v>0.35232</c:v>
                </c:pt>
                <c:pt idx="29">
                  <c:v>0.35817</c:v>
                </c:pt>
                <c:pt idx="30">
                  <c:v>0.36455</c:v>
                </c:pt>
                <c:pt idx="31">
                  <c:v>0.37031</c:v>
                </c:pt>
                <c:pt idx="32">
                  <c:v>0.38971</c:v>
                </c:pt>
                <c:pt idx="33">
                  <c:v>0.39927</c:v>
                </c:pt>
                <c:pt idx="36">
                  <c:v>0.40943</c:v>
                </c:pt>
                <c:pt idx="37">
                  <c:v>0.4242</c:v>
                </c:pt>
                <c:pt idx="38">
                  <c:v>0.43169</c:v>
                </c:pt>
                <c:pt idx="39">
                  <c:v>0.43928</c:v>
                </c:pt>
                <c:pt idx="40">
                  <c:v>0.45267</c:v>
                </c:pt>
                <c:pt idx="41">
                  <c:v>0.46193</c:v>
                </c:pt>
                <c:pt idx="42">
                  <c:v>0.46033</c:v>
                </c:pt>
                <c:pt idx="43">
                  <c:v>0.4727</c:v>
                </c:pt>
                <c:pt idx="44">
                  <c:v>0.48344</c:v>
                </c:pt>
                <c:pt idx="45">
                  <c:v>0.48861</c:v>
                </c:pt>
                <c:pt idx="47">
                  <c:v>0.49871</c:v>
                </c:pt>
                <c:pt idx="48">
                  <c:v>0.50822</c:v>
                </c:pt>
                <c:pt idx="52">
                  <c:v>0.5305</c:v>
                </c:pt>
                <c:pt idx="53">
                  <c:v>0.54383</c:v>
                </c:pt>
                <c:pt idx="54">
                  <c:v>0.5432</c:v>
                </c:pt>
                <c:pt idx="56">
                  <c:v>0.54627</c:v>
                </c:pt>
                <c:pt idx="57">
                  <c:v>0.55088</c:v>
                </c:pt>
                <c:pt idx="58">
                  <c:v>0.5726</c:v>
                </c:pt>
                <c:pt idx="59">
                  <c:v>0.57518</c:v>
                </c:pt>
                <c:pt idx="60">
                  <c:v>0.58154</c:v>
                </c:pt>
                <c:pt idx="61">
                  <c:v>0.59424</c:v>
                </c:pt>
                <c:pt idx="63">
                  <c:v>0.59818</c:v>
                </c:pt>
                <c:pt idx="64">
                  <c:v>0.60603</c:v>
                </c:pt>
                <c:pt idx="65">
                  <c:v>0.61372</c:v>
                </c:pt>
                <c:pt idx="66">
                  <c:v>0.62013</c:v>
                </c:pt>
                <c:pt idx="67">
                  <c:v>0.62798</c:v>
                </c:pt>
                <c:pt idx="68">
                  <c:v>0.63773</c:v>
                </c:pt>
                <c:pt idx="69">
                  <c:v>0.64293</c:v>
                </c:pt>
                <c:pt idx="70">
                  <c:v>0.64406</c:v>
                </c:pt>
                <c:pt idx="71">
                  <c:v>0.6532</c:v>
                </c:pt>
                <c:pt idx="72">
                  <c:v>0.65501</c:v>
                </c:pt>
                <c:pt idx="73">
                  <c:v>0.65535</c:v>
                </c:pt>
                <c:pt idx="74">
                  <c:v>0.65946</c:v>
                </c:pt>
                <c:pt idx="75">
                  <c:v>0.66746</c:v>
                </c:pt>
                <c:pt idx="76">
                  <c:v>0.66519</c:v>
                </c:pt>
                <c:pt idx="77">
                  <c:v>0.66158</c:v>
                </c:pt>
                <c:pt idx="78">
                  <c:v>0.66326</c:v>
                </c:pt>
                <c:pt idx="79">
                  <c:v>0.66917</c:v>
                </c:pt>
                <c:pt idx="80">
                  <c:v>0.66032</c:v>
                </c:pt>
                <c:pt idx="81">
                  <c:v>0.65532</c:v>
                </c:pt>
                <c:pt idx="82">
                  <c:v>0.64052</c:v>
                </c:pt>
                <c:pt idx="83">
                  <c:v>0.61279</c:v>
                </c:pt>
                <c:pt idx="98">
                  <c:v>0.54652</c:v>
                </c:pt>
                <c:pt idx="99">
                  <c:v>0.52542</c:v>
                </c:pt>
                <c:pt idx="100">
                  <c:v>0.51275</c:v>
                </c:pt>
                <c:pt idx="101">
                  <c:v>0.50507</c:v>
                </c:pt>
                <c:pt idx="103">
                  <c:v>0.49629</c:v>
                </c:pt>
                <c:pt idx="105">
                  <c:v>0.48641</c:v>
                </c:pt>
                <c:pt idx="106">
                  <c:v>0.4823</c:v>
                </c:pt>
                <c:pt idx="107">
                  <c:v>0.46484</c:v>
                </c:pt>
                <c:pt idx="109">
                  <c:v>0.47337</c:v>
                </c:pt>
                <c:pt idx="110">
                  <c:v>0.46516</c:v>
                </c:pt>
                <c:pt idx="111">
                  <c:v>0.46124</c:v>
                </c:pt>
                <c:pt idx="112">
                  <c:v>0.45747</c:v>
                </c:pt>
                <c:pt idx="114">
                  <c:v>0.45432</c:v>
                </c:pt>
                <c:pt idx="115">
                  <c:v>0.45135</c:v>
                </c:pt>
                <c:pt idx="116">
                  <c:v>0.44385</c:v>
                </c:pt>
                <c:pt idx="117">
                  <c:v>0.43884</c:v>
                </c:pt>
                <c:pt idx="119">
                  <c:v>0.43517</c:v>
                </c:pt>
                <c:pt idx="120">
                  <c:v>0.42736</c:v>
                </c:pt>
                <c:pt idx="122">
                  <c:v>0.43463</c:v>
                </c:pt>
                <c:pt idx="124">
                  <c:v>0.42696</c:v>
                </c:pt>
                <c:pt idx="126">
                  <c:v>0.41988</c:v>
                </c:pt>
                <c:pt idx="127">
                  <c:v>0.41504</c:v>
                </c:pt>
                <c:pt idx="129">
                  <c:v>0.40786</c:v>
                </c:pt>
                <c:pt idx="130">
                  <c:v>0.40886</c:v>
                </c:pt>
                <c:pt idx="131">
                  <c:v>0.40371</c:v>
                </c:pt>
                <c:pt idx="132">
                  <c:v>0.40137</c:v>
                </c:pt>
                <c:pt idx="133">
                  <c:v>0.3982</c:v>
                </c:pt>
                <c:pt idx="134">
                  <c:v>0.39595</c:v>
                </c:pt>
                <c:pt idx="135">
                  <c:v>0.39267</c:v>
                </c:pt>
                <c:pt idx="136">
                  <c:v>0.38949</c:v>
                </c:pt>
                <c:pt idx="137">
                  <c:v>0.38736</c:v>
                </c:pt>
                <c:pt idx="138">
                  <c:v>0.38556</c:v>
                </c:pt>
                <c:pt idx="139">
                  <c:v>0.38259</c:v>
                </c:pt>
                <c:pt idx="140">
                  <c:v>0.37967</c:v>
                </c:pt>
                <c:pt idx="141">
                  <c:v>0.37694</c:v>
                </c:pt>
                <c:pt idx="142">
                  <c:v>0.37425</c:v>
                </c:pt>
                <c:pt idx="143">
                  <c:v>0.37173</c:v>
                </c:pt>
                <c:pt idx="144">
                  <c:v>0.36847</c:v>
                </c:pt>
                <c:pt idx="145">
                  <c:v>0.36541</c:v>
                </c:pt>
                <c:pt idx="146">
                  <c:v>0.36248</c:v>
                </c:pt>
                <c:pt idx="147">
                  <c:v>0.3597</c:v>
                </c:pt>
                <c:pt idx="148">
                  <c:v>0.35708</c:v>
                </c:pt>
                <c:pt idx="149">
                  <c:v>0.3546</c:v>
                </c:pt>
                <c:pt idx="150">
                  <c:v>0.35226</c:v>
                </c:pt>
                <c:pt idx="151">
                  <c:v>0.34954</c:v>
                </c:pt>
                <c:pt idx="152">
                  <c:v>0.34651</c:v>
                </c:pt>
                <c:pt idx="153">
                  <c:v>0.34414</c:v>
                </c:pt>
                <c:pt idx="154">
                  <c:v>0.34153</c:v>
                </c:pt>
                <c:pt idx="155">
                  <c:v>0.3388</c:v>
                </c:pt>
                <c:pt idx="156">
                  <c:v>0.33738</c:v>
                </c:pt>
              </c:numCache>
            </c:numRef>
          </c:yVal>
          <c:smooth val="0"/>
        </c:ser>
        <c:ser>
          <c:idx val="3"/>
          <c:order val="3"/>
          <c:tx>
            <c:strRef>
              <c:f>label 4</c:f>
              <c:strCache>
                <c:ptCount val="1"/>
                <c:pt idx="0">
                  <c:v>Spalte K</c:v>
                </c:pt>
              </c:strCache>
            </c:strRef>
          </c:tx>
          <c:spPr>
            <a:solidFill>
              <a:srgbClr val="00ffff"/>
            </a:solidFill>
            <a:ln w="21600">
              <a:solidFill>
                <a:srgbClr val="00ffff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4</c:f>
              <c:numCache>
                <c:formatCode>General</c:formatCode>
                <c:ptCount val="171"/>
                <c:pt idx="16">
                  <c:v>0.24746</c:v>
                </c:pt>
                <c:pt idx="17">
                  <c:v>0.25912</c:v>
                </c:pt>
                <c:pt idx="18">
                  <c:v>0.27036</c:v>
                </c:pt>
                <c:pt idx="19">
                  <c:v>0.27929</c:v>
                </c:pt>
                <c:pt idx="20">
                  <c:v>0.285</c:v>
                </c:pt>
                <c:pt idx="21">
                  <c:v>0.2941</c:v>
                </c:pt>
                <c:pt idx="22">
                  <c:v>0.30409</c:v>
                </c:pt>
                <c:pt idx="23">
                  <c:v>0.29658</c:v>
                </c:pt>
                <c:pt idx="24">
                  <c:v>0.30044</c:v>
                </c:pt>
                <c:pt idx="25">
                  <c:v>0.31114</c:v>
                </c:pt>
                <c:pt idx="26">
                  <c:v>0.31478</c:v>
                </c:pt>
                <c:pt idx="27">
                  <c:v>0.32163</c:v>
                </c:pt>
                <c:pt idx="28">
                  <c:v>0.32548</c:v>
                </c:pt>
                <c:pt idx="29">
                  <c:v>0.33112</c:v>
                </c:pt>
                <c:pt idx="30">
                  <c:v>0.33169</c:v>
                </c:pt>
                <c:pt idx="32">
                  <c:v>0.34526</c:v>
                </c:pt>
                <c:pt idx="33">
                  <c:v>0.34759</c:v>
                </c:pt>
                <c:pt idx="34">
                  <c:v>0.34919</c:v>
                </c:pt>
                <c:pt idx="35">
                  <c:v>0.35854</c:v>
                </c:pt>
                <c:pt idx="36">
                  <c:v>0.36655</c:v>
                </c:pt>
                <c:pt idx="37">
                  <c:v>0.37582</c:v>
                </c:pt>
                <c:pt idx="38">
                  <c:v>0.38088</c:v>
                </c:pt>
                <c:pt idx="39">
                  <c:v>0.38565</c:v>
                </c:pt>
                <c:pt idx="40">
                  <c:v>0.40133</c:v>
                </c:pt>
                <c:pt idx="41">
                  <c:v>0.41276</c:v>
                </c:pt>
                <c:pt idx="43">
                  <c:v>0.42958</c:v>
                </c:pt>
                <c:pt idx="45">
                  <c:v>0.4282</c:v>
                </c:pt>
                <c:pt idx="46">
                  <c:v>0.43528</c:v>
                </c:pt>
                <c:pt idx="47">
                  <c:v>0.4419</c:v>
                </c:pt>
                <c:pt idx="48">
                  <c:v>0.45313</c:v>
                </c:pt>
                <c:pt idx="49">
                  <c:v>0.46135</c:v>
                </c:pt>
                <c:pt idx="50">
                  <c:v>0.46775</c:v>
                </c:pt>
                <c:pt idx="51">
                  <c:v>0.47558</c:v>
                </c:pt>
                <c:pt idx="52">
                  <c:v>0.4835</c:v>
                </c:pt>
                <c:pt idx="53">
                  <c:v>0.48944</c:v>
                </c:pt>
                <c:pt idx="54">
                  <c:v>0.49874</c:v>
                </c:pt>
                <c:pt idx="55">
                  <c:v>0.50692</c:v>
                </c:pt>
                <c:pt idx="56">
                  <c:v>0.51849</c:v>
                </c:pt>
                <c:pt idx="57">
                  <c:v>0.53045</c:v>
                </c:pt>
                <c:pt idx="58">
                  <c:v>0.54001</c:v>
                </c:pt>
                <c:pt idx="59">
                  <c:v>0.5516</c:v>
                </c:pt>
                <c:pt idx="60">
                  <c:v>0.56582</c:v>
                </c:pt>
                <c:pt idx="61">
                  <c:v>0.57933</c:v>
                </c:pt>
                <c:pt idx="62">
                  <c:v>0.59423</c:v>
                </c:pt>
                <c:pt idx="63">
                  <c:v>0.61006</c:v>
                </c:pt>
                <c:pt idx="64">
                  <c:v>0.62416</c:v>
                </c:pt>
                <c:pt idx="65">
                  <c:v>0.63853</c:v>
                </c:pt>
                <c:pt idx="66">
                  <c:v>0.65102</c:v>
                </c:pt>
                <c:pt idx="67">
                  <c:v>0.65504</c:v>
                </c:pt>
                <c:pt idx="69">
                  <c:v>0.67619</c:v>
                </c:pt>
                <c:pt idx="71">
                  <c:v>0.67168</c:v>
                </c:pt>
                <c:pt idx="72">
                  <c:v>0.68297</c:v>
                </c:pt>
                <c:pt idx="73">
                  <c:v>0.67912</c:v>
                </c:pt>
                <c:pt idx="74">
                  <c:v>0.673</c:v>
                </c:pt>
                <c:pt idx="75">
                  <c:v>0.66558</c:v>
                </c:pt>
                <c:pt idx="76">
                  <c:v>0.6706</c:v>
                </c:pt>
                <c:pt idx="77">
                  <c:v>0.67065</c:v>
                </c:pt>
                <c:pt idx="78">
                  <c:v>0.66955</c:v>
                </c:pt>
                <c:pt idx="79">
                  <c:v>0.65927</c:v>
                </c:pt>
                <c:pt idx="80">
                  <c:v>0.65752</c:v>
                </c:pt>
                <c:pt idx="81">
                  <c:v>0.65778</c:v>
                </c:pt>
                <c:pt idx="82">
                  <c:v>0.6566275</c:v>
                </c:pt>
                <c:pt idx="83">
                  <c:v>0.62664</c:v>
                </c:pt>
                <c:pt idx="100">
                  <c:v>0.54766</c:v>
                </c:pt>
                <c:pt idx="101">
                  <c:v>0.54577</c:v>
                </c:pt>
                <c:pt idx="102">
                  <c:v>0.53882</c:v>
                </c:pt>
                <c:pt idx="105">
                  <c:v>0.52686</c:v>
                </c:pt>
                <c:pt idx="106">
                  <c:v>0.52309</c:v>
                </c:pt>
                <c:pt idx="108">
                  <c:v>0.50921</c:v>
                </c:pt>
                <c:pt idx="109">
                  <c:v>0.51515</c:v>
                </c:pt>
                <c:pt idx="110">
                  <c:v>0.50444</c:v>
                </c:pt>
                <c:pt idx="111">
                  <c:v>0.50671</c:v>
                </c:pt>
                <c:pt idx="112">
                  <c:v>0.5051</c:v>
                </c:pt>
                <c:pt idx="115">
                  <c:v>0.49628</c:v>
                </c:pt>
                <c:pt idx="116">
                  <c:v>0.49244</c:v>
                </c:pt>
                <c:pt idx="117">
                  <c:v>0.48836</c:v>
                </c:pt>
                <c:pt idx="118">
                  <c:v>0.48414</c:v>
                </c:pt>
                <c:pt idx="119">
                  <c:v>0.48138</c:v>
                </c:pt>
                <c:pt idx="120">
                  <c:v>0.47866</c:v>
                </c:pt>
                <c:pt idx="121">
                  <c:v>0.47598</c:v>
                </c:pt>
                <c:pt idx="122">
                  <c:v>0.47333</c:v>
                </c:pt>
                <c:pt idx="123">
                  <c:v>0.46944</c:v>
                </c:pt>
                <c:pt idx="124">
                  <c:v>0.46574</c:v>
                </c:pt>
                <c:pt idx="125">
                  <c:v>0.46349</c:v>
                </c:pt>
                <c:pt idx="126">
                  <c:v>0.45999</c:v>
                </c:pt>
                <c:pt idx="127">
                  <c:v>0.45667</c:v>
                </c:pt>
                <c:pt idx="128">
                  <c:v>0.45339</c:v>
                </c:pt>
                <c:pt idx="129">
                  <c:v>0.45027</c:v>
                </c:pt>
                <c:pt idx="130">
                  <c:v>0.44728</c:v>
                </c:pt>
                <c:pt idx="131">
                  <c:v>0.4444</c:v>
                </c:pt>
                <c:pt idx="132">
                  <c:v>0.44159</c:v>
                </c:pt>
                <c:pt idx="133">
                  <c:v>0.43794</c:v>
                </c:pt>
                <c:pt idx="134">
                  <c:v>0.43531</c:v>
                </c:pt>
                <c:pt idx="135">
                  <c:v>0.43279</c:v>
                </c:pt>
                <c:pt idx="136">
                  <c:v>0.42954</c:v>
                </c:pt>
                <c:pt idx="137">
                  <c:v>0.42558</c:v>
                </c:pt>
                <c:pt idx="138">
                  <c:v>0.42251</c:v>
                </c:pt>
                <c:pt idx="139">
                  <c:v>0.41417</c:v>
                </c:pt>
                <c:pt idx="141">
                  <c:v>0.41933</c:v>
                </c:pt>
                <c:pt idx="142">
                  <c:v>0.41426</c:v>
                </c:pt>
                <c:pt idx="143">
                  <c:v>0.41175</c:v>
                </c:pt>
                <c:pt idx="144">
                  <c:v>0.40917</c:v>
                </c:pt>
                <c:pt idx="145">
                  <c:v>0.39966</c:v>
                </c:pt>
                <c:pt idx="146">
                  <c:v>0.3962</c:v>
                </c:pt>
                <c:pt idx="147">
                  <c:v>0.3917</c:v>
                </c:pt>
                <c:pt idx="148">
                  <c:v>0.38647</c:v>
                </c:pt>
                <c:pt idx="149">
                  <c:v>0.38662</c:v>
                </c:pt>
                <c:pt idx="150">
                  <c:v>0.38269</c:v>
                </c:pt>
                <c:pt idx="151">
                  <c:v>0.37579</c:v>
                </c:pt>
                <c:pt idx="152">
                  <c:v>0.37399</c:v>
                </c:pt>
                <c:pt idx="153">
                  <c:v>0.37175</c:v>
                </c:pt>
                <c:pt idx="154">
                  <c:v>0.37089</c:v>
                </c:pt>
                <c:pt idx="155">
                  <c:v>0.37323</c:v>
                </c:pt>
              </c:numCache>
            </c:numRef>
          </c:yVal>
          <c:smooth val="0"/>
        </c:ser>
        <c:ser>
          <c:idx val="4"/>
          <c:order val="4"/>
          <c:tx>
            <c:strRef>
              <c:f>label 5</c:f>
              <c:strCache>
                <c:ptCount val="1"/>
                <c:pt idx="0">
                  <c:v>Spalte M</c:v>
                </c:pt>
              </c:strCache>
            </c:strRef>
          </c:tx>
          <c:spPr>
            <a:solidFill>
              <a:srgbClr val="800080"/>
            </a:solidFill>
            <a:ln w="12600">
              <a:solidFill>
                <a:srgbClr val="800080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5</c:f>
              <c:numCache>
                <c:formatCode>General</c:formatCode>
                <c:ptCount val="171"/>
                <c:pt idx="16">
                  <c:v>0.29401</c:v>
                </c:pt>
                <c:pt idx="19">
                  <c:v>0.30564</c:v>
                </c:pt>
                <c:pt idx="20">
                  <c:v>0.31525</c:v>
                </c:pt>
                <c:pt idx="21">
                  <c:v>0.32728</c:v>
                </c:pt>
                <c:pt idx="22">
                  <c:v>0.33306</c:v>
                </c:pt>
                <c:pt idx="23">
                  <c:v>0.34049</c:v>
                </c:pt>
                <c:pt idx="24">
                  <c:v>0.34876</c:v>
                </c:pt>
                <c:pt idx="25">
                  <c:v>0.35176</c:v>
                </c:pt>
                <c:pt idx="26">
                  <c:v>0.35762</c:v>
                </c:pt>
                <c:pt idx="28">
                  <c:v>0.36583</c:v>
                </c:pt>
                <c:pt idx="29">
                  <c:v>0.37275</c:v>
                </c:pt>
                <c:pt idx="30">
                  <c:v>0.3675</c:v>
                </c:pt>
                <c:pt idx="31">
                  <c:v>0.38271</c:v>
                </c:pt>
                <c:pt idx="32">
                  <c:v>0.39123</c:v>
                </c:pt>
                <c:pt idx="33">
                  <c:v>0.39785</c:v>
                </c:pt>
                <c:pt idx="34">
                  <c:v>0.40054</c:v>
                </c:pt>
                <c:pt idx="35">
                  <c:v>0.41435</c:v>
                </c:pt>
                <c:pt idx="36">
                  <c:v>0.41143</c:v>
                </c:pt>
                <c:pt idx="37">
                  <c:v>0.42764</c:v>
                </c:pt>
                <c:pt idx="39">
                  <c:v>0.44609</c:v>
                </c:pt>
                <c:pt idx="41">
                  <c:v>0.4627</c:v>
                </c:pt>
                <c:pt idx="42">
                  <c:v>0.46597</c:v>
                </c:pt>
                <c:pt idx="43">
                  <c:v>0.47839</c:v>
                </c:pt>
                <c:pt idx="44">
                  <c:v>0.48627</c:v>
                </c:pt>
                <c:pt idx="45">
                  <c:v>0.49677</c:v>
                </c:pt>
                <c:pt idx="46">
                  <c:v>0.50611</c:v>
                </c:pt>
                <c:pt idx="47">
                  <c:v>0.50789</c:v>
                </c:pt>
                <c:pt idx="48">
                  <c:v>0.52759</c:v>
                </c:pt>
                <c:pt idx="49">
                  <c:v>0.53008</c:v>
                </c:pt>
                <c:pt idx="51">
                  <c:v>0.55744</c:v>
                </c:pt>
                <c:pt idx="52">
                  <c:v>0.56271</c:v>
                </c:pt>
                <c:pt idx="53">
                  <c:v>0.57874</c:v>
                </c:pt>
                <c:pt idx="54">
                  <c:v>0.58466</c:v>
                </c:pt>
                <c:pt idx="55">
                  <c:v>0.5909</c:v>
                </c:pt>
                <c:pt idx="56">
                  <c:v>0.59791</c:v>
                </c:pt>
                <c:pt idx="57">
                  <c:v>0.60609</c:v>
                </c:pt>
                <c:pt idx="58">
                  <c:v>0.61238</c:v>
                </c:pt>
                <c:pt idx="59">
                  <c:v>0.61942</c:v>
                </c:pt>
                <c:pt idx="60">
                  <c:v>0.6284</c:v>
                </c:pt>
                <c:pt idx="61">
                  <c:v>0.65566</c:v>
                </c:pt>
                <c:pt idx="63">
                  <c:v>0.67726</c:v>
                </c:pt>
                <c:pt idx="64">
                  <c:v>0.68827</c:v>
                </c:pt>
                <c:pt idx="65">
                  <c:v>0.68302</c:v>
                </c:pt>
                <c:pt idx="66">
                  <c:v>0.70954</c:v>
                </c:pt>
                <c:pt idx="67">
                  <c:v>0.71602</c:v>
                </c:pt>
                <c:pt idx="68">
                  <c:v>0.71572</c:v>
                </c:pt>
                <c:pt idx="69">
                  <c:v>0.70429</c:v>
                </c:pt>
                <c:pt idx="70">
                  <c:v>0.7025</c:v>
                </c:pt>
                <c:pt idx="71">
                  <c:v>0.69523</c:v>
                </c:pt>
                <c:pt idx="72">
                  <c:v>0.69167</c:v>
                </c:pt>
                <c:pt idx="73">
                  <c:v>0.68264</c:v>
                </c:pt>
                <c:pt idx="74">
                  <c:v>0.67964</c:v>
                </c:pt>
                <c:pt idx="75">
                  <c:v>0.66921</c:v>
                </c:pt>
                <c:pt idx="77">
                  <c:v>0.67102</c:v>
                </c:pt>
                <c:pt idx="78">
                  <c:v>0.66921</c:v>
                </c:pt>
                <c:pt idx="79">
                  <c:v>0.67063</c:v>
                </c:pt>
                <c:pt idx="80">
                  <c:v>0.665</c:v>
                </c:pt>
                <c:pt idx="81">
                  <c:v>0.65939</c:v>
                </c:pt>
                <c:pt idx="82">
                  <c:v>0.65124</c:v>
                </c:pt>
                <c:pt idx="83">
                  <c:v>0.63388</c:v>
                </c:pt>
                <c:pt idx="84">
                  <c:v>0.62192</c:v>
                </c:pt>
                <c:pt idx="97">
                  <c:v>0.60695</c:v>
                </c:pt>
                <c:pt idx="98">
                  <c:v>0.57349</c:v>
                </c:pt>
                <c:pt idx="99">
                  <c:v>0.56185</c:v>
                </c:pt>
                <c:pt idx="100">
                  <c:v>0.55672</c:v>
                </c:pt>
                <c:pt idx="101">
                  <c:v>0.55292</c:v>
                </c:pt>
                <c:pt idx="102">
                  <c:v>0.55106</c:v>
                </c:pt>
                <c:pt idx="103">
                  <c:v>0.54946</c:v>
                </c:pt>
                <c:pt idx="104">
                  <c:v>0.5484</c:v>
                </c:pt>
                <c:pt idx="105">
                  <c:v>0.54755</c:v>
                </c:pt>
                <c:pt idx="106">
                  <c:v>0.54495</c:v>
                </c:pt>
                <c:pt idx="107">
                  <c:v>0.54021</c:v>
                </c:pt>
                <c:pt idx="108">
                  <c:v>0.53158</c:v>
                </c:pt>
                <c:pt idx="109">
                  <c:v>0.53007</c:v>
                </c:pt>
                <c:pt idx="110">
                  <c:v>0.527</c:v>
                </c:pt>
                <c:pt idx="111">
                  <c:v>0.52467</c:v>
                </c:pt>
                <c:pt idx="112">
                  <c:v>0.51991</c:v>
                </c:pt>
                <c:pt idx="113">
                  <c:v>0.51516</c:v>
                </c:pt>
                <c:pt idx="114">
                  <c:v>0.51195</c:v>
                </c:pt>
                <c:pt idx="115">
                  <c:v>0.50848</c:v>
                </c:pt>
                <c:pt idx="116">
                  <c:v>0.50474</c:v>
                </c:pt>
                <c:pt idx="119">
                  <c:v>0.49639</c:v>
                </c:pt>
                <c:pt idx="120">
                  <c:v>0.49814</c:v>
                </c:pt>
                <c:pt idx="121">
                  <c:v>0.50095</c:v>
                </c:pt>
                <c:pt idx="122">
                  <c:v>0.49754</c:v>
                </c:pt>
                <c:pt idx="123">
                  <c:v>0.48888</c:v>
                </c:pt>
                <c:pt idx="125">
                  <c:v>0.47636</c:v>
                </c:pt>
                <c:pt idx="126">
                  <c:v>0.46821</c:v>
                </c:pt>
                <c:pt idx="127">
                  <c:v>0.45627</c:v>
                </c:pt>
                <c:pt idx="128">
                  <c:v>0.45832</c:v>
                </c:pt>
                <c:pt idx="129">
                  <c:v>0.44783</c:v>
                </c:pt>
                <c:pt idx="130">
                  <c:v>0.44049</c:v>
                </c:pt>
                <c:pt idx="131">
                  <c:v>0.43974</c:v>
                </c:pt>
                <c:pt idx="132">
                  <c:v>0.44013</c:v>
                </c:pt>
                <c:pt idx="133">
                  <c:v>0.43106</c:v>
                </c:pt>
                <c:pt idx="135">
                  <c:v>0.42516</c:v>
                </c:pt>
                <c:pt idx="137">
                  <c:v>0.42334</c:v>
                </c:pt>
                <c:pt idx="138">
                  <c:v>0.41006</c:v>
                </c:pt>
                <c:pt idx="139">
                  <c:v>0.40938</c:v>
                </c:pt>
                <c:pt idx="140">
                  <c:v>0.40646</c:v>
                </c:pt>
                <c:pt idx="141">
                  <c:v>0.40479</c:v>
                </c:pt>
                <c:pt idx="142">
                  <c:v>0.39897</c:v>
                </c:pt>
                <c:pt idx="143">
                  <c:v>0.39403</c:v>
                </c:pt>
                <c:pt idx="144">
                  <c:v>0.39311</c:v>
                </c:pt>
                <c:pt idx="145">
                  <c:v>0.39003</c:v>
                </c:pt>
                <c:pt idx="146">
                  <c:v>0.38601</c:v>
                </c:pt>
                <c:pt idx="147">
                  <c:v>0.38298</c:v>
                </c:pt>
                <c:pt idx="148">
                  <c:v>0.37937</c:v>
                </c:pt>
                <c:pt idx="149">
                  <c:v>0.37462</c:v>
                </c:pt>
                <c:pt idx="150">
                  <c:v>0.37226</c:v>
                </c:pt>
                <c:pt idx="151">
                  <c:v>0.36807</c:v>
                </c:pt>
                <c:pt idx="152">
                  <c:v>0.36685</c:v>
                </c:pt>
                <c:pt idx="153">
                  <c:v>0.36189</c:v>
                </c:pt>
                <c:pt idx="154">
                  <c:v>0.35802</c:v>
                </c:pt>
                <c:pt idx="155">
                  <c:v>0.35484</c:v>
                </c:pt>
                <c:pt idx="156">
                  <c:v>0.35422</c:v>
                </c:pt>
                <c:pt idx="157">
                  <c:v>0.35349</c:v>
                </c:pt>
              </c:numCache>
            </c:numRef>
          </c:yVal>
          <c:smooth val="0"/>
        </c:ser>
        <c:ser>
          <c:idx val="5"/>
          <c:order val="5"/>
          <c:tx>
            <c:strRef>
              <c:f>label 6</c:f>
              <c:strCache>
                <c:ptCount val="1"/>
                <c:pt idx="0">
                  <c:v>Spalte O</c:v>
                </c:pt>
              </c:strCache>
            </c:strRef>
          </c:tx>
          <c:spPr>
            <a:solidFill>
              <a:srgbClr val="800000"/>
            </a:solidFill>
            <a:ln w="21600">
              <a:solidFill>
                <a:srgbClr val="800000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6</c:f>
              <c:numCache>
                <c:formatCode>General</c:formatCode>
                <c:ptCount val="171"/>
                <c:pt idx="13">
                  <c:v>0.24632</c:v>
                </c:pt>
                <c:pt idx="14">
                  <c:v>0.2642</c:v>
                </c:pt>
                <c:pt idx="15">
                  <c:v>0.290795</c:v>
                </c:pt>
                <c:pt idx="16">
                  <c:v>0.30285</c:v>
                </c:pt>
                <c:pt idx="17">
                  <c:v>0.31558</c:v>
                </c:pt>
                <c:pt idx="18">
                  <c:v>0.33603</c:v>
                </c:pt>
                <c:pt idx="19">
                  <c:v>0.34752</c:v>
                </c:pt>
                <c:pt idx="20">
                  <c:v>0.35754</c:v>
                </c:pt>
                <c:pt idx="21">
                  <c:v>0.36736</c:v>
                </c:pt>
                <c:pt idx="22">
                  <c:v>0.37542</c:v>
                </c:pt>
                <c:pt idx="23">
                  <c:v>0.3828</c:v>
                </c:pt>
                <c:pt idx="24">
                  <c:v>0.38993</c:v>
                </c:pt>
                <c:pt idx="25">
                  <c:v>0.39709</c:v>
                </c:pt>
                <c:pt idx="26">
                  <c:v>0.41</c:v>
                </c:pt>
                <c:pt idx="27">
                  <c:v>0.42331</c:v>
                </c:pt>
                <c:pt idx="28">
                  <c:v>0.43127</c:v>
                </c:pt>
                <c:pt idx="29">
                  <c:v>0.44089</c:v>
                </c:pt>
                <c:pt idx="30">
                  <c:v>0.44869</c:v>
                </c:pt>
                <c:pt idx="31">
                  <c:v>0.45832</c:v>
                </c:pt>
                <c:pt idx="32">
                  <c:v>0.46694</c:v>
                </c:pt>
                <c:pt idx="33">
                  <c:v>0.47796</c:v>
                </c:pt>
                <c:pt idx="35">
                  <c:v>0.49396</c:v>
                </c:pt>
                <c:pt idx="37">
                  <c:v>0.50936</c:v>
                </c:pt>
                <c:pt idx="38">
                  <c:v>0.52194</c:v>
                </c:pt>
                <c:pt idx="39">
                  <c:v>0.52852</c:v>
                </c:pt>
                <c:pt idx="40">
                  <c:v>0.5367</c:v>
                </c:pt>
                <c:pt idx="42">
                  <c:v>0.54846</c:v>
                </c:pt>
                <c:pt idx="43">
                  <c:v>0.55931</c:v>
                </c:pt>
                <c:pt idx="44">
                  <c:v>0.56678</c:v>
                </c:pt>
                <c:pt idx="45">
                  <c:v>0.57474</c:v>
                </c:pt>
                <c:pt idx="47">
                  <c:v>0.58731</c:v>
                </c:pt>
                <c:pt idx="48">
                  <c:v>0.60141</c:v>
                </c:pt>
                <c:pt idx="49">
                  <c:v>0.61214</c:v>
                </c:pt>
                <c:pt idx="50">
                  <c:v>0.61856</c:v>
                </c:pt>
                <c:pt idx="51">
                  <c:v>0.6265</c:v>
                </c:pt>
                <c:pt idx="52">
                  <c:v>0.6318</c:v>
                </c:pt>
                <c:pt idx="53">
                  <c:v>0.64106</c:v>
                </c:pt>
                <c:pt idx="54">
                  <c:v>0.64527</c:v>
                </c:pt>
                <c:pt idx="55">
                  <c:v>0.65466</c:v>
                </c:pt>
                <c:pt idx="56">
                  <c:v>0.66354</c:v>
                </c:pt>
                <c:pt idx="57">
                  <c:v>0.67002</c:v>
                </c:pt>
                <c:pt idx="58">
                  <c:v>0.68536</c:v>
                </c:pt>
                <c:pt idx="59">
                  <c:v>0.70076</c:v>
                </c:pt>
                <c:pt idx="60">
                  <c:v>0.7093</c:v>
                </c:pt>
                <c:pt idx="61">
                  <c:v>0.72022</c:v>
                </c:pt>
                <c:pt idx="62">
                  <c:v>0.72875</c:v>
                </c:pt>
                <c:pt idx="63">
                  <c:v>0.74075</c:v>
                </c:pt>
                <c:pt idx="64">
                  <c:v>0.74718</c:v>
                </c:pt>
                <c:pt idx="65">
                  <c:v>0.75122</c:v>
                </c:pt>
                <c:pt idx="66">
                  <c:v>0.75348</c:v>
                </c:pt>
                <c:pt idx="67">
                  <c:v>0.75169</c:v>
                </c:pt>
                <c:pt idx="68">
                  <c:v>0.7496</c:v>
                </c:pt>
                <c:pt idx="69">
                  <c:v>0.74592</c:v>
                </c:pt>
                <c:pt idx="70">
                  <c:v>0.74228</c:v>
                </c:pt>
                <c:pt idx="71">
                  <c:v>0.74553</c:v>
                </c:pt>
                <c:pt idx="72">
                  <c:v>0.76545</c:v>
                </c:pt>
                <c:pt idx="73">
                  <c:v>0.77067</c:v>
                </c:pt>
                <c:pt idx="74">
                  <c:v>0.77628</c:v>
                </c:pt>
                <c:pt idx="75">
                  <c:v>0.78056</c:v>
                </c:pt>
                <c:pt idx="76">
                  <c:v>0.78036</c:v>
                </c:pt>
                <c:pt idx="77">
                  <c:v>0.78893</c:v>
                </c:pt>
                <c:pt idx="78">
                  <c:v>0.78833</c:v>
                </c:pt>
                <c:pt idx="79">
                  <c:v>0.78502</c:v>
                </c:pt>
                <c:pt idx="80">
                  <c:v>0.77465</c:v>
                </c:pt>
                <c:pt idx="102">
                  <c:v>0.69083</c:v>
                </c:pt>
                <c:pt idx="103">
                  <c:v>0.64018</c:v>
                </c:pt>
                <c:pt idx="104">
                  <c:v>0.61574</c:v>
                </c:pt>
                <c:pt idx="105">
                  <c:v>0.58922</c:v>
                </c:pt>
                <c:pt idx="106">
                  <c:v>0.57534</c:v>
                </c:pt>
                <c:pt idx="108">
                  <c:v>0.562</c:v>
                </c:pt>
                <c:pt idx="109">
                  <c:v>0.54718</c:v>
                </c:pt>
                <c:pt idx="110">
                  <c:v>0.53902</c:v>
                </c:pt>
                <c:pt idx="111">
                  <c:v>0.5317</c:v>
                </c:pt>
                <c:pt idx="112">
                  <c:v>0.52461</c:v>
                </c:pt>
                <c:pt idx="114">
                  <c:v>0.51288</c:v>
                </c:pt>
                <c:pt idx="116">
                  <c:v>0.50234</c:v>
                </c:pt>
                <c:pt idx="117">
                  <c:v>0.49698</c:v>
                </c:pt>
                <c:pt idx="118">
                  <c:v>0.4922</c:v>
                </c:pt>
                <c:pt idx="120">
                  <c:v>0.48485</c:v>
                </c:pt>
                <c:pt idx="121">
                  <c:v>0.4749</c:v>
                </c:pt>
                <c:pt idx="122">
                  <c:v>0.4639</c:v>
                </c:pt>
                <c:pt idx="124">
                  <c:v>0.46111</c:v>
                </c:pt>
                <c:pt idx="125">
                  <c:v>0.45408</c:v>
                </c:pt>
                <c:pt idx="126">
                  <c:v>0.44862</c:v>
                </c:pt>
                <c:pt idx="127">
                  <c:v>0.44391</c:v>
                </c:pt>
                <c:pt idx="129">
                  <c:v>0.4388</c:v>
                </c:pt>
                <c:pt idx="130">
                  <c:v>0.43203</c:v>
                </c:pt>
                <c:pt idx="132">
                  <c:v>0.42738</c:v>
                </c:pt>
                <c:pt idx="134">
                  <c:v>0.41864</c:v>
                </c:pt>
                <c:pt idx="135">
                  <c:v>0.41544</c:v>
                </c:pt>
                <c:pt idx="136">
                  <c:v>0.41012</c:v>
                </c:pt>
                <c:pt idx="138">
                  <c:v>0.40553</c:v>
                </c:pt>
                <c:pt idx="139">
                  <c:v>0.40281</c:v>
                </c:pt>
                <c:pt idx="140">
                  <c:v>0.39942</c:v>
                </c:pt>
                <c:pt idx="141">
                  <c:v>0.39478</c:v>
                </c:pt>
                <c:pt idx="142">
                  <c:v>0.39047</c:v>
                </c:pt>
                <c:pt idx="143">
                  <c:v>0.38568</c:v>
                </c:pt>
                <c:pt idx="144">
                  <c:v>0.38302</c:v>
                </c:pt>
                <c:pt idx="145">
                  <c:v>0.3815</c:v>
                </c:pt>
                <c:pt idx="146">
                  <c:v>0.37788</c:v>
                </c:pt>
                <c:pt idx="147">
                  <c:v>0.37604</c:v>
                </c:pt>
                <c:pt idx="148">
                  <c:v>0.3722</c:v>
                </c:pt>
                <c:pt idx="149">
                  <c:v>0.36869</c:v>
                </c:pt>
                <c:pt idx="150">
                  <c:v>0.3638</c:v>
                </c:pt>
                <c:pt idx="151">
                  <c:v>0.36033</c:v>
                </c:pt>
                <c:pt idx="152">
                  <c:v>0.35893</c:v>
                </c:pt>
                <c:pt idx="153">
                  <c:v>0.35369</c:v>
                </c:pt>
                <c:pt idx="154">
                  <c:v>0.35296</c:v>
                </c:pt>
                <c:pt idx="155">
                  <c:v>0.34968</c:v>
                </c:pt>
                <c:pt idx="156">
                  <c:v>0.34728</c:v>
                </c:pt>
              </c:numCache>
            </c:numRef>
          </c:yVal>
          <c:smooth val="0"/>
        </c:ser>
        <c:ser>
          <c:idx val="6"/>
          <c:order val="6"/>
          <c:tx>
            <c:strRef>
              <c:f>label 7</c:f>
              <c:strCache>
                <c:ptCount val="1"/>
                <c:pt idx="0">
                  <c:v>Spalte Q</c:v>
                </c:pt>
              </c:strCache>
            </c:strRef>
          </c:tx>
          <c:spPr>
            <a:solidFill>
              <a:srgbClr val="008080"/>
            </a:solidFill>
            <a:ln w="21600">
              <a:solidFill>
                <a:srgbClr val="008080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7</c:f>
              <c:numCache>
                <c:formatCode>General</c:formatCode>
                <c:ptCount val="171"/>
                <c:pt idx="14">
                  <c:v>0.25441</c:v>
                </c:pt>
                <c:pt idx="15">
                  <c:v>0.26395</c:v>
                </c:pt>
                <c:pt idx="16">
                  <c:v>0.28251</c:v>
                </c:pt>
                <c:pt idx="17">
                  <c:v>0.29329</c:v>
                </c:pt>
                <c:pt idx="18">
                  <c:v>0.30499</c:v>
                </c:pt>
                <c:pt idx="19">
                  <c:v>0.31493</c:v>
                </c:pt>
                <c:pt idx="20">
                  <c:v>0.32533</c:v>
                </c:pt>
                <c:pt idx="21">
                  <c:v>0.32962</c:v>
                </c:pt>
                <c:pt idx="22">
                  <c:v>0.33511</c:v>
                </c:pt>
                <c:pt idx="24">
                  <c:v>0.34543</c:v>
                </c:pt>
                <c:pt idx="26">
                  <c:v>0.35535</c:v>
                </c:pt>
                <c:pt idx="27">
                  <c:v>0.3634</c:v>
                </c:pt>
                <c:pt idx="28">
                  <c:v>0.36902</c:v>
                </c:pt>
                <c:pt idx="29">
                  <c:v>0.37217</c:v>
                </c:pt>
                <c:pt idx="30">
                  <c:v>0.37668</c:v>
                </c:pt>
                <c:pt idx="31">
                  <c:v>0.37935</c:v>
                </c:pt>
                <c:pt idx="32">
                  <c:v>0.38443</c:v>
                </c:pt>
                <c:pt idx="33">
                  <c:v>0.39526</c:v>
                </c:pt>
                <c:pt idx="34">
                  <c:v>0.40873</c:v>
                </c:pt>
                <c:pt idx="35">
                  <c:v>0.4182</c:v>
                </c:pt>
                <c:pt idx="36">
                  <c:v>0.42567</c:v>
                </c:pt>
                <c:pt idx="37">
                  <c:v>0.42496</c:v>
                </c:pt>
                <c:pt idx="38">
                  <c:v>0.44157</c:v>
                </c:pt>
                <c:pt idx="39">
                  <c:v>0.44932</c:v>
                </c:pt>
                <c:pt idx="41">
                  <c:v>0.46392</c:v>
                </c:pt>
                <c:pt idx="42">
                  <c:v>0.4712</c:v>
                </c:pt>
                <c:pt idx="43">
                  <c:v>0.48548</c:v>
                </c:pt>
                <c:pt idx="44">
                  <c:v>0.48754</c:v>
                </c:pt>
                <c:pt idx="45">
                  <c:v>0.5037</c:v>
                </c:pt>
                <c:pt idx="47">
                  <c:v>0.52102</c:v>
                </c:pt>
                <c:pt idx="48">
                  <c:v>0.53208</c:v>
                </c:pt>
                <c:pt idx="49">
                  <c:v>0.53311</c:v>
                </c:pt>
                <c:pt idx="50">
                  <c:v>0.54283</c:v>
                </c:pt>
                <c:pt idx="51">
                  <c:v>0.54959</c:v>
                </c:pt>
                <c:pt idx="53">
                  <c:v>0.56115</c:v>
                </c:pt>
                <c:pt idx="54">
                  <c:v>0.56572</c:v>
                </c:pt>
                <c:pt idx="55">
                  <c:v>0.57375</c:v>
                </c:pt>
                <c:pt idx="56">
                  <c:v>0.58478</c:v>
                </c:pt>
                <c:pt idx="57">
                  <c:v>0.59226</c:v>
                </c:pt>
                <c:pt idx="58">
                  <c:v>0.59606</c:v>
                </c:pt>
                <c:pt idx="59">
                  <c:v>0.6057</c:v>
                </c:pt>
                <c:pt idx="60">
                  <c:v>0.61239</c:v>
                </c:pt>
                <c:pt idx="61">
                  <c:v>0.62431</c:v>
                </c:pt>
                <c:pt idx="62">
                  <c:v>0.63739</c:v>
                </c:pt>
                <c:pt idx="63">
                  <c:v>0.64986</c:v>
                </c:pt>
                <c:pt idx="64">
                  <c:v>0.65717</c:v>
                </c:pt>
                <c:pt idx="65">
                  <c:v>0.66374</c:v>
                </c:pt>
                <c:pt idx="66">
                  <c:v>0.6699</c:v>
                </c:pt>
                <c:pt idx="67">
                  <c:v>0.67264</c:v>
                </c:pt>
                <c:pt idx="68">
                  <c:v>0.66813</c:v>
                </c:pt>
                <c:pt idx="69">
                  <c:v>0.66428</c:v>
                </c:pt>
                <c:pt idx="70">
                  <c:v>0.66143</c:v>
                </c:pt>
                <c:pt idx="71">
                  <c:v>0.65623</c:v>
                </c:pt>
                <c:pt idx="72">
                  <c:v>0.65458</c:v>
                </c:pt>
                <c:pt idx="73">
                  <c:v>0.65502</c:v>
                </c:pt>
                <c:pt idx="74">
                  <c:v>0.65216</c:v>
                </c:pt>
                <c:pt idx="75">
                  <c:v>0.64854</c:v>
                </c:pt>
                <c:pt idx="76">
                  <c:v>0.64371</c:v>
                </c:pt>
                <c:pt idx="77">
                  <c:v>0.63594</c:v>
                </c:pt>
                <c:pt idx="78">
                  <c:v>0.6324</c:v>
                </c:pt>
                <c:pt idx="79">
                  <c:v>0.62057</c:v>
                </c:pt>
                <c:pt idx="102">
                  <c:v>0.58</c:v>
                </c:pt>
                <c:pt idx="103">
                  <c:v>0.56715</c:v>
                </c:pt>
                <c:pt idx="104">
                  <c:v>0.55696</c:v>
                </c:pt>
                <c:pt idx="105">
                  <c:v>0.55145</c:v>
                </c:pt>
                <c:pt idx="106">
                  <c:v>0.54028</c:v>
                </c:pt>
                <c:pt idx="107">
                  <c:v>0.53975</c:v>
                </c:pt>
                <c:pt idx="108">
                  <c:v>0.53396</c:v>
                </c:pt>
                <c:pt idx="109">
                  <c:v>0.52997</c:v>
                </c:pt>
                <c:pt idx="110">
                  <c:v>0.52671</c:v>
                </c:pt>
                <c:pt idx="112">
                  <c:v>0.51816</c:v>
                </c:pt>
                <c:pt idx="113">
                  <c:v>0.51574</c:v>
                </c:pt>
                <c:pt idx="114">
                  <c:v>0.51154</c:v>
                </c:pt>
                <c:pt idx="116">
                  <c:v>0.50829</c:v>
                </c:pt>
                <c:pt idx="117">
                  <c:v>0.50427</c:v>
                </c:pt>
                <c:pt idx="118">
                  <c:v>0.49955</c:v>
                </c:pt>
                <c:pt idx="119">
                  <c:v>0.49475</c:v>
                </c:pt>
                <c:pt idx="120">
                  <c:v>0.49002</c:v>
                </c:pt>
                <c:pt idx="121">
                  <c:v>0.48811</c:v>
                </c:pt>
                <c:pt idx="122">
                  <c:v>0.48188</c:v>
                </c:pt>
                <c:pt idx="123">
                  <c:v>0.47461</c:v>
                </c:pt>
                <c:pt idx="124">
                  <c:v>0.47355</c:v>
                </c:pt>
                <c:pt idx="125">
                  <c:v>0.46926</c:v>
                </c:pt>
                <c:pt idx="126">
                  <c:v>0.46531</c:v>
                </c:pt>
                <c:pt idx="127">
                  <c:v>0.46033</c:v>
                </c:pt>
                <c:pt idx="129">
                  <c:v>0.45002</c:v>
                </c:pt>
                <c:pt idx="130">
                  <c:v>0.44398</c:v>
                </c:pt>
                <c:pt idx="131">
                  <c:v>0.44158</c:v>
                </c:pt>
                <c:pt idx="132">
                  <c:v>0.43649</c:v>
                </c:pt>
                <c:pt idx="133">
                  <c:v>0.42854</c:v>
                </c:pt>
                <c:pt idx="134">
                  <c:v>0.42236</c:v>
                </c:pt>
                <c:pt idx="135">
                  <c:v>0.41835</c:v>
                </c:pt>
                <c:pt idx="136">
                  <c:v>0.4132</c:v>
                </c:pt>
                <c:pt idx="137">
                  <c:v>0.4056</c:v>
                </c:pt>
                <c:pt idx="138">
                  <c:v>0.40202</c:v>
                </c:pt>
                <c:pt idx="140">
                  <c:v>0.39736</c:v>
                </c:pt>
                <c:pt idx="141">
                  <c:v>0.39191</c:v>
                </c:pt>
                <c:pt idx="142">
                  <c:v>0.38944</c:v>
                </c:pt>
                <c:pt idx="143">
                  <c:v>0.3837</c:v>
                </c:pt>
                <c:pt idx="144">
                  <c:v>0.37939</c:v>
                </c:pt>
                <c:pt idx="145">
                  <c:v>0.37564</c:v>
                </c:pt>
                <c:pt idx="146">
                  <c:v>0.37246</c:v>
                </c:pt>
                <c:pt idx="147">
                  <c:v>0.36793</c:v>
                </c:pt>
                <c:pt idx="148">
                  <c:v>0.36418</c:v>
                </c:pt>
                <c:pt idx="149">
                  <c:v>0.3612</c:v>
                </c:pt>
                <c:pt idx="150">
                  <c:v>0.35753</c:v>
                </c:pt>
                <c:pt idx="151">
                  <c:v>0.35265</c:v>
                </c:pt>
                <c:pt idx="152">
                  <c:v>0.34963</c:v>
                </c:pt>
                <c:pt idx="153">
                  <c:v>0.34742</c:v>
                </c:pt>
                <c:pt idx="154">
                  <c:v>0.34391</c:v>
                </c:pt>
                <c:pt idx="155">
                  <c:v>0.34013</c:v>
                </c:pt>
                <c:pt idx="156">
                  <c:v>0.33794</c:v>
                </c:pt>
              </c:numCache>
            </c:numRef>
          </c:yVal>
          <c:smooth val="0"/>
        </c:ser>
        <c:ser>
          <c:idx val="7"/>
          <c:order val="7"/>
          <c:tx>
            <c:strRef>
              <c:f>label 8</c:f>
              <c:strCache>
                <c:ptCount val="1"/>
                <c:pt idx="0">
                  <c:v>Spalte S</c:v>
                </c:pt>
              </c:strCache>
            </c:strRef>
          </c:tx>
          <c:spPr>
            <a:solidFill>
              <a:srgbClr val="0000ff"/>
            </a:solidFill>
            <a:ln w="2160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8</c:f>
              <c:numCache>
                <c:formatCode>General</c:formatCode>
                <c:ptCount val="171"/>
                <c:pt idx="16">
                  <c:v>0.34196</c:v>
                </c:pt>
                <c:pt idx="17">
                  <c:v>0.35247</c:v>
                </c:pt>
                <c:pt idx="18">
                  <c:v>0.36525</c:v>
                </c:pt>
                <c:pt idx="19">
                  <c:v>0.38104</c:v>
                </c:pt>
                <c:pt idx="20">
                  <c:v>0.392</c:v>
                </c:pt>
                <c:pt idx="21">
                  <c:v>0.39878</c:v>
                </c:pt>
                <c:pt idx="22">
                  <c:v>0.40976</c:v>
                </c:pt>
                <c:pt idx="23">
                  <c:v>0.41882</c:v>
                </c:pt>
                <c:pt idx="24">
                  <c:v>0.43192</c:v>
                </c:pt>
                <c:pt idx="25">
                  <c:v>0.4418</c:v>
                </c:pt>
                <c:pt idx="26">
                  <c:v>0.4497</c:v>
                </c:pt>
                <c:pt idx="27">
                  <c:v>0.46433</c:v>
                </c:pt>
                <c:pt idx="28">
                  <c:v>0.46527</c:v>
                </c:pt>
                <c:pt idx="29">
                  <c:v>0.48446</c:v>
                </c:pt>
                <c:pt idx="30">
                  <c:v>0.50108</c:v>
                </c:pt>
                <c:pt idx="31">
                  <c:v>0.50753</c:v>
                </c:pt>
                <c:pt idx="32">
                  <c:v>0.51723</c:v>
                </c:pt>
                <c:pt idx="33">
                  <c:v>0.52872</c:v>
                </c:pt>
                <c:pt idx="34">
                  <c:v>0.54357</c:v>
                </c:pt>
                <c:pt idx="36">
                  <c:v>0.55899</c:v>
                </c:pt>
                <c:pt idx="37">
                  <c:v>0.57517</c:v>
                </c:pt>
                <c:pt idx="38">
                  <c:v>0.57949</c:v>
                </c:pt>
                <c:pt idx="39">
                  <c:v>0.58746</c:v>
                </c:pt>
                <c:pt idx="40">
                  <c:v>0.59632</c:v>
                </c:pt>
                <c:pt idx="41">
                  <c:v>0.60129</c:v>
                </c:pt>
                <c:pt idx="42">
                  <c:v>0.60503</c:v>
                </c:pt>
                <c:pt idx="43">
                  <c:v>0.6171</c:v>
                </c:pt>
                <c:pt idx="44">
                  <c:v>0.6388</c:v>
                </c:pt>
                <c:pt idx="45">
                  <c:v>0.64759</c:v>
                </c:pt>
                <c:pt idx="46">
                  <c:v>0.6499</c:v>
                </c:pt>
                <c:pt idx="47">
                  <c:v>0.65678</c:v>
                </c:pt>
                <c:pt idx="48">
                  <c:v>0.6619</c:v>
                </c:pt>
                <c:pt idx="49">
                  <c:v>0.67045</c:v>
                </c:pt>
                <c:pt idx="50">
                  <c:v>0.67657</c:v>
                </c:pt>
                <c:pt idx="51">
                  <c:v>0.68602</c:v>
                </c:pt>
                <c:pt idx="52">
                  <c:v>0.69024</c:v>
                </c:pt>
                <c:pt idx="53">
                  <c:v>0.69694</c:v>
                </c:pt>
                <c:pt idx="54">
                  <c:v>0.70358</c:v>
                </c:pt>
                <c:pt idx="55">
                  <c:v>0.72846</c:v>
                </c:pt>
                <c:pt idx="56">
                  <c:v>0.73775</c:v>
                </c:pt>
                <c:pt idx="57">
                  <c:v>0.76022</c:v>
                </c:pt>
                <c:pt idx="58">
                  <c:v>0.77113</c:v>
                </c:pt>
                <c:pt idx="59">
                  <c:v>0.77884</c:v>
                </c:pt>
                <c:pt idx="60">
                  <c:v>0.78433</c:v>
                </c:pt>
                <c:pt idx="61">
                  <c:v>0.80625</c:v>
                </c:pt>
                <c:pt idx="62">
                  <c:v>0.81903</c:v>
                </c:pt>
                <c:pt idx="63">
                  <c:v>0.82705</c:v>
                </c:pt>
                <c:pt idx="64">
                  <c:v>0.83339</c:v>
                </c:pt>
                <c:pt idx="65">
                  <c:v>0.84414</c:v>
                </c:pt>
                <c:pt idx="66">
                  <c:v>0.84933</c:v>
                </c:pt>
                <c:pt idx="67">
                  <c:v>0.85887</c:v>
                </c:pt>
                <c:pt idx="68">
                  <c:v>0.86405</c:v>
                </c:pt>
                <c:pt idx="69">
                  <c:v>0.86219</c:v>
                </c:pt>
                <c:pt idx="70">
                  <c:v>0.86984</c:v>
                </c:pt>
                <c:pt idx="71">
                  <c:v>0.88056</c:v>
                </c:pt>
                <c:pt idx="72">
                  <c:v>0.88328</c:v>
                </c:pt>
                <c:pt idx="73">
                  <c:v>0.88793</c:v>
                </c:pt>
                <c:pt idx="74">
                  <c:v>0.89431</c:v>
                </c:pt>
                <c:pt idx="75">
                  <c:v>0.89508</c:v>
                </c:pt>
                <c:pt idx="76">
                  <c:v>0.88782</c:v>
                </c:pt>
                <c:pt idx="77">
                  <c:v>0.8804</c:v>
                </c:pt>
                <c:pt idx="78">
                  <c:v>0.86861</c:v>
                </c:pt>
                <c:pt idx="79">
                  <c:v>0.8495</c:v>
                </c:pt>
                <c:pt idx="80">
                  <c:v>0.83162</c:v>
                </c:pt>
                <c:pt idx="81">
                  <c:v>0.81261</c:v>
                </c:pt>
                <c:pt idx="82">
                  <c:v>0.79254</c:v>
                </c:pt>
                <c:pt idx="83">
                  <c:v>0.74506</c:v>
                </c:pt>
                <c:pt idx="96">
                  <c:v>0.67782</c:v>
                </c:pt>
                <c:pt idx="97">
                  <c:v>0.66501</c:v>
                </c:pt>
                <c:pt idx="98">
                  <c:v>0.64896</c:v>
                </c:pt>
                <c:pt idx="99">
                  <c:v>0.64448</c:v>
                </c:pt>
                <c:pt idx="100">
                  <c:v>0.63818</c:v>
                </c:pt>
                <c:pt idx="101">
                  <c:v>0.62624</c:v>
                </c:pt>
                <c:pt idx="102">
                  <c:v>0.61708</c:v>
                </c:pt>
                <c:pt idx="103">
                  <c:v>0.61377</c:v>
                </c:pt>
                <c:pt idx="105">
                  <c:v>0.60244</c:v>
                </c:pt>
                <c:pt idx="106">
                  <c:v>0.59808</c:v>
                </c:pt>
                <c:pt idx="108">
                  <c:v>0.58984</c:v>
                </c:pt>
                <c:pt idx="109">
                  <c:v>0.58264</c:v>
                </c:pt>
                <c:pt idx="110">
                  <c:v>0.58101</c:v>
                </c:pt>
                <c:pt idx="111">
                  <c:v>0.57455</c:v>
                </c:pt>
                <c:pt idx="112">
                  <c:v>0.57096</c:v>
                </c:pt>
                <c:pt idx="113">
                  <c:v>0.56727</c:v>
                </c:pt>
                <c:pt idx="114">
                  <c:v>0.56639</c:v>
                </c:pt>
                <c:pt idx="115">
                  <c:v>0.55918</c:v>
                </c:pt>
                <c:pt idx="116">
                  <c:v>0.55475</c:v>
                </c:pt>
                <c:pt idx="118">
                  <c:v>0.54835</c:v>
                </c:pt>
                <c:pt idx="119">
                  <c:v>0.54201</c:v>
                </c:pt>
                <c:pt idx="120">
                  <c:v>0.53758</c:v>
                </c:pt>
                <c:pt idx="121">
                  <c:v>0.53312</c:v>
                </c:pt>
                <c:pt idx="122">
                  <c:v>0.529</c:v>
                </c:pt>
                <c:pt idx="123">
                  <c:v>0.52098</c:v>
                </c:pt>
                <c:pt idx="124">
                  <c:v>0.51498</c:v>
                </c:pt>
                <c:pt idx="126">
                  <c:v>0.50917</c:v>
                </c:pt>
                <c:pt idx="127">
                  <c:v>0.4994</c:v>
                </c:pt>
                <c:pt idx="128">
                  <c:v>0.49289</c:v>
                </c:pt>
                <c:pt idx="130">
                  <c:v>0.48624</c:v>
                </c:pt>
                <c:pt idx="131">
                  <c:v>0.47845</c:v>
                </c:pt>
                <c:pt idx="132">
                  <c:v>0.47061</c:v>
                </c:pt>
                <c:pt idx="133">
                  <c:v>0.46628</c:v>
                </c:pt>
                <c:pt idx="134">
                  <c:v>0.46156</c:v>
                </c:pt>
                <c:pt idx="136">
                  <c:v>0.4562</c:v>
                </c:pt>
                <c:pt idx="137">
                  <c:v>0.45036</c:v>
                </c:pt>
                <c:pt idx="138">
                  <c:v>0.44569</c:v>
                </c:pt>
                <c:pt idx="139">
                  <c:v>0.4413</c:v>
                </c:pt>
                <c:pt idx="140">
                  <c:v>0.43846</c:v>
                </c:pt>
                <c:pt idx="141">
                  <c:v>0.43446</c:v>
                </c:pt>
                <c:pt idx="142">
                  <c:v>0.42984</c:v>
                </c:pt>
                <c:pt idx="143">
                  <c:v>0.42607</c:v>
                </c:pt>
                <c:pt idx="144">
                  <c:v>0.42212</c:v>
                </c:pt>
                <c:pt idx="145">
                  <c:v>0.41676</c:v>
                </c:pt>
                <c:pt idx="146">
                  <c:v>0.41258</c:v>
                </c:pt>
                <c:pt idx="147">
                  <c:v>0.4085</c:v>
                </c:pt>
                <c:pt idx="148">
                  <c:v>0.40466</c:v>
                </c:pt>
                <c:pt idx="149">
                  <c:v>0.40121</c:v>
                </c:pt>
                <c:pt idx="150">
                  <c:v>0.39722</c:v>
                </c:pt>
                <c:pt idx="151">
                  <c:v>0.39328</c:v>
                </c:pt>
                <c:pt idx="152">
                  <c:v>0.38951</c:v>
                </c:pt>
                <c:pt idx="153">
                  <c:v>0.38595</c:v>
                </c:pt>
                <c:pt idx="154">
                  <c:v>0.38242</c:v>
                </c:pt>
                <c:pt idx="155">
                  <c:v>0.37914</c:v>
                </c:pt>
                <c:pt idx="156">
                  <c:v>0.37736</c:v>
                </c:pt>
              </c:numCache>
            </c:numRef>
          </c:yVal>
          <c:smooth val="0"/>
        </c:ser>
        <c:ser>
          <c:idx val="8"/>
          <c:order val="8"/>
          <c:tx>
            <c:strRef>
              <c:f>label 9</c:f>
              <c:strCache>
                <c:ptCount val="1"/>
                <c:pt idx="0">
                  <c:v>Spalte U</c:v>
                </c:pt>
              </c:strCache>
            </c:strRef>
          </c:tx>
          <c:spPr>
            <a:solidFill>
              <a:srgbClr val="00ccff"/>
            </a:solidFill>
            <a:ln w="21600">
              <a:solidFill>
                <a:srgbClr val="00ccff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9</c:f>
              <c:numCache>
                <c:formatCode>General</c:formatCode>
                <c:ptCount val="171"/>
                <c:pt idx="3">
                  <c:v>0.27128</c:v>
                </c:pt>
                <c:pt idx="4">
                  <c:v>0.27489</c:v>
                </c:pt>
                <c:pt idx="5">
                  <c:v>0.28211</c:v>
                </c:pt>
                <c:pt idx="6">
                  <c:v>0.29331</c:v>
                </c:pt>
                <c:pt idx="7">
                  <c:v>0.30724</c:v>
                </c:pt>
                <c:pt idx="8">
                  <c:v>0.32141</c:v>
                </c:pt>
                <c:pt idx="9">
                  <c:v>0.33557</c:v>
                </c:pt>
                <c:pt idx="10">
                  <c:v>0.34861</c:v>
                </c:pt>
                <c:pt idx="11">
                  <c:v>0.36018</c:v>
                </c:pt>
                <c:pt idx="12">
                  <c:v>0.3746</c:v>
                </c:pt>
                <c:pt idx="13">
                  <c:v>0.39638</c:v>
                </c:pt>
                <c:pt idx="14">
                  <c:v>0.41292</c:v>
                </c:pt>
                <c:pt idx="16">
                  <c:v>0.43199</c:v>
                </c:pt>
                <c:pt idx="17">
                  <c:v>0.44175</c:v>
                </c:pt>
                <c:pt idx="18">
                  <c:v>0.45758</c:v>
                </c:pt>
                <c:pt idx="19">
                  <c:v>0.46977</c:v>
                </c:pt>
                <c:pt idx="20">
                  <c:v>0.47646</c:v>
                </c:pt>
                <c:pt idx="22">
                  <c:v>0.49258</c:v>
                </c:pt>
                <c:pt idx="24">
                  <c:v>0.50698</c:v>
                </c:pt>
                <c:pt idx="25">
                  <c:v>0.51358</c:v>
                </c:pt>
                <c:pt idx="26">
                  <c:v>0.52888</c:v>
                </c:pt>
                <c:pt idx="28">
                  <c:v>0.54881</c:v>
                </c:pt>
                <c:pt idx="30">
                  <c:v>0.56982</c:v>
                </c:pt>
                <c:pt idx="32">
                  <c:v>0.58315</c:v>
                </c:pt>
                <c:pt idx="33">
                  <c:v>0.59287</c:v>
                </c:pt>
                <c:pt idx="34">
                  <c:v>0.60052</c:v>
                </c:pt>
                <c:pt idx="35">
                  <c:v>0.61084</c:v>
                </c:pt>
                <c:pt idx="37">
                  <c:v>0.62266</c:v>
                </c:pt>
                <c:pt idx="39">
                  <c:v>0.63204</c:v>
                </c:pt>
                <c:pt idx="40">
                  <c:v>0.6418</c:v>
                </c:pt>
                <c:pt idx="41">
                  <c:v>0.65514</c:v>
                </c:pt>
                <c:pt idx="42">
                  <c:v>0.662</c:v>
                </c:pt>
                <c:pt idx="43">
                  <c:v>0.6743</c:v>
                </c:pt>
                <c:pt idx="44">
                  <c:v>0.68045</c:v>
                </c:pt>
                <c:pt idx="45">
                  <c:v>0.68389</c:v>
                </c:pt>
                <c:pt idx="47">
                  <c:v>0.69357</c:v>
                </c:pt>
                <c:pt idx="48">
                  <c:v>0.70285</c:v>
                </c:pt>
                <c:pt idx="50">
                  <c:v>0.71624</c:v>
                </c:pt>
                <c:pt idx="51">
                  <c:v>0.7258</c:v>
                </c:pt>
                <c:pt idx="52">
                  <c:v>0.72872</c:v>
                </c:pt>
                <c:pt idx="53">
                  <c:v>0.7387</c:v>
                </c:pt>
                <c:pt idx="54">
                  <c:v>0.74878</c:v>
                </c:pt>
                <c:pt idx="55">
                  <c:v>0.75606</c:v>
                </c:pt>
                <c:pt idx="56">
                  <c:v>0.76856</c:v>
                </c:pt>
                <c:pt idx="57">
                  <c:v>0.7734</c:v>
                </c:pt>
                <c:pt idx="58">
                  <c:v>0.78254</c:v>
                </c:pt>
                <c:pt idx="59">
                  <c:v>0.79751</c:v>
                </c:pt>
                <c:pt idx="60">
                  <c:v>0.81263</c:v>
                </c:pt>
                <c:pt idx="61">
                  <c:v>0.83503</c:v>
                </c:pt>
                <c:pt idx="62">
                  <c:v>0.83785</c:v>
                </c:pt>
                <c:pt idx="63">
                  <c:v>0.86586</c:v>
                </c:pt>
                <c:pt idx="64">
                  <c:v>0.87529</c:v>
                </c:pt>
                <c:pt idx="65">
                  <c:v>0.87974</c:v>
                </c:pt>
                <c:pt idx="66">
                  <c:v>0.88824</c:v>
                </c:pt>
                <c:pt idx="67">
                  <c:v>0.90541</c:v>
                </c:pt>
                <c:pt idx="68">
                  <c:v>0.90567</c:v>
                </c:pt>
                <c:pt idx="69">
                  <c:v>0.90567</c:v>
                </c:pt>
                <c:pt idx="70">
                  <c:v>0.91016</c:v>
                </c:pt>
                <c:pt idx="71">
                  <c:v>0.90863</c:v>
                </c:pt>
                <c:pt idx="72">
                  <c:v>0.91754</c:v>
                </c:pt>
                <c:pt idx="73">
                  <c:v>0.91249</c:v>
                </c:pt>
                <c:pt idx="74">
                  <c:v>0.90394</c:v>
                </c:pt>
                <c:pt idx="75">
                  <c:v>0.90534</c:v>
                </c:pt>
                <c:pt idx="76">
                  <c:v>0.89646</c:v>
                </c:pt>
                <c:pt idx="77">
                  <c:v>0.89443</c:v>
                </c:pt>
                <c:pt idx="78">
                  <c:v>0.8772</c:v>
                </c:pt>
                <c:pt idx="79">
                  <c:v>0.86568</c:v>
                </c:pt>
                <c:pt idx="80">
                  <c:v>0.86042</c:v>
                </c:pt>
                <c:pt idx="81">
                  <c:v>0.84679</c:v>
                </c:pt>
                <c:pt idx="82">
                  <c:v>0.83501</c:v>
                </c:pt>
                <c:pt idx="83">
                  <c:v>0.82415</c:v>
                </c:pt>
                <c:pt idx="84">
                  <c:v>0.79432</c:v>
                </c:pt>
                <c:pt idx="85">
                  <c:v>0.7281</c:v>
                </c:pt>
                <c:pt idx="98">
                  <c:v>0.58913</c:v>
                </c:pt>
                <c:pt idx="99">
                  <c:v>0.58928</c:v>
                </c:pt>
                <c:pt idx="100">
                  <c:v>0.58343</c:v>
                </c:pt>
                <c:pt idx="101">
                  <c:v>0.56979</c:v>
                </c:pt>
                <c:pt idx="102">
                  <c:v>0.55719</c:v>
                </c:pt>
                <c:pt idx="103">
                  <c:v>0.54999</c:v>
                </c:pt>
                <c:pt idx="104">
                  <c:v>0.5382</c:v>
                </c:pt>
                <c:pt idx="105">
                  <c:v>0.52677</c:v>
                </c:pt>
                <c:pt idx="106">
                  <c:v>0.51727</c:v>
                </c:pt>
                <c:pt idx="108">
                  <c:v>0.504</c:v>
                </c:pt>
                <c:pt idx="109">
                  <c:v>0.49723</c:v>
                </c:pt>
                <c:pt idx="110">
                  <c:v>0.48782</c:v>
                </c:pt>
                <c:pt idx="112">
                  <c:v>0.48152</c:v>
                </c:pt>
                <c:pt idx="113">
                  <c:v>0.47434</c:v>
                </c:pt>
                <c:pt idx="114">
                  <c:v>0.46734</c:v>
                </c:pt>
                <c:pt idx="115">
                  <c:v>0.46351</c:v>
                </c:pt>
                <c:pt idx="116">
                  <c:v>0.45615</c:v>
                </c:pt>
                <c:pt idx="118">
                  <c:v>0.45278</c:v>
                </c:pt>
                <c:pt idx="119">
                  <c:v>0.44591</c:v>
                </c:pt>
                <c:pt idx="120">
                  <c:v>0.44054</c:v>
                </c:pt>
                <c:pt idx="121">
                  <c:v>0.43528</c:v>
                </c:pt>
                <c:pt idx="122">
                  <c:v>0.43004</c:v>
                </c:pt>
                <c:pt idx="123">
                  <c:v>0.42411</c:v>
                </c:pt>
                <c:pt idx="125">
                  <c:v>0.41991</c:v>
                </c:pt>
                <c:pt idx="126">
                  <c:v>0.41365</c:v>
                </c:pt>
                <c:pt idx="127">
                  <c:v>0.41035</c:v>
                </c:pt>
                <c:pt idx="128">
                  <c:v>0.40498</c:v>
                </c:pt>
                <c:pt idx="129">
                  <c:v>0.40009</c:v>
                </c:pt>
                <c:pt idx="131">
                  <c:v>0.39421</c:v>
                </c:pt>
                <c:pt idx="133">
                  <c:v>0.38584</c:v>
                </c:pt>
                <c:pt idx="134">
                  <c:v>0.38192</c:v>
                </c:pt>
                <c:pt idx="136">
                  <c:v>0.37709</c:v>
                </c:pt>
                <c:pt idx="137">
                  <c:v>0.37259</c:v>
                </c:pt>
                <c:pt idx="139">
                  <c:v>0.36931</c:v>
                </c:pt>
                <c:pt idx="140">
                  <c:v>0.36538</c:v>
                </c:pt>
                <c:pt idx="141">
                  <c:v>0.36315</c:v>
                </c:pt>
                <c:pt idx="142">
                  <c:v>0.35981</c:v>
                </c:pt>
                <c:pt idx="143">
                  <c:v>0.35676</c:v>
                </c:pt>
                <c:pt idx="144">
                  <c:v>0.35286</c:v>
                </c:pt>
                <c:pt idx="145">
                  <c:v>0.35073</c:v>
                </c:pt>
                <c:pt idx="146">
                  <c:v>0.34787</c:v>
                </c:pt>
                <c:pt idx="147">
                  <c:v>0.34583</c:v>
                </c:pt>
                <c:pt idx="148">
                  <c:v>0.34175</c:v>
                </c:pt>
                <c:pt idx="149">
                  <c:v>0.33933</c:v>
                </c:pt>
                <c:pt idx="150">
                  <c:v>0.33711</c:v>
                </c:pt>
                <c:pt idx="151">
                  <c:v>0.33598</c:v>
                </c:pt>
                <c:pt idx="152">
                  <c:v>0.33312</c:v>
                </c:pt>
                <c:pt idx="153">
                  <c:v>0.32979</c:v>
                </c:pt>
                <c:pt idx="154">
                  <c:v>0.32936</c:v>
                </c:pt>
                <c:pt idx="155">
                  <c:v>0.32706</c:v>
                </c:pt>
                <c:pt idx="156">
                  <c:v>0.32409</c:v>
                </c:pt>
                <c:pt idx="157">
                  <c:v>0.32098</c:v>
                </c:pt>
                <c:pt idx="158">
                  <c:v>0.31908</c:v>
                </c:pt>
                <c:pt idx="159">
                  <c:v>0.31745</c:v>
                </c:pt>
                <c:pt idx="160">
                  <c:v>0.31645</c:v>
                </c:pt>
                <c:pt idx="161">
                  <c:v>0.31332</c:v>
                </c:pt>
                <c:pt idx="162">
                  <c:v>0.31293</c:v>
                </c:pt>
              </c:numCache>
            </c:numRef>
          </c:yVal>
          <c:smooth val="0"/>
        </c:ser>
        <c:ser>
          <c:idx val="9"/>
          <c:order val="9"/>
          <c:tx>
            <c:strRef>
              <c:f>label 10</c:f>
              <c:strCache>
                <c:ptCount val="1"/>
                <c:pt idx="0">
                  <c:v>Spalte W</c:v>
                </c:pt>
              </c:strCache>
            </c:strRef>
          </c:tx>
          <c:spPr>
            <a:solidFill>
              <a:srgbClr val="ccffff"/>
            </a:solidFill>
            <a:ln w="21600">
              <a:solidFill>
                <a:srgbClr val="ccffff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10</c:f>
              <c:numCache>
                <c:formatCode>General</c:formatCode>
                <c:ptCount val="171"/>
                <c:pt idx="0">
                  <c:v>0.23456</c:v>
                </c:pt>
                <c:pt idx="1">
                  <c:v>0.23313</c:v>
                </c:pt>
                <c:pt idx="2">
                  <c:v>0.23832</c:v>
                </c:pt>
                <c:pt idx="3">
                  <c:v>0.2462</c:v>
                </c:pt>
                <c:pt idx="4">
                  <c:v>0.25832</c:v>
                </c:pt>
                <c:pt idx="5">
                  <c:v>0.2704</c:v>
                </c:pt>
                <c:pt idx="6">
                  <c:v>0.2851</c:v>
                </c:pt>
                <c:pt idx="7">
                  <c:v>0.2998</c:v>
                </c:pt>
                <c:pt idx="8">
                  <c:v>0.30949</c:v>
                </c:pt>
                <c:pt idx="9">
                  <c:v>0.32048</c:v>
                </c:pt>
                <c:pt idx="10">
                  <c:v>0.33076</c:v>
                </c:pt>
                <c:pt idx="11">
                  <c:v>0.33884</c:v>
                </c:pt>
                <c:pt idx="12">
                  <c:v>0.34616</c:v>
                </c:pt>
                <c:pt idx="13">
                  <c:v>0.35436</c:v>
                </c:pt>
                <c:pt idx="14">
                  <c:v>0.36373</c:v>
                </c:pt>
                <c:pt idx="15">
                  <c:v>0.37325</c:v>
                </c:pt>
                <c:pt idx="16">
                  <c:v>0.38218</c:v>
                </c:pt>
                <c:pt idx="17">
                  <c:v>0.38974</c:v>
                </c:pt>
                <c:pt idx="18">
                  <c:v>0.39682</c:v>
                </c:pt>
                <c:pt idx="19">
                  <c:v>0.40327</c:v>
                </c:pt>
                <c:pt idx="20">
                  <c:v>0.41137</c:v>
                </c:pt>
                <c:pt idx="21">
                  <c:v>0.41827</c:v>
                </c:pt>
                <c:pt idx="22">
                  <c:v>0.42757</c:v>
                </c:pt>
                <c:pt idx="23">
                  <c:v>0.4348</c:v>
                </c:pt>
                <c:pt idx="24">
                  <c:v>0.44326</c:v>
                </c:pt>
                <c:pt idx="25">
                  <c:v>0.45206</c:v>
                </c:pt>
                <c:pt idx="26">
                  <c:v>0.46074</c:v>
                </c:pt>
                <c:pt idx="28">
                  <c:v>0.47004</c:v>
                </c:pt>
                <c:pt idx="29">
                  <c:v>0.47903</c:v>
                </c:pt>
                <c:pt idx="30">
                  <c:v>0.4882</c:v>
                </c:pt>
                <c:pt idx="31">
                  <c:v>0.49778</c:v>
                </c:pt>
                <c:pt idx="32">
                  <c:v>0.50681</c:v>
                </c:pt>
                <c:pt idx="33">
                  <c:v>0.51685</c:v>
                </c:pt>
                <c:pt idx="34">
                  <c:v>0.5305</c:v>
                </c:pt>
                <c:pt idx="35">
                  <c:v>0.55094</c:v>
                </c:pt>
                <c:pt idx="36">
                  <c:v>0.56733</c:v>
                </c:pt>
                <c:pt idx="37">
                  <c:v>0.57758</c:v>
                </c:pt>
                <c:pt idx="38">
                  <c:v>0.58781</c:v>
                </c:pt>
                <c:pt idx="39">
                  <c:v>0.59872</c:v>
                </c:pt>
                <c:pt idx="40">
                  <c:v>0.60885</c:v>
                </c:pt>
                <c:pt idx="41">
                  <c:v>0.61864</c:v>
                </c:pt>
                <c:pt idx="42">
                  <c:v>0.62838</c:v>
                </c:pt>
                <c:pt idx="43">
                  <c:v>0.64505</c:v>
                </c:pt>
                <c:pt idx="44">
                  <c:v>0.66139</c:v>
                </c:pt>
                <c:pt idx="45">
                  <c:v>0.6738</c:v>
                </c:pt>
                <c:pt idx="46">
                  <c:v>0.68901</c:v>
                </c:pt>
                <c:pt idx="47">
                  <c:v>0.70517</c:v>
                </c:pt>
                <c:pt idx="48">
                  <c:v>0.72144</c:v>
                </c:pt>
                <c:pt idx="49">
                  <c:v>0.73478</c:v>
                </c:pt>
                <c:pt idx="50">
                  <c:v>0.73315</c:v>
                </c:pt>
                <c:pt idx="52">
                  <c:v>0.73483</c:v>
                </c:pt>
                <c:pt idx="54">
                  <c:v>0.74381</c:v>
                </c:pt>
                <c:pt idx="55">
                  <c:v>0.75529</c:v>
                </c:pt>
                <c:pt idx="56">
                  <c:v>0.7618</c:v>
                </c:pt>
                <c:pt idx="57">
                  <c:v>0.77091</c:v>
                </c:pt>
                <c:pt idx="58">
                  <c:v>0.79325</c:v>
                </c:pt>
                <c:pt idx="59">
                  <c:v>0.80626</c:v>
                </c:pt>
                <c:pt idx="60">
                  <c:v>0.83175</c:v>
                </c:pt>
                <c:pt idx="61">
                  <c:v>0.84139</c:v>
                </c:pt>
                <c:pt idx="62">
                  <c:v>0.85562</c:v>
                </c:pt>
                <c:pt idx="63">
                  <c:v>0.88257</c:v>
                </c:pt>
                <c:pt idx="64">
                  <c:v>0.89416</c:v>
                </c:pt>
                <c:pt idx="65">
                  <c:v>0.899</c:v>
                </c:pt>
                <c:pt idx="66">
                  <c:v>0.90425</c:v>
                </c:pt>
                <c:pt idx="67">
                  <c:v>0.90258</c:v>
                </c:pt>
                <c:pt idx="68">
                  <c:v>0.89856</c:v>
                </c:pt>
                <c:pt idx="69">
                  <c:v>0.89702</c:v>
                </c:pt>
                <c:pt idx="70">
                  <c:v>0.89919</c:v>
                </c:pt>
                <c:pt idx="71">
                  <c:v>0.90919</c:v>
                </c:pt>
                <c:pt idx="72">
                  <c:v>0.89916</c:v>
                </c:pt>
                <c:pt idx="73">
                  <c:v>0.89204</c:v>
                </c:pt>
                <c:pt idx="74">
                  <c:v>0.88255</c:v>
                </c:pt>
                <c:pt idx="75">
                  <c:v>0.87044</c:v>
                </c:pt>
                <c:pt idx="76">
                  <c:v>0.83301</c:v>
                </c:pt>
                <c:pt idx="77">
                  <c:v>0.81644</c:v>
                </c:pt>
                <c:pt idx="78">
                  <c:v>0.7949</c:v>
                </c:pt>
                <c:pt idx="79">
                  <c:v>0.7768</c:v>
                </c:pt>
                <c:pt idx="80">
                  <c:v>0.76334</c:v>
                </c:pt>
                <c:pt idx="101">
                  <c:v>0.6912</c:v>
                </c:pt>
                <c:pt idx="102">
                  <c:v>0.66245</c:v>
                </c:pt>
                <c:pt idx="103">
                  <c:v>0.64754</c:v>
                </c:pt>
                <c:pt idx="104">
                  <c:v>0.62658</c:v>
                </c:pt>
                <c:pt idx="105">
                  <c:v>0.5986</c:v>
                </c:pt>
                <c:pt idx="106">
                  <c:v>0.59059</c:v>
                </c:pt>
                <c:pt idx="107">
                  <c:v>0.58889</c:v>
                </c:pt>
                <c:pt idx="108">
                  <c:v>0.58318</c:v>
                </c:pt>
                <c:pt idx="109">
                  <c:v>0.57906</c:v>
                </c:pt>
                <c:pt idx="111">
                  <c:v>0.57179</c:v>
                </c:pt>
                <c:pt idx="112">
                  <c:v>0.56388</c:v>
                </c:pt>
                <c:pt idx="113">
                  <c:v>0.55858</c:v>
                </c:pt>
                <c:pt idx="115">
                  <c:v>0.55075</c:v>
                </c:pt>
                <c:pt idx="116">
                  <c:v>0.54247</c:v>
                </c:pt>
                <c:pt idx="118">
                  <c:v>0.53792</c:v>
                </c:pt>
                <c:pt idx="119">
                  <c:v>0.5338</c:v>
                </c:pt>
                <c:pt idx="120">
                  <c:v>0.52896</c:v>
                </c:pt>
                <c:pt idx="121">
                  <c:v>0.52405</c:v>
                </c:pt>
                <c:pt idx="122">
                  <c:v>0.51936</c:v>
                </c:pt>
                <c:pt idx="123">
                  <c:v>0.51543</c:v>
                </c:pt>
                <c:pt idx="124">
                  <c:v>0.51057</c:v>
                </c:pt>
                <c:pt idx="125">
                  <c:v>0.50624</c:v>
                </c:pt>
                <c:pt idx="126">
                  <c:v>0.50241</c:v>
                </c:pt>
                <c:pt idx="127">
                  <c:v>0.49764</c:v>
                </c:pt>
                <c:pt idx="128">
                  <c:v>0.49364</c:v>
                </c:pt>
                <c:pt idx="129">
                  <c:v>0.48891</c:v>
                </c:pt>
                <c:pt idx="130">
                  <c:v>0.48638</c:v>
                </c:pt>
                <c:pt idx="131">
                  <c:v>0.48189</c:v>
                </c:pt>
                <c:pt idx="133">
                  <c:v>0.47552</c:v>
                </c:pt>
                <c:pt idx="134">
                  <c:v>0.47162</c:v>
                </c:pt>
                <c:pt idx="135">
                  <c:v>0.46861</c:v>
                </c:pt>
                <c:pt idx="136">
                  <c:v>0.46406</c:v>
                </c:pt>
                <c:pt idx="137">
                  <c:v>0.46004</c:v>
                </c:pt>
                <c:pt idx="138">
                  <c:v>0.45761</c:v>
                </c:pt>
                <c:pt idx="139">
                  <c:v>0.45544</c:v>
                </c:pt>
                <c:pt idx="140">
                  <c:v>0.45186</c:v>
                </c:pt>
                <c:pt idx="141">
                  <c:v>0.44754</c:v>
                </c:pt>
                <c:pt idx="142">
                  <c:v>0.44406</c:v>
                </c:pt>
                <c:pt idx="143">
                  <c:v>0.44144</c:v>
                </c:pt>
                <c:pt idx="144">
                  <c:v>0.43754</c:v>
                </c:pt>
                <c:pt idx="145">
                  <c:v>0.43336</c:v>
                </c:pt>
                <c:pt idx="146">
                  <c:v>0.42976</c:v>
                </c:pt>
                <c:pt idx="147">
                  <c:v>0.42592</c:v>
                </c:pt>
                <c:pt idx="148">
                  <c:v>0.42282</c:v>
                </c:pt>
                <c:pt idx="149">
                  <c:v>0.42011</c:v>
                </c:pt>
                <c:pt idx="150">
                  <c:v>0.41679</c:v>
                </c:pt>
                <c:pt idx="151">
                  <c:v>0.41406</c:v>
                </c:pt>
                <c:pt idx="152">
                  <c:v>0.41111</c:v>
                </c:pt>
                <c:pt idx="153">
                  <c:v>0.40929</c:v>
                </c:pt>
                <c:pt idx="154">
                  <c:v>0.40567</c:v>
                </c:pt>
                <c:pt idx="155">
                  <c:v>0.40205</c:v>
                </c:pt>
                <c:pt idx="156">
                  <c:v>0.39972</c:v>
                </c:pt>
                <c:pt idx="157">
                  <c:v>0.39717</c:v>
                </c:pt>
              </c:numCache>
            </c:numRef>
          </c:yVal>
          <c:smooth val="0"/>
        </c:ser>
        <c:ser>
          <c:idx val="10"/>
          <c:order val="10"/>
          <c:tx>
            <c:strRef>
              <c:f>label 11</c:f>
              <c:strCache>
                <c:ptCount val="1"/>
                <c:pt idx="0">
                  <c:v>Spalte Y</c:v>
                </c:pt>
              </c:strCache>
            </c:strRef>
          </c:tx>
          <c:spPr>
            <a:solidFill>
              <a:srgbClr val="ccffcc"/>
            </a:solidFill>
            <a:ln w="21600">
              <a:solidFill>
                <a:srgbClr val="ccffcc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11</c:f>
              <c:numCache>
                <c:formatCode>General</c:formatCode>
                <c:ptCount val="171"/>
                <c:pt idx="18">
                  <c:v>0.36018</c:v>
                </c:pt>
                <c:pt idx="19">
                  <c:v>0.37251</c:v>
                </c:pt>
                <c:pt idx="20">
                  <c:v>0.40865</c:v>
                </c:pt>
                <c:pt idx="21">
                  <c:v>0.4297</c:v>
                </c:pt>
                <c:pt idx="22">
                  <c:v>0.44596</c:v>
                </c:pt>
                <c:pt idx="23">
                  <c:v>0.46405</c:v>
                </c:pt>
                <c:pt idx="24">
                  <c:v>0.48028</c:v>
                </c:pt>
                <c:pt idx="25">
                  <c:v>0.49509</c:v>
                </c:pt>
                <c:pt idx="26">
                  <c:v>0.50903</c:v>
                </c:pt>
                <c:pt idx="27">
                  <c:v>0.5209</c:v>
                </c:pt>
                <c:pt idx="29">
                  <c:v>0.53402</c:v>
                </c:pt>
                <c:pt idx="30">
                  <c:v>0.55324</c:v>
                </c:pt>
                <c:pt idx="31">
                  <c:v>0.56925</c:v>
                </c:pt>
                <c:pt idx="32">
                  <c:v>0.58072</c:v>
                </c:pt>
                <c:pt idx="33">
                  <c:v>0.59309</c:v>
                </c:pt>
                <c:pt idx="34">
                  <c:v>0.60136</c:v>
                </c:pt>
                <c:pt idx="35">
                  <c:v>0.60988</c:v>
                </c:pt>
                <c:pt idx="36">
                  <c:v>0.62824</c:v>
                </c:pt>
                <c:pt idx="37">
                  <c:v>0.63958</c:v>
                </c:pt>
                <c:pt idx="38">
                  <c:v>0.65125</c:v>
                </c:pt>
                <c:pt idx="39">
                  <c:v>0.65751</c:v>
                </c:pt>
                <c:pt idx="40">
                  <c:v>0.66253</c:v>
                </c:pt>
                <c:pt idx="41">
                  <c:v>0.66951</c:v>
                </c:pt>
                <c:pt idx="42">
                  <c:v>0.67796</c:v>
                </c:pt>
                <c:pt idx="43">
                  <c:v>0.67957</c:v>
                </c:pt>
                <c:pt idx="44">
                  <c:v>0.68586</c:v>
                </c:pt>
                <c:pt idx="45">
                  <c:v>0.69282</c:v>
                </c:pt>
                <c:pt idx="46">
                  <c:v>0.69776</c:v>
                </c:pt>
                <c:pt idx="47">
                  <c:v>0.69949</c:v>
                </c:pt>
                <c:pt idx="48">
                  <c:v>0.71185</c:v>
                </c:pt>
                <c:pt idx="49">
                  <c:v>0.71998</c:v>
                </c:pt>
                <c:pt idx="50">
                  <c:v>0.72187</c:v>
                </c:pt>
                <c:pt idx="51">
                  <c:v>0.72411</c:v>
                </c:pt>
                <c:pt idx="52">
                  <c:v>0.72868</c:v>
                </c:pt>
                <c:pt idx="53">
                  <c:v>0.73282</c:v>
                </c:pt>
                <c:pt idx="54">
                  <c:v>0.73432</c:v>
                </c:pt>
                <c:pt idx="55">
                  <c:v>0.74484</c:v>
                </c:pt>
                <c:pt idx="56">
                  <c:v>0.74828</c:v>
                </c:pt>
                <c:pt idx="57">
                  <c:v>0.7492</c:v>
                </c:pt>
                <c:pt idx="58">
                  <c:v>0.7501</c:v>
                </c:pt>
                <c:pt idx="59">
                  <c:v>0.75336</c:v>
                </c:pt>
                <c:pt idx="60">
                  <c:v>0.74867</c:v>
                </c:pt>
                <c:pt idx="61">
                  <c:v>0.73811</c:v>
                </c:pt>
                <c:pt idx="62">
                  <c:v>0.72583</c:v>
                </c:pt>
                <c:pt idx="63">
                  <c:v>0.71074</c:v>
                </c:pt>
                <c:pt idx="64">
                  <c:v>0.70092</c:v>
                </c:pt>
                <c:pt idx="65">
                  <c:v>0.68706</c:v>
                </c:pt>
                <c:pt idx="66">
                  <c:v>0.66888</c:v>
                </c:pt>
                <c:pt idx="67">
                  <c:v>0.6507</c:v>
                </c:pt>
                <c:pt idx="68">
                  <c:v>0.64274</c:v>
                </c:pt>
                <c:pt idx="69">
                  <c:v>0.63598</c:v>
                </c:pt>
                <c:pt idx="70">
                  <c:v>0.63109</c:v>
                </c:pt>
                <c:pt idx="71">
                  <c:v>0.62105</c:v>
                </c:pt>
                <c:pt idx="72">
                  <c:v>0.6093</c:v>
                </c:pt>
                <c:pt idx="73">
                  <c:v>0.59936</c:v>
                </c:pt>
                <c:pt idx="74">
                  <c:v>0.58969</c:v>
                </c:pt>
                <c:pt idx="75">
                  <c:v>0.58395</c:v>
                </c:pt>
                <c:pt idx="76">
                  <c:v>0.57057</c:v>
                </c:pt>
                <c:pt idx="77">
                  <c:v>0.55741</c:v>
                </c:pt>
                <c:pt idx="78">
                  <c:v>0.55063</c:v>
                </c:pt>
                <c:pt idx="79">
                  <c:v>0.54475</c:v>
                </c:pt>
                <c:pt idx="80">
                  <c:v>0.54187</c:v>
                </c:pt>
                <c:pt idx="81">
                  <c:v>0.53653</c:v>
                </c:pt>
                <c:pt idx="100">
                  <c:v>0.53411</c:v>
                </c:pt>
                <c:pt idx="101">
                  <c:v>0.53451</c:v>
                </c:pt>
                <c:pt idx="102">
                  <c:v>0.52882</c:v>
                </c:pt>
                <c:pt idx="103">
                  <c:v>0.52928</c:v>
                </c:pt>
                <c:pt idx="104">
                  <c:v>0.52545</c:v>
                </c:pt>
                <c:pt idx="105">
                  <c:v>0.5213</c:v>
                </c:pt>
                <c:pt idx="106">
                  <c:v>0.51849</c:v>
                </c:pt>
                <c:pt idx="107">
                  <c:v>0.51709</c:v>
                </c:pt>
                <c:pt idx="108">
                  <c:v>0.51499</c:v>
                </c:pt>
                <c:pt idx="109">
                  <c:v>0.51268</c:v>
                </c:pt>
                <c:pt idx="110">
                  <c:v>0.51146</c:v>
                </c:pt>
                <c:pt idx="111">
                  <c:v>0.51063</c:v>
                </c:pt>
                <c:pt idx="112">
                  <c:v>0.5098</c:v>
                </c:pt>
                <c:pt idx="113">
                  <c:v>0.50871</c:v>
                </c:pt>
                <c:pt idx="114">
                  <c:v>0.50735</c:v>
                </c:pt>
                <c:pt idx="115">
                  <c:v>0.50573</c:v>
                </c:pt>
                <c:pt idx="116">
                  <c:v>0.50393</c:v>
                </c:pt>
                <c:pt idx="117">
                  <c:v>0.50189</c:v>
                </c:pt>
                <c:pt idx="118">
                  <c:v>0.49836</c:v>
                </c:pt>
                <c:pt idx="119">
                  <c:v>0.49473</c:v>
                </c:pt>
                <c:pt idx="120">
                  <c:v>0.49194</c:v>
                </c:pt>
                <c:pt idx="121">
                  <c:v>0.48899</c:v>
                </c:pt>
                <c:pt idx="122">
                  <c:v>0.48599</c:v>
                </c:pt>
                <c:pt idx="123">
                  <c:v>0.48319</c:v>
                </c:pt>
                <c:pt idx="124">
                  <c:v>0.48004</c:v>
                </c:pt>
                <c:pt idx="125">
                  <c:v>0.47701</c:v>
                </c:pt>
                <c:pt idx="126">
                  <c:v>0.47233</c:v>
                </c:pt>
                <c:pt idx="127">
                  <c:v>0.46759</c:v>
                </c:pt>
                <c:pt idx="128">
                  <c:v>0.46442</c:v>
                </c:pt>
                <c:pt idx="129">
                  <c:v>0.46136</c:v>
                </c:pt>
                <c:pt idx="130">
                  <c:v>0.45836</c:v>
                </c:pt>
                <c:pt idx="131">
                  <c:v>0.454</c:v>
                </c:pt>
                <c:pt idx="132">
                  <c:v>0.44986</c:v>
                </c:pt>
                <c:pt idx="133">
                  <c:v>0.44596</c:v>
                </c:pt>
                <c:pt idx="134">
                  <c:v>0.44229</c:v>
                </c:pt>
                <c:pt idx="135">
                  <c:v>0.44009</c:v>
                </c:pt>
                <c:pt idx="136">
                  <c:v>0.43684</c:v>
                </c:pt>
                <c:pt idx="137">
                  <c:v>0.43287</c:v>
                </c:pt>
                <c:pt idx="138">
                  <c:v>0.4301</c:v>
                </c:pt>
                <c:pt idx="139">
                  <c:v>0.42742</c:v>
                </c:pt>
                <c:pt idx="140">
                  <c:v>0.42401</c:v>
                </c:pt>
                <c:pt idx="141">
                  <c:v>0.42074</c:v>
                </c:pt>
                <c:pt idx="142">
                  <c:v>0.41762</c:v>
                </c:pt>
                <c:pt idx="143">
                  <c:v>0.41454</c:v>
                </c:pt>
                <c:pt idx="144">
                  <c:v>0.41165</c:v>
                </c:pt>
                <c:pt idx="145">
                  <c:v>0.40892</c:v>
                </c:pt>
                <c:pt idx="146">
                  <c:v>0.40572</c:v>
                </c:pt>
                <c:pt idx="147">
                  <c:v>0.4027</c:v>
                </c:pt>
                <c:pt idx="148">
                  <c:v>0.39987</c:v>
                </c:pt>
                <c:pt idx="149">
                  <c:v>0.39671</c:v>
                </c:pt>
                <c:pt idx="150">
                  <c:v>0.39378</c:v>
                </c:pt>
                <c:pt idx="151">
                  <c:v>0.3907</c:v>
                </c:pt>
                <c:pt idx="152">
                  <c:v>0.38788</c:v>
                </c:pt>
                <c:pt idx="153">
                  <c:v>0.38535</c:v>
                </c:pt>
                <c:pt idx="154">
                  <c:v>0.38243</c:v>
                </c:pt>
                <c:pt idx="155">
                  <c:v>0.37963</c:v>
                </c:pt>
                <c:pt idx="156">
                  <c:v>0.3768</c:v>
                </c:pt>
                <c:pt idx="157">
                  <c:v>0.37392</c:v>
                </c:pt>
                <c:pt idx="158">
                  <c:v>0.3722</c:v>
                </c:pt>
              </c:numCache>
            </c:numRef>
          </c:yVal>
          <c:smooth val="0"/>
        </c:ser>
        <c:ser>
          <c:idx val="11"/>
          <c:order val="11"/>
          <c:tx>
            <c:strRef>
              <c:f>label 12</c:f>
              <c:strCache>
                <c:ptCount val="1"/>
                <c:pt idx="0">
                  <c:v>Spalte AA</c:v>
                </c:pt>
              </c:strCache>
            </c:strRef>
          </c:tx>
          <c:spPr>
            <a:solidFill>
              <a:srgbClr val="ff0000"/>
            </a:solidFill>
            <a:ln w="21600">
              <a:solidFill>
                <a:srgbClr val="ff0000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12</c:f>
              <c:numCache>
                <c:formatCode>General</c:formatCode>
                <c:ptCount val="171"/>
                <c:pt idx="19">
                  <c:v>0.31215</c:v>
                </c:pt>
                <c:pt idx="20">
                  <c:v>0.32707</c:v>
                </c:pt>
                <c:pt idx="21">
                  <c:v>0.34614</c:v>
                </c:pt>
                <c:pt idx="22">
                  <c:v>0.3574</c:v>
                </c:pt>
                <c:pt idx="23">
                  <c:v>0.36412</c:v>
                </c:pt>
                <c:pt idx="24">
                  <c:v>0.37343</c:v>
                </c:pt>
                <c:pt idx="25">
                  <c:v>0.3815</c:v>
                </c:pt>
                <c:pt idx="26">
                  <c:v>0.3874</c:v>
                </c:pt>
                <c:pt idx="27">
                  <c:v>0.39296</c:v>
                </c:pt>
                <c:pt idx="28">
                  <c:v>0.39753</c:v>
                </c:pt>
                <c:pt idx="29">
                  <c:v>0.40215</c:v>
                </c:pt>
                <c:pt idx="30">
                  <c:v>0.40681</c:v>
                </c:pt>
                <c:pt idx="31">
                  <c:v>0.41112</c:v>
                </c:pt>
                <c:pt idx="32">
                  <c:v>0.41552</c:v>
                </c:pt>
                <c:pt idx="33">
                  <c:v>0.41958</c:v>
                </c:pt>
                <c:pt idx="34">
                  <c:v>0.42501</c:v>
                </c:pt>
                <c:pt idx="35">
                  <c:v>0.42878</c:v>
                </c:pt>
                <c:pt idx="36">
                  <c:v>0.43393</c:v>
                </c:pt>
                <c:pt idx="37">
                  <c:v>0.43932</c:v>
                </c:pt>
                <c:pt idx="38">
                  <c:v>0.44307</c:v>
                </c:pt>
                <c:pt idx="39">
                  <c:v>0.44862</c:v>
                </c:pt>
                <c:pt idx="40">
                  <c:v>0.4539</c:v>
                </c:pt>
                <c:pt idx="41">
                  <c:v>0.45981</c:v>
                </c:pt>
                <c:pt idx="42">
                  <c:v>0.46569</c:v>
                </c:pt>
                <c:pt idx="43">
                  <c:v>0.4718</c:v>
                </c:pt>
                <c:pt idx="44">
                  <c:v>0.47768</c:v>
                </c:pt>
                <c:pt idx="45">
                  <c:v>0.48316</c:v>
                </c:pt>
                <c:pt idx="46">
                  <c:v>0.49006</c:v>
                </c:pt>
                <c:pt idx="47">
                  <c:v>0.49724</c:v>
                </c:pt>
                <c:pt idx="48">
                  <c:v>0.50524</c:v>
                </c:pt>
                <c:pt idx="49">
                  <c:v>0.51362</c:v>
                </c:pt>
                <c:pt idx="50">
                  <c:v>0.52303</c:v>
                </c:pt>
                <c:pt idx="51">
                  <c:v>0.53193</c:v>
                </c:pt>
                <c:pt idx="52">
                  <c:v>0.54221</c:v>
                </c:pt>
                <c:pt idx="53">
                  <c:v>0.55027</c:v>
                </c:pt>
                <c:pt idx="54">
                  <c:v>0.55878</c:v>
                </c:pt>
                <c:pt idx="55">
                  <c:v>0.56987</c:v>
                </c:pt>
                <c:pt idx="56">
                  <c:v>0.58444</c:v>
                </c:pt>
                <c:pt idx="57">
                  <c:v>0.60183</c:v>
                </c:pt>
                <c:pt idx="58">
                  <c:v>0.61817</c:v>
                </c:pt>
                <c:pt idx="59">
                  <c:v>0.63646</c:v>
                </c:pt>
                <c:pt idx="60">
                  <c:v>0.65738</c:v>
                </c:pt>
                <c:pt idx="61">
                  <c:v>0.68031</c:v>
                </c:pt>
                <c:pt idx="62">
                  <c:v>0.70733</c:v>
                </c:pt>
                <c:pt idx="63">
                  <c:v>0.7392</c:v>
                </c:pt>
                <c:pt idx="76">
                  <c:v>0.75147</c:v>
                </c:pt>
                <c:pt idx="77">
                  <c:v>0.7462</c:v>
                </c:pt>
                <c:pt idx="78">
                  <c:v>0.73706</c:v>
                </c:pt>
                <c:pt idx="103">
                  <c:v>0.69098</c:v>
                </c:pt>
                <c:pt idx="104">
                  <c:v>0.64463</c:v>
                </c:pt>
                <c:pt idx="105">
                  <c:v>0.6295</c:v>
                </c:pt>
                <c:pt idx="106">
                  <c:v>0.61744</c:v>
                </c:pt>
                <c:pt idx="107">
                  <c:v>0.60943</c:v>
                </c:pt>
                <c:pt idx="108">
                  <c:v>0.59995</c:v>
                </c:pt>
                <c:pt idx="109">
                  <c:v>0.5936</c:v>
                </c:pt>
                <c:pt idx="110">
                  <c:v>0.58765</c:v>
                </c:pt>
                <c:pt idx="111">
                  <c:v>0.58239</c:v>
                </c:pt>
                <c:pt idx="112">
                  <c:v>0.57785</c:v>
                </c:pt>
                <c:pt idx="113">
                  <c:v>0.57365</c:v>
                </c:pt>
                <c:pt idx="114">
                  <c:v>0.56958</c:v>
                </c:pt>
                <c:pt idx="115">
                  <c:v>0.56454</c:v>
                </c:pt>
                <c:pt idx="116">
                  <c:v>0.56077</c:v>
                </c:pt>
                <c:pt idx="117">
                  <c:v>0.55709</c:v>
                </c:pt>
                <c:pt idx="118">
                  <c:v>0.55309</c:v>
                </c:pt>
                <c:pt idx="119">
                  <c:v>0.55061</c:v>
                </c:pt>
                <c:pt idx="120">
                  <c:v>0.5481</c:v>
                </c:pt>
                <c:pt idx="121">
                  <c:v>0.54506</c:v>
                </c:pt>
                <c:pt idx="122">
                  <c:v>0.54246</c:v>
                </c:pt>
                <c:pt idx="123">
                  <c:v>0.54056</c:v>
                </c:pt>
                <c:pt idx="124">
                  <c:v>0.53826</c:v>
                </c:pt>
                <c:pt idx="125">
                  <c:v>0.53552</c:v>
                </c:pt>
                <c:pt idx="126">
                  <c:v>0.53353</c:v>
                </c:pt>
                <c:pt idx="127">
                  <c:v>0.53111</c:v>
                </c:pt>
                <c:pt idx="128">
                  <c:v>0.52827</c:v>
                </c:pt>
                <c:pt idx="129">
                  <c:v>0.52587</c:v>
                </c:pt>
                <c:pt idx="130">
                  <c:v>0.52398</c:v>
                </c:pt>
                <c:pt idx="131">
                  <c:v>0.52206</c:v>
                </c:pt>
                <c:pt idx="132">
                  <c:v>0.51934</c:v>
                </c:pt>
                <c:pt idx="133">
                  <c:v>0.51704</c:v>
                </c:pt>
                <c:pt idx="134">
                  <c:v>0.51488</c:v>
                </c:pt>
                <c:pt idx="135">
                  <c:v>0.51269</c:v>
                </c:pt>
                <c:pt idx="136">
                  <c:v>0.51029</c:v>
                </c:pt>
                <c:pt idx="137">
                  <c:v>0.50796</c:v>
                </c:pt>
                <c:pt idx="138">
                  <c:v>0.50522</c:v>
                </c:pt>
                <c:pt idx="139">
                  <c:v>0.50314</c:v>
                </c:pt>
                <c:pt idx="140">
                  <c:v>0.50099</c:v>
                </c:pt>
                <c:pt idx="141">
                  <c:v>0.49869</c:v>
                </c:pt>
                <c:pt idx="142">
                  <c:v>0.49639</c:v>
                </c:pt>
                <c:pt idx="143">
                  <c:v>0.494</c:v>
                </c:pt>
                <c:pt idx="144">
                  <c:v>0.47926</c:v>
                </c:pt>
                <c:pt idx="145">
                  <c:v>0.46788</c:v>
                </c:pt>
                <c:pt idx="146">
                  <c:v>0.46478</c:v>
                </c:pt>
                <c:pt idx="147">
                  <c:v>0.4615</c:v>
                </c:pt>
                <c:pt idx="148">
                  <c:v>0.45725</c:v>
                </c:pt>
                <c:pt idx="149">
                  <c:v>0.45327</c:v>
                </c:pt>
                <c:pt idx="150">
                  <c:v>0.44939</c:v>
                </c:pt>
                <c:pt idx="151">
                  <c:v>0.44621</c:v>
                </c:pt>
                <c:pt idx="152">
                  <c:v>0.44355</c:v>
                </c:pt>
                <c:pt idx="153">
                  <c:v>0.44145</c:v>
                </c:pt>
                <c:pt idx="154">
                  <c:v>0.44054</c:v>
                </c:pt>
              </c:numCache>
            </c:numRef>
          </c:yVal>
          <c:smooth val="0"/>
        </c:ser>
        <c:ser>
          <c:idx val="12"/>
          <c:order val="12"/>
          <c:tx>
            <c:strRef>
              <c:f>label 13</c:f>
              <c:strCache>
                <c:ptCount val="1"/>
                <c:pt idx="0">
                  <c:v>Spalte AC</c:v>
                </c:pt>
              </c:strCache>
            </c:strRef>
          </c:tx>
          <c:spPr>
            <a:solidFill>
              <a:srgbClr val="99ccff"/>
            </a:solidFill>
            <a:ln w="21600">
              <a:solidFill>
                <a:srgbClr val="99ccff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13</c:f>
              <c:numCache>
                <c:formatCode>General</c:formatCode>
                <c:ptCount val="171"/>
                <c:pt idx="3">
                  <c:v>0.27565</c:v>
                </c:pt>
                <c:pt idx="4">
                  <c:v>0.27798</c:v>
                </c:pt>
                <c:pt idx="5">
                  <c:v>0.28173</c:v>
                </c:pt>
                <c:pt idx="6">
                  <c:v>0.28668</c:v>
                </c:pt>
                <c:pt idx="7">
                  <c:v>0.2953</c:v>
                </c:pt>
                <c:pt idx="8">
                  <c:v>0.31057</c:v>
                </c:pt>
                <c:pt idx="9">
                  <c:v>0.32871</c:v>
                </c:pt>
                <c:pt idx="11">
                  <c:v>0.33867</c:v>
                </c:pt>
                <c:pt idx="12">
                  <c:v>0.34427</c:v>
                </c:pt>
                <c:pt idx="13">
                  <c:v>0.35128</c:v>
                </c:pt>
                <c:pt idx="14">
                  <c:v>0.35807</c:v>
                </c:pt>
                <c:pt idx="15">
                  <c:v>0.36589</c:v>
                </c:pt>
                <c:pt idx="17">
                  <c:v>0.37507</c:v>
                </c:pt>
                <c:pt idx="18">
                  <c:v>0.37962</c:v>
                </c:pt>
                <c:pt idx="19">
                  <c:v>0.38628</c:v>
                </c:pt>
                <c:pt idx="20">
                  <c:v>0.3928</c:v>
                </c:pt>
                <c:pt idx="21">
                  <c:v>0.39702</c:v>
                </c:pt>
                <c:pt idx="22">
                  <c:v>0.40136</c:v>
                </c:pt>
                <c:pt idx="23">
                  <c:v>0.40576</c:v>
                </c:pt>
                <c:pt idx="24">
                  <c:v>0.41014</c:v>
                </c:pt>
                <c:pt idx="25">
                  <c:v>0.41429</c:v>
                </c:pt>
                <c:pt idx="26">
                  <c:v>0.41808</c:v>
                </c:pt>
                <c:pt idx="27">
                  <c:v>0.42176</c:v>
                </c:pt>
                <c:pt idx="28">
                  <c:v>0.42768</c:v>
                </c:pt>
                <c:pt idx="29">
                  <c:v>0.43431</c:v>
                </c:pt>
                <c:pt idx="30">
                  <c:v>0.43929</c:v>
                </c:pt>
                <c:pt idx="31">
                  <c:v>0.44449</c:v>
                </c:pt>
                <c:pt idx="32">
                  <c:v>0.45</c:v>
                </c:pt>
                <c:pt idx="33">
                  <c:v>0.45557</c:v>
                </c:pt>
                <c:pt idx="34">
                  <c:v>0.4613</c:v>
                </c:pt>
                <c:pt idx="35">
                  <c:v>0.4668</c:v>
                </c:pt>
                <c:pt idx="36">
                  <c:v>0.47279</c:v>
                </c:pt>
                <c:pt idx="37">
                  <c:v>0.47841</c:v>
                </c:pt>
                <c:pt idx="38">
                  <c:v>0.48539</c:v>
                </c:pt>
                <c:pt idx="39">
                  <c:v>0.49222</c:v>
                </c:pt>
                <c:pt idx="40">
                  <c:v>0.49946</c:v>
                </c:pt>
                <c:pt idx="41">
                  <c:v>0.50688</c:v>
                </c:pt>
                <c:pt idx="42">
                  <c:v>0.51824</c:v>
                </c:pt>
                <c:pt idx="43">
                  <c:v>0.52988</c:v>
                </c:pt>
                <c:pt idx="44">
                  <c:v>0.53852</c:v>
                </c:pt>
                <c:pt idx="45">
                  <c:v>0.54713</c:v>
                </c:pt>
                <c:pt idx="46">
                  <c:v>0.55646</c:v>
                </c:pt>
                <c:pt idx="47">
                  <c:v>0.56627</c:v>
                </c:pt>
                <c:pt idx="48">
                  <c:v>0.57647</c:v>
                </c:pt>
                <c:pt idx="49">
                  <c:v>0.58534</c:v>
                </c:pt>
                <c:pt idx="50">
                  <c:v>0.59941</c:v>
                </c:pt>
                <c:pt idx="51">
                  <c:v>0.61315</c:v>
                </c:pt>
                <c:pt idx="52">
                  <c:v>0.62197</c:v>
                </c:pt>
                <c:pt idx="53">
                  <c:v>0.63155</c:v>
                </c:pt>
                <c:pt idx="54">
                  <c:v>0.64579</c:v>
                </c:pt>
                <c:pt idx="55">
                  <c:v>0.6589</c:v>
                </c:pt>
                <c:pt idx="56">
                  <c:v>0.66836</c:v>
                </c:pt>
                <c:pt idx="57">
                  <c:v>0.67347</c:v>
                </c:pt>
                <c:pt idx="58">
                  <c:v>0.68078</c:v>
                </c:pt>
                <c:pt idx="59">
                  <c:v>0.6871</c:v>
                </c:pt>
                <c:pt idx="60">
                  <c:v>0.6944</c:v>
                </c:pt>
                <c:pt idx="61">
                  <c:v>0.70885</c:v>
                </c:pt>
                <c:pt idx="62">
                  <c:v>0.72686</c:v>
                </c:pt>
                <c:pt idx="63">
                  <c:v>0.75306</c:v>
                </c:pt>
                <c:pt idx="64">
                  <c:v>0.78018</c:v>
                </c:pt>
                <c:pt idx="65">
                  <c:v>0.80339</c:v>
                </c:pt>
                <c:pt idx="66">
                  <c:v>0.81728</c:v>
                </c:pt>
                <c:pt idx="67">
                  <c:v>0.83964</c:v>
                </c:pt>
                <c:pt idx="68">
                  <c:v>0.8636</c:v>
                </c:pt>
                <c:pt idx="69">
                  <c:v>0.86986</c:v>
                </c:pt>
                <c:pt idx="70">
                  <c:v>0.87548</c:v>
                </c:pt>
                <c:pt idx="71">
                  <c:v>0.87872</c:v>
                </c:pt>
                <c:pt idx="72">
                  <c:v>0.87865</c:v>
                </c:pt>
                <c:pt idx="73">
                  <c:v>0.85462</c:v>
                </c:pt>
                <c:pt idx="74">
                  <c:v>0.8565</c:v>
                </c:pt>
                <c:pt idx="75">
                  <c:v>0.86983</c:v>
                </c:pt>
                <c:pt idx="76">
                  <c:v>0.85309</c:v>
                </c:pt>
                <c:pt idx="77">
                  <c:v>0.85222</c:v>
                </c:pt>
                <c:pt idx="104">
                  <c:v>0.83599</c:v>
                </c:pt>
                <c:pt idx="105">
                  <c:v>0.80301</c:v>
                </c:pt>
                <c:pt idx="106">
                  <c:v>0.77355</c:v>
                </c:pt>
                <c:pt idx="107">
                  <c:v>0.7601</c:v>
                </c:pt>
                <c:pt idx="108">
                  <c:v>0.74762</c:v>
                </c:pt>
                <c:pt idx="109">
                  <c:v>0.7366</c:v>
                </c:pt>
                <c:pt idx="110">
                  <c:v>0.72625</c:v>
                </c:pt>
                <c:pt idx="111">
                  <c:v>0.71704</c:v>
                </c:pt>
                <c:pt idx="112">
                  <c:v>0.70845</c:v>
                </c:pt>
                <c:pt idx="113">
                  <c:v>0.70441</c:v>
                </c:pt>
                <c:pt idx="114">
                  <c:v>0.69877</c:v>
                </c:pt>
                <c:pt idx="115">
                  <c:v>0.69449</c:v>
                </c:pt>
                <c:pt idx="116">
                  <c:v>0.69199</c:v>
                </c:pt>
                <c:pt idx="117">
                  <c:v>0.68862</c:v>
                </c:pt>
                <c:pt idx="118">
                  <c:v>0.68529</c:v>
                </c:pt>
                <c:pt idx="119">
                  <c:v>0.68276</c:v>
                </c:pt>
                <c:pt idx="120">
                  <c:v>0.67982</c:v>
                </c:pt>
                <c:pt idx="121">
                  <c:v>0.67673</c:v>
                </c:pt>
                <c:pt idx="122">
                  <c:v>0.67376</c:v>
                </c:pt>
                <c:pt idx="123">
                  <c:v>0.67013</c:v>
                </c:pt>
                <c:pt idx="124">
                  <c:v>0.66615</c:v>
                </c:pt>
                <c:pt idx="127">
                  <c:v>0.65999</c:v>
                </c:pt>
                <c:pt idx="128">
                  <c:v>0.65642</c:v>
                </c:pt>
                <c:pt idx="129">
                  <c:v>0.65182</c:v>
                </c:pt>
                <c:pt idx="130">
                  <c:v>0.64508</c:v>
                </c:pt>
                <c:pt idx="131">
                  <c:v>0.6368</c:v>
                </c:pt>
                <c:pt idx="132">
                  <c:v>0.63505</c:v>
                </c:pt>
                <c:pt idx="133">
                  <c:v>0.63115</c:v>
                </c:pt>
                <c:pt idx="134">
                  <c:v>0.62552</c:v>
                </c:pt>
                <c:pt idx="135">
                  <c:v>0.61946</c:v>
                </c:pt>
                <c:pt idx="136">
                  <c:v>0.61482</c:v>
                </c:pt>
                <c:pt idx="137">
                  <c:v>0.60936</c:v>
                </c:pt>
                <c:pt idx="138">
                  <c:v>0.60562</c:v>
                </c:pt>
                <c:pt idx="139">
                  <c:v>0.6032</c:v>
                </c:pt>
                <c:pt idx="140">
                  <c:v>0.59666</c:v>
                </c:pt>
                <c:pt idx="141">
                  <c:v>0.59555</c:v>
                </c:pt>
                <c:pt idx="142">
                  <c:v>0.59324</c:v>
                </c:pt>
                <c:pt idx="143">
                  <c:v>0.58123</c:v>
                </c:pt>
                <c:pt idx="144">
                  <c:v>0.57582</c:v>
                </c:pt>
                <c:pt idx="145">
                  <c:v>0.56675</c:v>
                </c:pt>
                <c:pt idx="146">
                  <c:v>0.55787</c:v>
                </c:pt>
                <c:pt idx="147">
                  <c:v>0.55037</c:v>
                </c:pt>
                <c:pt idx="148">
                  <c:v>0.54267</c:v>
                </c:pt>
                <c:pt idx="149">
                  <c:v>0.53405</c:v>
                </c:pt>
                <c:pt idx="150">
                  <c:v>0.52857</c:v>
                </c:pt>
                <c:pt idx="151">
                  <c:v>0.52203</c:v>
                </c:pt>
                <c:pt idx="152">
                  <c:v>0.51679</c:v>
                </c:pt>
                <c:pt idx="153">
                  <c:v>0.51097</c:v>
                </c:pt>
                <c:pt idx="154">
                  <c:v>0.50457</c:v>
                </c:pt>
                <c:pt idx="155">
                  <c:v>0.49942</c:v>
                </c:pt>
                <c:pt idx="156">
                  <c:v>0.49213</c:v>
                </c:pt>
              </c:numCache>
            </c:numRef>
          </c:yVal>
          <c:smooth val="0"/>
        </c:ser>
        <c:ser>
          <c:idx val="13"/>
          <c:order val="13"/>
          <c:tx>
            <c:strRef>
              <c:f>label 14</c:f>
              <c:strCache>
                <c:ptCount val="1"/>
                <c:pt idx="0">
                  <c:v>Spalte AE</c:v>
                </c:pt>
              </c:strCache>
            </c:strRef>
          </c:tx>
          <c:spPr>
            <a:solidFill>
              <a:srgbClr val="ff99cc"/>
            </a:solidFill>
            <a:ln w="21600">
              <a:solidFill>
                <a:srgbClr val="ff99cc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14</c:f>
              <c:numCache>
                <c:formatCode>General</c:formatCode>
                <c:ptCount val="171"/>
                <c:pt idx="4">
                  <c:v>0.26611</c:v>
                </c:pt>
                <c:pt idx="5">
                  <c:v>0.26296</c:v>
                </c:pt>
                <c:pt idx="6">
                  <c:v>0.26816</c:v>
                </c:pt>
                <c:pt idx="7">
                  <c:v>0.28015</c:v>
                </c:pt>
                <c:pt idx="8">
                  <c:v>0.29746</c:v>
                </c:pt>
                <c:pt idx="9">
                  <c:v>0.3168</c:v>
                </c:pt>
                <c:pt idx="10">
                  <c:v>0.33529</c:v>
                </c:pt>
                <c:pt idx="11">
                  <c:v>0.34906</c:v>
                </c:pt>
                <c:pt idx="12">
                  <c:v>0.36216</c:v>
                </c:pt>
                <c:pt idx="13">
                  <c:v>0.37203</c:v>
                </c:pt>
                <c:pt idx="14">
                  <c:v>0.37896</c:v>
                </c:pt>
                <c:pt idx="15">
                  <c:v>0.38785</c:v>
                </c:pt>
                <c:pt idx="16">
                  <c:v>0.39435</c:v>
                </c:pt>
                <c:pt idx="17">
                  <c:v>0.40054</c:v>
                </c:pt>
                <c:pt idx="18">
                  <c:v>0.40649</c:v>
                </c:pt>
                <c:pt idx="19">
                  <c:v>0.4105</c:v>
                </c:pt>
                <c:pt idx="20">
                  <c:v>0.41627</c:v>
                </c:pt>
                <c:pt idx="21">
                  <c:v>0.42182</c:v>
                </c:pt>
                <c:pt idx="22">
                  <c:v>0.42541</c:v>
                </c:pt>
                <c:pt idx="23">
                  <c:v>0.42897</c:v>
                </c:pt>
                <c:pt idx="24">
                  <c:v>0.43428</c:v>
                </c:pt>
                <c:pt idx="25">
                  <c:v>0.43957</c:v>
                </c:pt>
                <c:pt idx="26">
                  <c:v>0.44292</c:v>
                </c:pt>
                <c:pt idx="27">
                  <c:v>0.4464</c:v>
                </c:pt>
                <c:pt idx="28">
                  <c:v>0.45154</c:v>
                </c:pt>
                <c:pt idx="29">
                  <c:v>0.45675</c:v>
                </c:pt>
                <c:pt idx="30">
                  <c:v>0.46009</c:v>
                </c:pt>
                <c:pt idx="31">
                  <c:v>0.4651</c:v>
                </c:pt>
                <c:pt idx="32">
                  <c:v>0.47012</c:v>
                </c:pt>
                <c:pt idx="33">
                  <c:v>0.47515</c:v>
                </c:pt>
                <c:pt idx="34">
                  <c:v>0.4802</c:v>
                </c:pt>
                <c:pt idx="35">
                  <c:v>0.48548</c:v>
                </c:pt>
                <c:pt idx="36">
                  <c:v>0.49054</c:v>
                </c:pt>
                <c:pt idx="37">
                  <c:v>0.49557</c:v>
                </c:pt>
                <c:pt idx="38">
                  <c:v>0.50192</c:v>
                </c:pt>
                <c:pt idx="39">
                  <c:v>0.50657</c:v>
                </c:pt>
                <c:pt idx="40">
                  <c:v>0.51119</c:v>
                </c:pt>
                <c:pt idx="41">
                  <c:v>0.51715</c:v>
                </c:pt>
                <c:pt idx="42">
                  <c:v>0.52302</c:v>
                </c:pt>
                <c:pt idx="43">
                  <c:v>0.53</c:v>
                </c:pt>
                <c:pt idx="44">
                  <c:v>0.53661</c:v>
                </c:pt>
                <c:pt idx="45">
                  <c:v>0.543</c:v>
                </c:pt>
                <c:pt idx="46">
                  <c:v>0.55003</c:v>
                </c:pt>
                <c:pt idx="47">
                  <c:v>0.55612</c:v>
                </c:pt>
                <c:pt idx="48">
                  <c:v>0.56485</c:v>
                </c:pt>
                <c:pt idx="49">
                  <c:v>0.57483</c:v>
                </c:pt>
                <c:pt idx="50">
                  <c:v>0.58584</c:v>
                </c:pt>
                <c:pt idx="51">
                  <c:v>0.59444</c:v>
                </c:pt>
                <c:pt idx="52">
                  <c:v>0.60602</c:v>
                </c:pt>
                <c:pt idx="53">
                  <c:v>0.62527</c:v>
                </c:pt>
                <c:pt idx="54">
                  <c:v>0.67706</c:v>
                </c:pt>
                <c:pt idx="55">
                  <c:v>0.73669</c:v>
                </c:pt>
                <c:pt idx="56">
                  <c:v>0.76599</c:v>
                </c:pt>
                <c:pt idx="57">
                  <c:v>0.78134</c:v>
                </c:pt>
                <c:pt idx="58">
                  <c:v>0.79348</c:v>
                </c:pt>
                <c:pt idx="59">
                  <c:v>0.80302</c:v>
                </c:pt>
                <c:pt idx="60">
                  <c:v>0.80805</c:v>
                </c:pt>
                <c:pt idx="61">
                  <c:v>0.80902</c:v>
                </c:pt>
                <c:pt idx="62">
                  <c:v>0.80946</c:v>
                </c:pt>
                <c:pt idx="63">
                  <c:v>0.8161</c:v>
                </c:pt>
                <c:pt idx="64">
                  <c:v>0.8199</c:v>
                </c:pt>
                <c:pt idx="65">
                  <c:v>0.82171</c:v>
                </c:pt>
                <c:pt idx="66">
                  <c:v>0.82396</c:v>
                </c:pt>
                <c:pt idx="67">
                  <c:v>0.81303</c:v>
                </c:pt>
                <c:pt idx="68">
                  <c:v>0.78408</c:v>
                </c:pt>
                <c:pt idx="69">
                  <c:v>0.77907</c:v>
                </c:pt>
                <c:pt idx="70">
                  <c:v>0.79832</c:v>
                </c:pt>
                <c:pt idx="71">
                  <c:v>0.83278</c:v>
                </c:pt>
                <c:pt idx="72">
                  <c:v>0.86161</c:v>
                </c:pt>
                <c:pt idx="73">
                  <c:v>0.87012</c:v>
                </c:pt>
                <c:pt idx="74">
                  <c:v>0.87282</c:v>
                </c:pt>
                <c:pt idx="75">
                  <c:v>0.87036</c:v>
                </c:pt>
                <c:pt idx="76">
                  <c:v>0.86831</c:v>
                </c:pt>
                <c:pt idx="77">
                  <c:v>0.86131</c:v>
                </c:pt>
                <c:pt idx="78">
                  <c:v>0.84902</c:v>
                </c:pt>
                <c:pt idx="79">
                  <c:v>0.82783</c:v>
                </c:pt>
                <c:pt idx="80">
                  <c:v>0.807</c:v>
                </c:pt>
                <c:pt idx="101">
                  <c:v>0.74973</c:v>
                </c:pt>
                <c:pt idx="102">
                  <c:v>0.69877</c:v>
                </c:pt>
                <c:pt idx="103">
                  <c:v>0.6791</c:v>
                </c:pt>
                <c:pt idx="104">
                  <c:v>0.66262</c:v>
                </c:pt>
                <c:pt idx="105">
                  <c:v>0.64705</c:v>
                </c:pt>
                <c:pt idx="106">
                  <c:v>0.63671</c:v>
                </c:pt>
                <c:pt idx="107">
                  <c:v>0.63021</c:v>
                </c:pt>
                <c:pt idx="108">
                  <c:v>0.62389</c:v>
                </c:pt>
                <c:pt idx="109">
                  <c:v>0.61502</c:v>
                </c:pt>
                <c:pt idx="110">
                  <c:v>0.60648</c:v>
                </c:pt>
                <c:pt idx="111">
                  <c:v>0.60138</c:v>
                </c:pt>
                <c:pt idx="112">
                  <c:v>0.59582</c:v>
                </c:pt>
                <c:pt idx="113">
                  <c:v>0.58788</c:v>
                </c:pt>
                <c:pt idx="114">
                  <c:v>0.57989</c:v>
                </c:pt>
                <c:pt idx="115">
                  <c:v>0.57463</c:v>
                </c:pt>
                <c:pt idx="116">
                  <c:v>0.56944</c:v>
                </c:pt>
                <c:pt idx="119">
                  <c:v>0.56094</c:v>
                </c:pt>
                <c:pt idx="120">
                  <c:v>0.54857</c:v>
                </c:pt>
                <c:pt idx="122">
                  <c:v>0.54411</c:v>
                </c:pt>
                <c:pt idx="123">
                  <c:v>0.53686</c:v>
                </c:pt>
                <c:pt idx="124">
                  <c:v>0.52984</c:v>
                </c:pt>
                <c:pt idx="125">
                  <c:v>0.52302</c:v>
                </c:pt>
                <c:pt idx="126">
                  <c:v>0.51721</c:v>
                </c:pt>
                <c:pt idx="127">
                  <c:v>0.51082</c:v>
                </c:pt>
                <c:pt idx="128">
                  <c:v>0.50418</c:v>
                </c:pt>
                <c:pt idx="129">
                  <c:v>0.49688</c:v>
                </c:pt>
                <c:pt idx="131">
                  <c:v>0.48593</c:v>
                </c:pt>
                <c:pt idx="132">
                  <c:v>0.47794</c:v>
                </c:pt>
                <c:pt idx="133">
                  <c:v>0.47335</c:v>
                </c:pt>
                <c:pt idx="134">
                  <c:v>0.47064</c:v>
                </c:pt>
                <c:pt idx="135">
                  <c:v>0.46696</c:v>
                </c:pt>
                <c:pt idx="136">
                  <c:v>0.46241</c:v>
                </c:pt>
                <c:pt idx="137">
                  <c:v>0.45834</c:v>
                </c:pt>
                <c:pt idx="138">
                  <c:v>0.45428</c:v>
                </c:pt>
                <c:pt idx="139">
                  <c:v>0.44909</c:v>
                </c:pt>
                <c:pt idx="140">
                  <c:v>0.44427</c:v>
                </c:pt>
                <c:pt idx="141">
                  <c:v>0.43979</c:v>
                </c:pt>
                <c:pt idx="143">
                  <c:v>0.43506</c:v>
                </c:pt>
                <c:pt idx="144">
                  <c:v>0.43122</c:v>
                </c:pt>
                <c:pt idx="145">
                  <c:v>0.42757</c:v>
                </c:pt>
                <c:pt idx="146">
                  <c:v>0.42412</c:v>
                </c:pt>
                <c:pt idx="147">
                  <c:v>0.42105</c:v>
                </c:pt>
                <c:pt idx="148">
                  <c:v>0.41626</c:v>
                </c:pt>
                <c:pt idx="149">
                  <c:v>0.41507</c:v>
                </c:pt>
                <c:pt idx="150">
                  <c:v>0.41461</c:v>
                </c:pt>
                <c:pt idx="151">
                  <c:v>0.40253</c:v>
                </c:pt>
                <c:pt idx="152">
                  <c:v>0.38935</c:v>
                </c:pt>
                <c:pt idx="153">
                  <c:v>0.37948</c:v>
                </c:pt>
                <c:pt idx="154">
                  <c:v>0.37446</c:v>
                </c:pt>
                <c:pt idx="155">
                  <c:v>0.37041</c:v>
                </c:pt>
                <c:pt idx="156">
                  <c:v>0.36631</c:v>
                </c:pt>
              </c:numCache>
            </c:numRef>
          </c:yVal>
          <c:smooth val="0"/>
        </c:ser>
        <c:ser>
          <c:idx val="14"/>
          <c:order val="14"/>
          <c:tx>
            <c:strRef>
              <c:f>label 15</c:f>
              <c:strCache>
                <c:ptCount val="1"/>
                <c:pt idx="0">
                  <c:v>Spalte AG</c:v>
                </c:pt>
              </c:strCache>
            </c:strRef>
          </c:tx>
          <c:spPr>
            <a:solidFill>
              <a:srgbClr val="cc99ff"/>
            </a:solidFill>
            <a:ln w="21600">
              <a:solidFill>
                <a:srgbClr val="cc99ff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15</c:f>
              <c:numCache>
                <c:formatCode>General</c:formatCode>
                <c:ptCount val="171"/>
                <c:pt idx="4">
                  <c:v>0.24436</c:v>
                </c:pt>
                <c:pt idx="5">
                  <c:v>0.24603</c:v>
                </c:pt>
                <c:pt idx="6">
                  <c:v>0.25295</c:v>
                </c:pt>
                <c:pt idx="7">
                  <c:v>0.2659</c:v>
                </c:pt>
                <c:pt idx="8">
                  <c:v>0.28207</c:v>
                </c:pt>
                <c:pt idx="9">
                  <c:v>0.29741</c:v>
                </c:pt>
                <c:pt idx="10">
                  <c:v>0.30954</c:v>
                </c:pt>
                <c:pt idx="11">
                  <c:v>0.32012</c:v>
                </c:pt>
                <c:pt idx="12">
                  <c:v>0.33114</c:v>
                </c:pt>
                <c:pt idx="13">
                  <c:v>0.34046</c:v>
                </c:pt>
                <c:pt idx="14">
                  <c:v>0.34773</c:v>
                </c:pt>
                <c:pt idx="15">
                  <c:v>0.35514</c:v>
                </c:pt>
                <c:pt idx="16">
                  <c:v>0.36283</c:v>
                </c:pt>
                <c:pt idx="17">
                  <c:v>0.37073</c:v>
                </c:pt>
                <c:pt idx="18">
                  <c:v>0.3847</c:v>
                </c:pt>
                <c:pt idx="19">
                  <c:v>0.39662</c:v>
                </c:pt>
                <c:pt idx="21">
                  <c:v>0.40275</c:v>
                </c:pt>
                <c:pt idx="22">
                  <c:v>0.41009</c:v>
                </c:pt>
                <c:pt idx="23">
                  <c:v>0.41652</c:v>
                </c:pt>
                <c:pt idx="24">
                  <c:v>0.42611</c:v>
                </c:pt>
                <c:pt idx="26">
                  <c:v>0.4357</c:v>
                </c:pt>
                <c:pt idx="27">
                  <c:v>0.44511</c:v>
                </c:pt>
                <c:pt idx="28">
                  <c:v>0.45445</c:v>
                </c:pt>
                <c:pt idx="29">
                  <c:v>0.46089</c:v>
                </c:pt>
                <c:pt idx="30">
                  <c:v>0.46672</c:v>
                </c:pt>
                <c:pt idx="31">
                  <c:v>0.47314</c:v>
                </c:pt>
                <c:pt idx="32">
                  <c:v>0.48315</c:v>
                </c:pt>
                <c:pt idx="34">
                  <c:v>0.49341</c:v>
                </c:pt>
                <c:pt idx="35">
                  <c:v>0.49995</c:v>
                </c:pt>
                <c:pt idx="36">
                  <c:v>0.50649</c:v>
                </c:pt>
                <c:pt idx="37">
                  <c:v>0.51299</c:v>
                </c:pt>
                <c:pt idx="38">
                  <c:v>0.51937</c:v>
                </c:pt>
                <c:pt idx="39">
                  <c:v>0.52571</c:v>
                </c:pt>
                <c:pt idx="40">
                  <c:v>0.53199</c:v>
                </c:pt>
                <c:pt idx="41">
                  <c:v>0.54124</c:v>
                </c:pt>
                <c:pt idx="42">
                  <c:v>0.55034</c:v>
                </c:pt>
                <c:pt idx="43">
                  <c:v>0.55647</c:v>
                </c:pt>
                <c:pt idx="44">
                  <c:v>0.56215</c:v>
                </c:pt>
                <c:pt idx="45">
                  <c:v>0.5706</c:v>
                </c:pt>
                <c:pt idx="46">
                  <c:v>0.5791</c:v>
                </c:pt>
                <c:pt idx="47">
                  <c:v>0.58755</c:v>
                </c:pt>
                <c:pt idx="48">
                  <c:v>0.59602</c:v>
                </c:pt>
                <c:pt idx="49">
                  <c:v>0.60451</c:v>
                </c:pt>
                <c:pt idx="50">
                  <c:v>0.61365</c:v>
                </c:pt>
                <c:pt idx="51">
                  <c:v>0.62264</c:v>
                </c:pt>
                <c:pt idx="52">
                  <c:v>0.635</c:v>
                </c:pt>
                <c:pt idx="53">
                  <c:v>0.64847</c:v>
                </c:pt>
                <c:pt idx="54">
                  <c:v>0.66412</c:v>
                </c:pt>
                <c:pt idx="55">
                  <c:v>0.68198</c:v>
                </c:pt>
                <c:pt idx="56">
                  <c:v>0.70144</c:v>
                </c:pt>
                <c:pt idx="57">
                  <c:v>0.72752</c:v>
                </c:pt>
                <c:pt idx="58">
                  <c:v>0.75012</c:v>
                </c:pt>
                <c:pt idx="59">
                  <c:v>0.77282</c:v>
                </c:pt>
                <c:pt idx="60">
                  <c:v>0.79748</c:v>
                </c:pt>
                <c:pt idx="61">
                  <c:v>0.82106</c:v>
                </c:pt>
                <c:pt idx="62">
                  <c:v>0.8417</c:v>
                </c:pt>
                <c:pt idx="63">
                  <c:v>0.85237</c:v>
                </c:pt>
                <c:pt idx="64">
                  <c:v>0.86359</c:v>
                </c:pt>
                <c:pt idx="65">
                  <c:v>0.87466</c:v>
                </c:pt>
                <c:pt idx="66">
                  <c:v>0.87954</c:v>
                </c:pt>
                <c:pt idx="67">
                  <c:v>0.90618</c:v>
                </c:pt>
                <c:pt idx="68">
                  <c:v>0.91269</c:v>
                </c:pt>
                <c:pt idx="69">
                  <c:v>0.91786</c:v>
                </c:pt>
                <c:pt idx="70">
                  <c:v>0.92638</c:v>
                </c:pt>
                <c:pt idx="71">
                  <c:v>0.9304</c:v>
                </c:pt>
                <c:pt idx="72">
                  <c:v>0.93863</c:v>
                </c:pt>
                <c:pt idx="73">
                  <c:v>0.94248</c:v>
                </c:pt>
                <c:pt idx="74">
                  <c:v>0.95068</c:v>
                </c:pt>
                <c:pt idx="75">
                  <c:v>0.95412</c:v>
                </c:pt>
                <c:pt idx="76">
                  <c:v>0.95502</c:v>
                </c:pt>
                <c:pt idx="77">
                  <c:v>0.95753</c:v>
                </c:pt>
                <c:pt idx="78">
                  <c:v>0.95351</c:v>
                </c:pt>
                <c:pt idx="79">
                  <c:v>0.95204</c:v>
                </c:pt>
                <c:pt idx="80">
                  <c:v>0.96181</c:v>
                </c:pt>
                <c:pt idx="81">
                  <c:v>0.95542</c:v>
                </c:pt>
                <c:pt idx="82">
                  <c:v>0.94848</c:v>
                </c:pt>
                <c:pt idx="83">
                  <c:v>0.92066</c:v>
                </c:pt>
                <c:pt idx="98">
                  <c:v>0.82528</c:v>
                </c:pt>
                <c:pt idx="99">
                  <c:v>0.73031</c:v>
                </c:pt>
                <c:pt idx="100">
                  <c:v>0.67301</c:v>
                </c:pt>
                <c:pt idx="101">
                  <c:v>0.64162</c:v>
                </c:pt>
                <c:pt idx="102">
                  <c:v>0.62088</c:v>
                </c:pt>
                <c:pt idx="103">
                  <c:v>0.60499</c:v>
                </c:pt>
                <c:pt idx="105">
                  <c:v>0.59121</c:v>
                </c:pt>
                <c:pt idx="107">
                  <c:v>0.57439</c:v>
                </c:pt>
                <c:pt idx="108">
                  <c:v>0.56615</c:v>
                </c:pt>
                <c:pt idx="109">
                  <c:v>0.55796</c:v>
                </c:pt>
                <c:pt idx="110">
                  <c:v>0.54745</c:v>
                </c:pt>
                <c:pt idx="111">
                  <c:v>0.54094</c:v>
                </c:pt>
                <c:pt idx="113">
                  <c:v>0.52916</c:v>
                </c:pt>
                <c:pt idx="114">
                  <c:v>0.51782</c:v>
                </c:pt>
                <c:pt idx="117">
                  <c:v>0.50787</c:v>
                </c:pt>
                <c:pt idx="118">
                  <c:v>0.49332</c:v>
                </c:pt>
                <c:pt idx="119">
                  <c:v>0.48392</c:v>
                </c:pt>
                <c:pt idx="123">
                  <c:v>0.47555</c:v>
                </c:pt>
                <c:pt idx="124">
                  <c:v>0.46601</c:v>
                </c:pt>
                <c:pt idx="126">
                  <c:v>0.45823</c:v>
                </c:pt>
                <c:pt idx="128">
                  <c:v>0.4504</c:v>
                </c:pt>
                <c:pt idx="129">
                  <c:v>0.44628</c:v>
                </c:pt>
                <c:pt idx="130">
                  <c:v>0.44227</c:v>
                </c:pt>
                <c:pt idx="131">
                  <c:v>0.43841</c:v>
                </c:pt>
                <c:pt idx="132">
                  <c:v>0.43206</c:v>
                </c:pt>
                <c:pt idx="134">
                  <c:v>0.42673</c:v>
                </c:pt>
                <c:pt idx="135">
                  <c:v>0.4236</c:v>
                </c:pt>
                <c:pt idx="136">
                  <c:v>0.42028</c:v>
                </c:pt>
                <c:pt idx="137">
                  <c:v>0.41499</c:v>
                </c:pt>
                <c:pt idx="138">
                  <c:v>0.41165</c:v>
                </c:pt>
                <c:pt idx="139">
                  <c:v>0.40973</c:v>
                </c:pt>
                <c:pt idx="140">
                  <c:v>0.40647</c:v>
                </c:pt>
                <c:pt idx="141">
                  <c:v>0.40235</c:v>
                </c:pt>
                <c:pt idx="142">
                  <c:v>0.39914</c:v>
                </c:pt>
                <c:pt idx="143">
                  <c:v>0.39612</c:v>
                </c:pt>
                <c:pt idx="144">
                  <c:v>0.39295</c:v>
                </c:pt>
                <c:pt idx="145">
                  <c:v>0.39056</c:v>
                </c:pt>
                <c:pt idx="146">
                  <c:v>0.38822</c:v>
                </c:pt>
                <c:pt idx="147">
                  <c:v>0.38498</c:v>
                </c:pt>
                <c:pt idx="148">
                  <c:v>0.38197</c:v>
                </c:pt>
                <c:pt idx="149">
                  <c:v>0.37891</c:v>
                </c:pt>
                <c:pt idx="150">
                  <c:v>0.37598</c:v>
                </c:pt>
                <c:pt idx="151">
                  <c:v>0.37298</c:v>
                </c:pt>
                <c:pt idx="152">
                  <c:v>0.36809</c:v>
                </c:pt>
                <c:pt idx="153">
                  <c:v>0.3664</c:v>
                </c:pt>
                <c:pt idx="154">
                  <c:v>0.36384</c:v>
                </c:pt>
                <c:pt idx="155">
                  <c:v>0.36085</c:v>
                </c:pt>
                <c:pt idx="156">
                  <c:v>0.35768</c:v>
                </c:pt>
                <c:pt idx="157">
                  <c:v>0.35591</c:v>
                </c:pt>
              </c:numCache>
            </c:numRef>
          </c:yVal>
          <c:smooth val="0"/>
        </c:ser>
        <c:ser>
          <c:idx val="15"/>
          <c:order val="15"/>
          <c:tx>
            <c:strRef>
              <c:f>label 16</c:f>
              <c:strCache>
                <c:ptCount val="1"/>
                <c:pt idx="0">
                  <c:v>Spalte AI</c:v>
                </c:pt>
              </c:strCache>
            </c:strRef>
          </c:tx>
          <c:spPr>
            <a:solidFill>
              <a:srgbClr val="ffcc99"/>
            </a:solidFill>
            <a:ln w="21600">
              <a:solidFill>
                <a:srgbClr val="ffcc99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16</c:f>
              <c:numCache>
                <c:formatCode>General</c:formatCode>
                <c:ptCount val="171"/>
                <c:pt idx="1">
                  <c:v>0.25765</c:v>
                </c:pt>
                <c:pt idx="2">
                  <c:v>0.26075</c:v>
                </c:pt>
                <c:pt idx="3">
                  <c:v>0.26285</c:v>
                </c:pt>
                <c:pt idx="4">
                  <c:v>0.26555</c:v>
                </c:pt>
                <c:pt idx="5">
                  <c:v>0.27027</c:v>
                </c:pt>
                <c:pt idx="6">
                  <c:v>0.27825</c:v>
                </c:pt>
                <c:pt idx="7">
                  <c:v>0.28652</c:v>
                </c:pt>
                <c:pt idx="8">
                  <c:v>0.29471</c:v>
                </c:pt>
                <c:pt idx="9">
                  <c:v>0.30806</c:v>
                </c:pt>
                <c:pt idx="10">
                  <c:v>0.31711</c:v>
                </c:pt>
                <c:pt idx="11">
                  <c:v>0.32818</c:v>
                </c:pt>
                <c:pt idx="12">
                  <c:v>0.33754</c:v>
                </c:pt>
                <c:pt idx="13">
                  <c:v>0.34278</c:v>
                </c:pt>
                <c:pt idx="14">
                  <c:v>0.34942</c:v>
                </c:pt>
                <c:pt idx="16">
                  <c:v>0.35906</c:v>
                </c:pt>
                <c:pt idx="17">
                  <c:v>0.36894</c:v>
                </c:pt>
                <c:pt idx="19">
                  <c:v>0.38253</c:v>
                </c:pt>
                <c:pt idx="20">
                  <c:v>0.39049</c:v>
                </c:pt>
                <c:pt idx="21">
                  <c:v>0.39669</c:v>
                </c:pt>
                <c:pt idx="22">
                  <c:v>0.40671</c:v>
                </c:pt>
                <c:pt idx="24">
                  <c:v>0.41598</c:v>
                </c:pt>
                <c:pt idx="25">
                  <c:v>0.42107</c:v>
                </c:pt>
                <c:pt idx="26">
                  <c:v>0.43024</c:v>
                </c:pt>
                <c:pt idx="28">
                  <c:v>0.44148</c:v>
                </c:pt>
                <c:pt idx="29">
                  <c:v>0.45356</c:v>
                </c:pt>
                <c:pt idx="31">
                  <c:v>0.46447</c:v>
                </c:pt>
                <c:pt idx="32">
                  <c:v>0.47737</c:v>
                </c:pt>
                <c:pt idx="33">
                  <c:v>0.48972</c:v>
                </c:pt>
                <c:pt idx="35">
                  <c:v>0.49887</c:v>
                </c:pt>
                <c:pt idx="36">
                  <c:v>0.50828</c:v>
                </c:pt>
                <c:pt idx="37">
                  <c:v>0.51666</c:v>
                </c:pt>
                <c:pt idx="38">
                  <c:v>0.53109</c:v>
                </c:pt>
                <c:pt idx="39">
                  <c:v>0.54475</c:v>
                </c:pt>
                <c:pt idx="40">
                  <c:v>0.55554</c:v>
                </c:pt>
                <c:pt idx="41">
                  <c:v>0.56401</c:v>
                </c:pt>
                <c:pt idx="42">
                  <c:v>0.57724</c:v>
                </c:pt>
                <c:pt idx="44">
                  <c:v>0.5923</c:v>
                </c:pt>
                <c:pt idx="45">
                  <c:v>0.61036</c:v>
                </c:pt>
                <c:pt idx="46">
                  <c:v>0.62247</c:v>
                </c:pt>
                <c:pt idx="47">
                  <c:v>0.63146</c:v>
                </c:pt>
                <c:pt idx="48">
                  <c:v>0.64763</c:v>
                </c:pt>
                <c:pt idx="49">
                  <c:v>0.66421</c:v>
                </c:pt>
                <c:pt idx="50">
                  <c:v>0.67492</c:v>
                </c:pt>
                <c:pt idx="51">
                  <c:v>0.68992</c:v>
                </c:pt>
                <c:pt idx="52">
                  <c:v>0.70262</c:v>
                </c:pt>
                <c:pt idx="53">
                  <c:v>0.71524</c:v>
                </c:pt>
                <c:pt idx="54">
                  <c:v>0.72984</c:v>
                </c:pt>
                <c:pt idx="55">
                  <c:v>0.74523</c:v>
                </c:pt>
                <c:pt idx="56">
                  <c:v>0.7558</c:v>
                </c:pt>
                <c:pt idx="57">
                  <c:v>0.76637</c:v>
                </c:pt>
                <c:pt idx="58">
                  <c:v>0.78836</c:v>
                </c:pt>
                <c:pt idx="59">
                  <c:v>0.80856</c:v>
                </c:pt>
                <c:pt idx="60">
                  <c:v>0.82533</c:v>
                </c:pt>
                <c:pt idx="61">
                  <c:v>0.84085</c:v>
                </c:pt>
                <c:pt idx="62">
                  <c:v>0.8554</c:v>
                </c:pt>
                <c:pt idx="63">
                  <c:v>0.87621</c:v>
                </c:pt>
                <c:pt idx="64">
                  <c:v>0.89447</c:v>
                </c:pt>
                <c:pt idx="65">
                  <c:v>0.89897</c:v>
                </c:pt>
                <c:pt idx="66">
                  <c:v>0.90239</c:v>
                </c:pt>
                <c:pt idx="67">
                  <c:v>0.91863</c:v>
                </c:pt>
                <c:pt idx="68">
                  <c:v>0.93559</c:v>
                </c:pt>
                <c:pt idx="69">
                  <c:v>0.94651</c:v>
                </c:pt>
                <c:pt idx="70">
                  <c:v>0.95165</c:v>
                </c:pt>
                <c:pt idx="71">
                  <c:v>0.94812</c:v>
                </c:pt>
                <c:pt idx="72">
                  <c:v>0.93182</c:v>
                </c:pt>
                <c:pt idx="73">
                  <c:v>0.92283</c:v>
                </c:pt>
                <c:pt idx="74">
                  <c:v>0.90756</c:v>
                </c:pt>
                <c:pt idx="75">
                  <c:v>0.90887</c:v>
                </c:pt>
                <c:pt idx="76">
                  <c:v>0.89462</c:v>
                </c:pt>
                <c:pt idx="77">
                  <c:v>0.87724</c:v>
                </c:pt>
                <c:pt idx="78">
                  <c:v>0.87349</c:v>
                </c:pt>
                <c:pt idx="79">
                  <c:v>0.84775</c:v>
                </c:pt>
                <c:pt idx="80">
                  <c:v>0.84886</c:v>
                </c:pt>
                <c:pt idx="81">
                  <c:v>0.84814</c:v>
                </c:pt>
                <c:pt idx="82">
                  <c:v>0.8259</c:v>
                </c:pt>
                <c:pt idx="99">
                  <c:v>0.71826</c:v>
                </c:pt>
                <c:pt idx="100">
                  <c:v>0.69363</c:v>
                </c:pt>
                <c:pt idx="101">
                  <c:v>0.67615</c:v>
                </c:pt>
                <c:pt idx="102">
                  <c:v>0.66207</c:v>
                </c:pt>
                <c:pt idx="103">
                  <c:v>0.63997</c:v>
                </c:pt>
                <c:pt idx="105">
                  <c:v>0.62006</c:v>
                </c:pt>
                <c:pt idx="106">
                  <c:v>0.60791</c:v>
                </c:pt>
                <c:pt idx="107">
                  <c:v>0.59543</c:v>
                </c:pt>
                <c:pt idx="108">
                  <c:v>0.58375</c:v>
                </c:pt>
                <c:pt idx="111">
                  <c:v>0.57133</c:v>
                </c:pt>
                <c:pt idx="112">
                  <c:v>0.55917</c:v>
                </c:pt>
                <c:pt idx="113">
                  <c:v>0.54895</c:v>
                </c:pt>
                <c:pt idx="114">
                  <c:v>0.53854</c:v>
                </c:pt>
                <c:pt idx="116">
                  <c:v>0.52883</c:v>
                </c:pt>
                <c:pt idx="117">
                  <c:v>0.5186</c:v>
                </c:pt>
                <c:pt idx="120">
                  <c:v>0.50758</c:v>
                </c:pt>
                <c:pt idx="121">
                  <c:v>0.49697</c:v>
                </c:pt>
                <c:pt idx="122">
                  <c:v>0.4884</c:v>
                </c:pt>
                <c:pt idx="125">
                  <c:v>0.48161</c:v>
                </c:pt>
                <c:pt idx="126">
                  <c:v>0.47084</c:v>
                </c:pt>
                <c:pt idx="127">
                  <c:v>0.46024</c:v>
                </c:pt>
                <c:pt idx="128">
                  <c:v>0.4561</c:v>
                </c:pt>
                <c:pt idx="131">
                  <c:v>0.4465</c:v>
                </c:pt>
                <c:pt idx="132">
                  <c:v>0.43757</c:v>
                </c:pt>
                <c:pt idx="133">
                  <c:v>0.43342</c:v>
                </c:pt>
                <c:pt idx="134">
                  <c:v>0.42579</c:v>
                </c:pt>
                <c:pt idx="136">
                  <c:v>0.42251</c:v>
                </c:pt>
                <c:pt idx="137">
                  <c:v>0.4155</c:v>
                </c:pt>
                <c:pt idx="138">
                  <c:v>0.40922</c:v>
                </c:pt>
                <c:pt idx="139">
                  <c:v>0.40258</c:v>
                </c:pt>
                <c:pt idx="140">
                  <c:v>0.39889</c:v>
                </c:pt>
                <c:pt idx="141">
                  <c:v>0.39592</c:v>
                </c:pt>
                <c:pt idx="142">
                  <c:v>0.39112</c:v>
                </c:pt>
                <c:pt idx="143">
                  <c:v>0.38646</c:v>
                </c:pt>
                <c:pt idx="144">
                  <c:v>0.38228</c:v>
                </c:pt>
                <c:pt idx="145">
                  <c:v>0.37898</c:v>
                </c:pt>
                <c:pt idx="146">
                  <c:v>0.37443</c:v>
                </c:pt>
                <c:pt idx="147">
                  <c:v>0.37114</c:v>
                </c:pt>
                <c:pt idx="148">
                  <c:v>0.36672</c:v>
                </c:pt>
                <c:pt idx="149">
                  <c:v>0.36272</c:v>
                </c:pt>
                <c:pt idx="150">
                  <c:v>0.35878</c:v>
                </c:pt>
                <c:pt idx="151">
                  <c:v>0.35488</c:v>
                </c:pt>
                <c:pt idx="152">
                  <c:v>0.35094</c:v>
                </c:pt>
                <c:pt idx="153">
                  <c:v>0.34703</c:v>
                </c:pt>
                <c:pt idx="154">
                  <c:v>0.34326</c:v>
                </c:pt>
                <c:pt idx="155">
                  <c:v>0.34004</c:v>
                </c:pt>
                <c:pt idx="156">
                  <c:v>0.33657</c:v>
                </c:pt>
                <c:pt idx="157">
                  <c:v>0.33455</c:v>
                </c:pt>
              </c:numCache>
            </c:numRef>
          </c:yVal>
          <c:smooth val="0"/>
        </c:ser>
        <c:ser>
          <c:idx val="16"/>
          <c:order val="16"/>
          <c:tx>
            <c:strRef>
              <c:f>label 17</c:f>
              <c:strCache>
                <c:ptCount val="1"/>
                <c:pt idx="0">
                  <c:v>Spalte AK</c:v>
                </c:pt>
              </c:strCache>
            </c:strRef>
          </c:tx>
          <c:spPr>
            <a:solidFill>
              <a:srgbClr val="3366ff"/>
            </a:solidFill>
            <a:ln w="21600">
              <a:solidFill>
                <a:srgbClr val="3366ff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17</c:f>
              <c:numCache>
                <c:formatCode>General</c:formatCode>
                <c:ptCount val="171"/>
                <c:pt idx="4">
                  <c:v>0.235</c:v>
                </c:pt>
                <c:pt idx="5">
                  <c:v>0.23782</c:v>
                </c:pt>
                <c:pt idx="7">
                  <c:v>0.24556</c:v>
                </c:pt>
                <c:pt idx="8">
                  <c:v>0.25571</c:v>
                </c:pt>
                <c:pt idx="9">
                  <c:v>0.26722</c:v>
                </c:pt>
                <c:pt idx="10">
                  <c:v>0.27504</c:v>
                </c:pt>
                <c:pt idx="11">
                  <c:v>0.28227</c:v>
                </c:pt>
                <c:pt idx="12">
                  <c:v>0.29156</c:v>
                </c:pt>
                <c:pt idx="13">
                  <c:v>0.30445</c:v>
                </c:pt>
                <c:pt idx="14">
                  <c:v>0.31101</c:v>
                </c:pt>
                <c:pt idx="15">
                  <c:v>0.31148</c:v>
                </c:pt>
                <c:pt idx="16">
                  <c:v>0.31805</c:v>
                </c:pt>
                <c:pt idx="17">
                  <c:v>0.32794</c:v>
                </c:pt>
                <c:pt idx="18">
                  <c:v>0.3338</c:v>
                </c:pt>
                <c:pt idx="19">
                  <c:v>0.34274</c:v>
                </c:pt>
                <c:pt idx="20">
                  <c:v>0.35315</c:v>
                </c:pt>
                <c:pt idx="22">
                  <c:v>0.36084</c:v>
                </c:pt>
                <c:pt idx="23">
                  <c:v>0.37382</c:v>
                </c:pt>
                <c:pt idx="24">
                  <c:v>0.38369</c:v>
                </c:pt>
                <c:pt idx="25">
                  <c:v>0.38623</c:v>
                </c:pt>
                <c:pt idx="26">
                  <c:v>0.39934</c:v>
                </c:pt>
                <c:pt idx="27">
                  <c:v>0.4089</c:v>
                </c:pt>
                <c:pt idx="29">
                  <c:v>0.42087</c:v>
                </c:pt>
                <c:pt idx="30">
                  <c:v>0.4332</c:v>
                </c:pt>
                <c:pt idx="31">
                  <c:v>0.44036</c:v>
                </c:pt>
                <c:pt idx="32">
                  <c:v>0.45033</c:v>
                </c:pt>
                <c:pt idx="33">
                  <c:v>0.45742</c:v>
                </c:pt>
                <c:pt idx="34">
                  <c:v>0.46753</c:v>
                </c:pt>
                <c:pt idx="35">
                  <c:v>0.47554</c:v>
                </c:pt>
                <c:pt idx="36">
                  <c:v>0.48296</c:v>
                </c:pt>
                <c:pt idx="37">
                  <c:v>0.49404</c:v>
                </c:pt>
                <c:pt idx="38">
                  <c:v>0.50672</c:v>
                </c:pt>
                <c:pt idx="40">
                  <c:v>0.5205</c:v>
                </c:pt>
                <c:pt idx="41">
                  <c:v>0.53208</c:v>
                </c:pt>
                <c:pt idx="42">
                  <c:v>0.54084</c:v>
                </c:pt>
                <c:pt idx="43">
                  <c:v>0.55022</c:v>
                </c:pt>
                <c:pt idx="44">
                  <c:v>0.56162</c:v>
                </c:pt>
                <c:pt idx="45">
                  <c:v>0.5738</c:v>
                </c:pt>
                <c:pt idx="46">
                  <c:v>0.58418</c:v>
                </c:pt>
                <c:pt idx="47">
                  <c:v>0.60684</c:v>
                </c:pt>
                <c:pt idx="49">
                  <c:v>0.61915</c:v>
                </c:pt>
                <c:pt idx="50">
                  <c:v>0.626</c:v>
                </c:pt>
                <c:pt idx="51">
                  <c:v>0.63423</c:v>
                </c:pt>
                <c:pt idx="52">
                  <c:v>0.64524</c:v>
                </c:pt>
                <c:pt idx="53">
                  <c:v>0.66209</c:v>
                </c:pt>
                <c:pt idx="54">
                  <c:v>0.67607</c:v>
                </c:pt>
                <c:pt idx="55">
                  <c:v>0.68365</c:v>
                </c:pt>
                <c:pt idx="56">
                  <c:v>0.69495</c:v>
                </c:pt>
                <c:pt idx="57">
                  <c:v>0.71062</c:v>
                </c:pt>
                <c:pt idx="58">
                  <c:v>0.72398</c:v>
                </c:pt>
                <c:pt idx="59">
                  <c:v>0.74068</c:v>
                </c:pt>
                <c:pt idx="60">
                  <c:v>0.75764</c:v>
                </c:pt>
                <c:pt idx="61">
                  <c:v>0.77248</c:v>
                </c:pt>
                <c:pt idx="62">
                  <c:v>0.7887</c:v>
                </c:pt>
                <c:pt idx="63">
                  <c:v>0.80172</c:v>
                </c:pt>
                <c:pt idx="64">
                  <c:v>0.82032</c:v>
                </c:pt>
                <c:pt idx="65">
                  <c:v>0.85172</c:v>
                </c:pt>
                <c:pt idx="66">
                  <c:v>0.8505</c:v>
                </c:pt>
                <c:pt idx="67">
                  <c:v>0.84919</c:v>
                </c:pt>
                <c:pt idx="68">
                  <c:v>0.84779</c:v>
                </c:pt>
                <c:pt idx="69">
                  <c:v>0.84258</c:v>
                </c:pt>
                <c:pt idx="70">
                  <c:v>0.83621</c:v>
                </c:pt>
                <c:pt idx="71">
                  <c:v>0.83653</c:v>
                </c:pt>
                <c:pt idx="72">
                  <c:v>0.84725</c:v>
                </c:pt>
                <c:pt idx="73">
                  <c:v>0.83978</c:v>
                </c:pt>
                <c:pt idx="74">
                  <c:v>0.83635</c:v>
                </c:pt>
                <c:pt idx="75">
                  <c:v>0.83538</c:v>
                </c:pt>
                <c:pt idx="76">
                  <c:v>0.83552</c:v>
                </c:pt>
                <c:pt idx="77">
                  <c:v>0.83531</c:v>
                </c:pt>
                <c:pt idx="78">
                  <c:v>0.8361</c:v>
                </c:pt>
                <c:pt idx="79">
                  <c:v>0.83897</c:v>
                </c:pt>
                <c:pt idx="80">
                  <c:v>0.82881</c:v>
                </c:pt>
                <c:pt idx="81">
                  <c:v>0.81846</c:v>
                </c:pt>
                <c:pt idx="82">
                  <c:v>0.76859</c:v>
                </c:pt>
                <c:pt idx="99">
                  <c:v>0.67179</c:v>
                </c:pt>
                <c:pt idx="100">
                  <c:v>0.64852</c:v>
                </c:pt>
                <c:pt idx="101">
                  <c:v>0.63144</c:v>
                </c:pt>
                <c:pt idx="102">
                  <c:v>0.61637</c:v>
                </c:pt>
                <c:pt idx="103">
                  <c:v>0.60895</c:v>
                </c:pt>
                <c:pt idx="104">
                  <c:v>0.60081</c:v>
                </c:pt>
                <c:pt idx="105">
                  <c:v>0.59318</c:v>
                </c:pt>
                <c:pt idx="106">
                  <c:v>0.58578</c:v>
                </c:pt>
                <c:pt idx="107">
                  <c:v>0.5786</c:v>
                </c:pt>
                <c:pt idx="108">
                  <c:v>0.57137</c:v>
                </c:pt>
                <c:pt idx="109">
                  <c:v>0.5647</c:v>
                </c:pt>
                <c:pt idx="110">
                  <c:v>0.5553</c:v>
                </c:pt>
                <c:pt idx="112">
                  <c:v>0.5502</c:v>
                </c:pt>
                <c:pt idx="114">
                  <c:v>0.54196</c:v>
                </c:pt>
                <c:pt idx="115">
                  <c:v>0.53666</c:v>
                </c:pt>
                <c:pt idx="116">
                  <c:v>0.53109</c:v>
                </c:pt>
                <c:pt idx="118">
                  <c:v>0.52191</c:v>
                </c:pt>
                <c:pt idx="119">
                  <c:v>0.51441</c:v>
                </c:pt>
                <c:pt idx="120">
                  <c:v>0.5104</c:v>
                </c:pt>
                <c:pt idx="121">
                  <c:v>0.50049</c:v>
                </c:pt>
                <c:pt idx="122">
                  <c:v>0.48904</c:v>
                </c:pt>
                <c:pt idx="124">
                  <c:v>0.48466</c:v>
                </c:pt>
                <c:pt idx="125">
                  <c:v>0.47822</c:v>
                </c:pt>
                <c:pt idx="126">
                  <c:v>0.47318</c:v>
                </c:pt>
                <c:pt idx="127">
                  <c:v>0.46365</c:v>
                </c:pt>
                <c:pt idx="128">
                  <c:v>0.45602</c:v>
                </c:pt>
                <c:pt idx="129">
                  <c:v>0.45086</c:v>
                </c:pt>
                <c:pt idx="130">
                  <c:v>0.44675</c:v>
                </c:pt>
                <c:pt idx="131">
                  <c:v>0.44269</c:v>
                </c:pt>
                <c:pt idx="132">
                  <c:v>0.43442</c:v>
                </c:pt>
                <c:pt idx="133">
                  <c:v>0.42923</c:v>
                </c:pt>
                <c:pt idx="134">
                  <c:v>0.42718</c:v>
                </c:pt>
                <c:pt idx="136">
                  <c:v>0.42205</c:v>
                </c:pt>
                <c:pt idx="137">
                  <c:v>0.41753</c:v>
                </c:pt>
                <c:pt idx="138">
                  <c:v>0.4152</c:v>
                </c:pt>
                <c:pt idx="139">
                  <c:v>0.411</c:v>
                </c:pt>
                <c:pt idx="140">
                  <c:v>0.40769</c:v>
                </c:pt>
                <c:pt idx="141">
                  <c:v>0.40176</c:v>
                </c:pt>
                <c:pt idx="143">
                  <c:v>0.39596</c:v>
                </c:pt>
                <c:pt idx="144">
                  <c:v>0.39128</c:v>
                </c:pt>
                <c:pt idx="145">
                  <c:v>0.38716</c:v>
                </c:pt>
                <c:pt idx="146">
                  <c:v>0.38348</c:v>
                </c:pt>
                <c:pt idx="147">
                  <c:v>0.3809</c:v>
                </c:pt>
                <c:pt idx="148">
                  <c:v>0.37631</c:v>
                </c:pt>
                <c:pt idx="149">
                  <c:v>0.37411</c:v>
                </c:pt>
                <c:pt idx="150">
                  <c:v>0.37265</c:v>
                </c:pt>
                <c:pt idx="151">
                  <c:v>0.36812</c:v>
                </c:pt>
                <c:pt idx="152">
                  <c:v>0.36331</c:v>
                </c:pt>
                <c:pt idx="153">
                  <c:v>0.3608</c:v>
                </c:pt>
                <c:pt idx="154">
                  <c:v>0.3599</c:v>
                </c:pt>
                <c:pt idx="155">
                  <c:v>0.35707</c:v>
                </c:pt>
                <c:pt idx="156">
                  <c:v>0.35672</c:v>
                </c:pt>
                <c:pt idx="157">
                  <c:v>0.35688</c:v>
                </c:pt>
              </c:numCache>
            </c:numRef>
          </c:yVal>
          <c:smooth val="0"/>
        </c:ser>
        <c:ser>
          <c:idx val="17"/>
          <c:order val="17"/>
          <c:tx>
            <c:strRef>
              <c:f>label 18</c:f>
              <c:strCache>
                <c:ptCount val="1"/>
                <c:pt idx="0">
                  <c:v>Spalte AM</c:v>
                </c:pt>
              </c:strCache>
            </c:strRef>
          </c:tx>
          <c:spPr>
            <a:solidFill>
              <a:srgbClr val="33cccc"/>
            </a:solidFill>
            <a:ln w="21600">
              <a:solidFill>
                <a:srgbClr val="33cccc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18</c:f>
              <c:numCache>
                <c:formatCode>General</c:formatCode>
                <c:ptCount val="171"/>
                <c:pt idx="3">
                  <c:v>0.25946</c:v>
                </c:pt>
                <c:pt idx="4">
                  <c:v>0.26123</c:v>
                </c:pt>
                <c:pt idx="5">
                  <c:v>0.2642</c:v>
                </c:pt>
                <c:pt idx="6">
                  <c:v>0.26994</c:v>
                </c:pt>
                <c:pt idx="7">
                  <c:v>0.2809</c:v>
                </c:pt>
                <c:pt idx="8">
                  <c:v>0.29523</c:v>
                </c:pt>
                <c:pt idx="9">
                  <c:v>0.31041</c:v>
                </c:pt>
                <c:pt idx="10">
                  <c:v>0.32739</c:v>
                </c:pt>
                <c:pt idx="11">
                  <c:v>0.3415</c:v>
                </c:pt>
                <c:pt idx="12">
                  <c:v>0.35408</c:v>
                </c:pt>
                <c:pt idx="13">
                  <c:v>0.36699</c:v>
                </c:pt>
                <c:pt idx="14">
                  <c:v>0.37866</c:v>
                </c:pt>
                <c:pt idx="15">
                  <c:v>0.39246</c:v>
                </c:pt>
                <c:pt idx="16">
                  <c:v>0.40633</c:v>
                </c:pt>
                <c:pt idx="17">
                  <c:v>0.41733</c:v>
                </c:pt>
                <c:pt idx="18">
                  <c:v>0.42854</c:v>
                </c:pt>
                <c:pt idx="19">
                  <c:v>0.43991</c:v>
                </c:pt>
                <c:pt idx="20">
                  <c:v>0.45132</c:v>
                </c:pt>
                <c:pt idx="21">
                  <c:v>0.46285</c:v>
                </c:pt>
                <c:pt idx="22">
                  <c:v>0.47055</c:v>
                </c:pt>
                <c:pt idx="23">
                  <c:v>0.47811</c:v>
                </c:pt>
                <c:pt idx="24">
                  <c:v>0.48567</c:v>
                </c:pt>
                <c:pt idx="25">
                  <c:v>0.49319</c:v>
                </c:pt>
                <c:pt idx="26">
                  <c:v>0.50043</c:v>
                </c:pt>
                <c:pt idx="27">
                  <c:v>0.50751</c:v>
                </c:pt>
                <c:pt idx="28">
                  <c:v>0.51462</c:v>
                </c:pt>
                <c:pt idx="29">
                  <c:v>0.5214</c:v>
                </c:pt>
                <c:pt idx="30">
                  <c:v>0.52839</c:v>
                </c:pt>
                <c:pt idx="31">
                  <c:v>0.53498</c:v>
                </c:pt>
                <c:pt idx="32">
                  <c:v>0.54166</c:v>
                </c:pt>
                <c:pt idx="33">
                  <c:v>0.54837</c:v>
                </c:pt>
                <c:pt idx="34">
                  <c:v>0.55486</c:v>
                </c:pt>
                <c:pt idx="35">
                  <c:v>0.56163</c:v>
                </c:pt>
                <c:pt idx="36">
                  <c:v>0.56816</c:v>
                </c:pt>
                <c:pt idx="37">
                  <c:v>0.57478</c:v>
                </c:pt>
                <c:pt idx="38">
                  <c:v>0.58079</c:v>
                </c:pt>
                <c:pt idx="39">
                  <c:v>0.58643</c:v>
                </c:pt>
                <c:pt idx="40">
                  <c:v>0.59208</c:v>
                </c:pt>
                <c:pt idx="41">
                  <c:v>0.59714</c:v>
                </c:pt>
                <c:pt idx="42">
                  <c:v>0.60203</c:v>
                </c:pt>
                <c:pt idx="43">
                  <c:v>0.609</c:v>
                </c:pt>
                <c:pt idx="44">
                  <c:v>0.62089</c:v>
                </c:pt>
                <c:pt idx="45">
                  <c:v>0.62683</c:v>
                </c:pt>
                <c:pt idx="46">
                  <c:v>0.6271</c:v>
                </c:pt>
                <c:pt idx="47">
                  <c:v>0.63159</c:v>
                </c:pt>
                <c:pt idx="48">
                  <c:v>0.63864</c:v>
                </c:pt>
                <c:pt idx="49">
                  <c:v>0.6449</c:v>
                </c:pt>
                <c:pt idx="50">
                  <c:v>0.65092</c:v>
                </c:pt>
                <c:pt idx="51">
                  <c:v>0.65661</c:v>
                </c:pt>
                <c:pt idx="52">
                  <c:v>0.6646</c:v>
                </c:pt>
                <c:pt idx="53">
                  <c:v>0.67067</c:v>
                </c:pt>
                <c:pt idx="54">
                  <c:v>0.67661</c:v>
                </c:pt>
                <c:pt idx="55">
                  <c:v>0.68516</c:v>
                </c:pt>
                <c:pt idx="56">
                  <c:v>0.69162</c:v>
                </c:pt>
                <c:pt idx="57">
                  <c:v>0.70942</c:v>
                </c:pt>
                <c:pt idx="58">
                  <c:v>0.71994</c:v>
                </c:pt>
                <c:pt idx="59">
                  <c:v>0.72551</c:v>
                </c:pt>
                <c:pt idx="60">
                  <c:v>0.74046</c:v>
                </c:pt>
                <c:pt idx="61">
                  <c:v>0.75202</c:v>
                </c:pt>
                <c:pt idx="62">
                  <c:v>0.76409</c:v>
                </c:pt>
                <c:pt idx="63">
                  <c:v>0.77561</c:v>
                </c:pt>
                <c:pt idx="64">
                  <c:v>0.78034</c:v>
                </c:pt>
                <c:pt idx="65">
                  <c:v>0.77825</c:v>
                </c:pt>
                <c:pt idx="66">
                  <c:v>0.77713</c:v>
                </c:pt>
                <c:pt idx="67">
                  <c:v>0.77951</c:v>
                </c:pt>
                <c:pt idx="68">
                  <c:v>0.77711</c:v>
                </c:pt>
                <c:pt idx="69">
                  <c:v>0.77244</c:v>
                </c:pt>
                <c:pt idx="70">
                  <c:v>0.77245</c:v>
                </c:pt>
                <c:pt idx="71">
                  <c:v>0.7748</c:v>
                </c:pt>
                <c:pt idx="72">
                  <c:v>0.77968</c:v>
                </c:pt>
                <c:pt idx="73">
                  <c:v>0.77847</c:v>
                </c:pt>
                <c:pt idx="74">
                  <c:v>0.77681</c:v>
                </c:pt>
                <c:pt idx="75">
                  <c:v>0.77534</c:v>
                </c:pt>
                <c:pt idx="76">
                  <c:v>0.772</c:v>
                </c:pt>
                <c:pt idx="77">
                  <c:v>0.76902</c:v>
                </c:pt>
                <c:pt idx="78">
                  <c:v>0.76266</c:v>
                </c:pt>
                <c:pt idx="79">
                  <c:v>0.75619</c:v>
                </c:pt>
                <c:pt idx="80">
                  <c:v>0.72247</c:v>
                </c:pt>
                <c:pt idx="101">
                  <c:v>0.65212</c:v>
                </c:pt>
                <c:pt idx="102">
                  <c:v>0.57682</c:v>
                </c:pt>
                <c:pt idx="103">
                  <c:v>0.55952</c:v>
                </c:pt>
                <c:pt idx="104">
                  <c:v>0.54518</c:v>
                </c:pt>
                <c:pt idx="105">
                  <c:v>0.53458</c:v>
                </c:pt>
                <c:pt idx="106">
                  <c:v>0.52824</c:v>
                </c:pt>
                <c:pt idx="107">
                  <c:v>0.52115</c:v>
                </c:pt>
                <c:pt idx="108">
                  <c:v>0.51599</c:v>
                </c:pt>
                <c:pt idx="109">
                  <c:v>0.51079</c:v>
                </c:pt>
                <c:pt idx="110">
                  <c:v>0.50538</c:v>
                </c:pt>
                <c:pt idx="112">
                  <c:v>0.49981</c:v>
                </c:pt>
                <c:pt idx="113">
                  <c:v>0.49425</c:v>
                </c:pt>
                <c:pt idx="114">
                  <c:v>0.48845</c:v>
                </c:pt>
                <c:pt idx="115">
                  <c:v>0.48252</c:v>
                </c:pt>
                <c:pt idx="116">
                  <c:v>0.47733</c:v>
                </c:pt>
                <c:pt idx="118">
                  <c:v>0.47162</c:v>
                </c:pt>
                <c:pt idx="119">
                  <c:v>0.46547</c:v>
                </c:pt>
                <c:pt idx="120">
                  <c:v>0.4595</c:v>
                </c:pt>
                <c:pt idx="121">
                  <c:v>0.45384</c:v>
                </c:pt>
                <c:pt idx="122">
                  <c:v>0.44844</c:v>
                </c:pt>
                <c:pt idx="124">
                  <c:v>0.44329</c:v>
                </c:pt>
                <c:pt idx="125">
                  <c:v>0.43842</c:v>
                </c:pt>
                <c:pt idx="126">
                  <c:v>0.43387</c:v>
                </c:pt>
                <c:pt idx="127">
                  <c:v>0.4296</c:v>
                </c:pt>
                <c:pt idx="128">
                  <c:v>0.42565</c:v>
                </c:pt>
                <c:pt idx="129">
                  <c:v>0.42202</c:v>
                </c:pt>
                <c:pt idx="130">
                  <c:v>0.41863</c:v>
                </c:pt>
                <c:pt idx="131">
                  <c:v>0.41387</c:v>
                </c:pt>
                <c:pt idx="132">
                  <c:v>0.40947</c:v>
                </c:pt>
                <c:pt idx="133">
                  <c:v>0.40666</c:v>
                </c:pt>
                <c:pt idx="134">
                  <c:v>0.40401</c:v>
                </c:pt>
                <c:pt idx="135">
                  <c:v>0.40141</c:v>
                </c:pt>
                <c:pt idx="136">
                  <c:v>0.39767</c:v>
                </c:pt>
                <c:pt idx="138">
                  <c:v>0.3942</c:v>
                </c:pt>
                <c:pt idx="139">
                  <c:v>0.39217</c:v>
                </c:pt>
                <c:pt idx="140">
                  <c:v>0.38866</c:v>
                </c:pt>
                <c:pt idx="141">
                  <c:v>0.38563</c:v>
                </c:pt>
                <c:pt idx="142">
                  <c:v>0.38034</c:v>
                </c:pt>
                <c:pt idx="143">
                  <c:v>0.37741</c:v>
                </c:pt>
                <c:pt idx="144">
                  <c:v>0.37628</c:v>
                </c:pt>
                <c:pt idx="145">
                  <c:v>0.37309</c:v>
                </c:pt>
                <c:pt idx="146">
                  <c:v>0.36798</c:v>
                </c:pt>
                <c:pt idx="147">
                  <c:v>0.36682</c:v>
                </c:pt>
                <c:pt idx="148">
                  <c:v>0.36503</c:v>
                </c:pt>
                <c:pt idx="149">
                  <c:v>0.35998</c:v>
                </c:pt>
                <c:pt idx="150">
                  <c:v>0.35789</c:v>
                </c:pt>
                <c:pt idx="151">
                  <c:v>0.35514</c:v>
                </c:pt>
                <c:pt idx="152">
                  <c:v>0.35083</c:v>
                </c:pt>
                <c:pt idx="153">
                  <c:v>0.34912</c:v>
                </c:pt>
                <c:pt idx="154">
                  <c:v>0.34645</c:v>
                </c:pt>
                <c:pt idx="155">
                  <c:v>0.34406</c:v>
                </c:pt>
              </c:numCache>
            </c:numRef>
          </c:yVal>
          <c:smooth val="0"/>
        </c:ser>
        <c:ser>
          <c:idx val="18"/>
          <c:order val="18"/>
          <c:tx>
            <c:strRef>
              <c:f>label 19</c:f>
              <c:strCache>
                <c:ptCount val="1"/>
                <c:pt idx="0">
                  <c:v>Spalte AO</c:v>
                </c:pt>
              </c:strCache>
            </c:strRef>
          </c:tx>
          <c:spPr>
            <a:solidFill>
              <a:srgbClr val="99cc00"/>
            </a:solidFill>
            <a:ln w="21600">
              <a:solidFill>
                <a:srgbClr val="99cc00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19</c:f>
              <c:numCache>
                <c:formatCode>General</c:formatCode>
                <c:ptCount val="171"/>
                <c:pt idx="5">
                  <c:v>0.27558</c:v>
                </c:pt>
                <c:pt idx="6">
                  <c:v>0.28282</c:v>
                </c:pt>
                <c:pt idx="7">
                  <c:v>0.28935</c:v>
                </c:pt>
                <c:pt idx="8">
                  <c:v>0.29686</c:v>
                </c:pt>
                <c:pt idx="9">
                  <c:v>0.305</c:v>
                </c:pt>
                <c:pt idx="10">
                  <c:v>0.31209</c:v>
                </c:pt>
                <c:pt idx="11">
                  <c:v>0.31755</c:v>
                </c:pt>
                <c:pt idx="12">
                  <c:v>0.32324</c:v>
                </c:pt>
                <c:pt idx="13">
                  <c:v>0.33121</c:v>
                </c:pt>
                <c:pt idx="14">
                  <c:v>0.33741</c:v>
                </c:pt>
                <c:pt idx="15">
                  <c:v>0.34384</c:v>
                </c:pt>
                <c:pt idx="16">
                  <c:v>0.35041</c:v>
                </c:pt>
                <c:pt idx="17">
                  <c:v>0.35721</c:v>
                </c:pt>
                <c:pt idx="18">
                  <c:v>0.36427</c:v>
                </c:pt>
                <c:pt idx="19">
                  <c:v>0.36906</c:v>
                </c:pt>
                <c:pt idx="20">
                  <c:v>0.37644</c:v>
                </c:pt>
                <c:pt idx="21">
                  <c:v>0.38403</c:v>
                </c:pt>
                <c:pt idx="22">
                  <c:v>0.38923</c:v>
                </c:pt>
                <c:pt idx="23">
                  <c:v>0.39451</c:v>
                </c:pt>
                <c:pt idx="24">
                  <c:v>0.40017</c:v>
                </c:pt>
                <c:pt idx="25">
                  <c:v>0.40603</c:v>
                </c:pt>
                <c:pt idx="26">
                  <c:v>0.41446</c:v>
                </c:pt>
                <c:pt idx="27">
                  <c:v>0.42271</c:v>
                </c:pt>
                <c:pt idx="28">
                  <c:v>0.42836</c:v>
                </c:pt>
                <c:pt idx="29">
                  <c:v>0.43401</c:v>
                </c:pt>
                <c:pt idx="30">
                  <c:v>0.44522</c:v>
                </c:pt>
                <c:pt idx="31">
                  <c:v>0.45714</c:v>
                </c:pt>
                <c:pt idx="32">
                  <c:v>0.46467</c:v>
                </c:pt>
                <c:pt idx="34">
                  <c:v>0.47336</c:v>
                </c:pt>
                <c:pt idx="35">
                  <c:v>0.47728</c:v>
                </c:pt>
                <c:pt idx="37">
                  <c:v>0.4852</c:v>
                </c:pt>
                <c:pt idx="38">
                  <c:v>0.49252</c:v>
                </c:pt>
                <c:pt idx="39">
                  <c:v>0.49731</c:v>
                </c:pt>
                <c:pt idx="40">
                  <c:v>0.5049</c:v>
                </c:pt>
                <c:pt idx="41">
                  <c:v>0.51188</c:v>
                </c:pt>
                <c:pt idx="42">
                  <c:v>0.51902</c:v>
                </c:pt>
                <c:pt idx="43">
                  <c:v>0.5272</c:v>
                </c:pt>
                <c:pt idx="44">
                  <c:v>0.53524</c:v>
                </c:pt>
                <c:pt idx="45">
                  <c:v>0.54241</c:v>
                </c:pt>
                <c:pt idx="46">
                  <c:v>0.55171</c:v>
                </c:pt>
                <c:pt idx="47">
                  <c:v>0.5581</c:v>
                </c:pt>
                <c:pt idx="48">
                  <c:v>0.56872</c:v>
                </c:pt>
                <c:pt idx="49">
                  <c:v>0.58303</c:v>
                </c:pt>
                <c:pt idx="50">
                  <c:v>0.59665</c:v>
                </c:pt>
                <c:pt idx="51">
                  <c:v>0.6136</c:v>
                </c:pt>
                <c:pt idx="52">
                  <c:v>0.63188</c:v>
                </c:pt>
                <c:pt idx="53">
                  <c:v>0.64099</c:v>
                </c:pt>
                <c:pt idx="54">
                  <c:v>0.64792</c:v>
                </c:pt>
                <c:pt idx="55">
                  <c:v>0.66375</c:v>
                </c:pt>
                <c:pt idx="56">
                  <c:v>0.68014</c:v>
                </c:pt>
                <c:pt idx="57">
                  <c:v>0.69601</c:v>
                </c:pt>
                <c:pt idx="58">
                  <c:v>0.71109</c:v>
                </c:pt>
                <c:pt idx="59">
                  <c:v>0.73759</c:v>
                </c:pt>
                <c:pt idx="60">
                  <c:v>0.74838</c:v>
                </c:pt>
                <c:pt idx="61">
                  <c:v>0.76791</c:v>
                </c:pt>
                <c:pt idx="62">
                  <c:v>0.7907</c:v>
                </c:pt>
                <c:pt idx="63">
                  <c:v>0.80664</c:v>
                </c:pt>
                <c:pt idx="65">
                  <c:v>0.85561</c:v>
                </c:pt>
                <c:pt idx="66">
                  <c:v>0.88719</c:v>
                </c:pt>
                <c:pt idx="67">
                  <c:v>0.89817</c:v>
                </c:pt>
                <c:pt idx="68">
                  <c:v>0.90781</c:v>
                </c:pt>
                <c:pt idx="69">
                  <c:v>0.92038</c:v>
                </c:pt>
                <c:pt idx="70">
                  <c:v>0.92044</c:v>
                </c:pt>
                <c:pt idx="71">
                  <c:v>0.92086</c:v>
                </c:pt>
                <c:pt idx="72">
                  <c:v>0.93333</c:v>
                </c:pt>
                <c:pt idx="73">
                  <c:v>0.93957</c:v>
                </c:pt>
                <c:pt idx="74">
                  <c:v>0.94659</c:v>
                </c:pt>
                <c:pt idx="75">
                  <c:v>0.93397</c:v>
                </c:pt>
                <c:pt idx="76">
                  <c:v>0.93761</c:v>
                </c:pt>
                <c:pt idx="77">
                  <c:v>0.95454</c:v>
                </c:pt>
                <c:pt idx="78">
                  <c:v>0.93025</c:v>
                </c:pt>
                <c:pt idx="79">
                  <c:v>0.89158</c:v>
                </c:pt>
                <c:pt idx="80">
                  <c:v>0.82781</c:v>
                </c:pt>
                <c:pt idx="81">
                  <c:v>0.79314</c:v>
                </c:pt>
                <c:pt idx="82">
                  <c:v>0.76462</c:v>
                </c:pt>
                <c:pt idx="97">
                  <c:v>0.71305</c:v>
                </c:pt>
                <c:pt idx="98">
                  <c:v>0.66883</c:v>
                </c:pt>
                <c:pt idx="99">
                  <c:v>0.63396</c:v>
                </c:pt>
                <c:pt idx="100">
                  <c:v>0.62249</c:v>
                </c:pt>
                <c:pt idx="101">
                  <c:v>0.61085</c:v>
                </c:pt>
                <c:pt idx="102">
                  <c:v>0.59607</c:v>
                </c:pt>
                <c:pt idx="103">
                  <c:v>0.58441</c:v>
                </c:pt>
                <c:pt idx="105">
                  <c:v>0.57538</c:v>
                </c:pt>
                <c:pt idx="108">
                  <c:v>0.56419</c:v>
                </c:pt>
                <c:pt idx="110">
                  <c:v>0.55683</c:v>
                </c:pt>
                <c:pt idx="112">
                  <c:v>0.54959</c:v>
                </c:pt>
                <c:pt idx="113">
                  <c:v>0.54298</c:v>
                </c:pt>
                <c:pt idx="114">
                  <c:v>0.5398</c:v>
                </c:pt>
                <c:pt idx="116">
                  <c:v>0.53422</c:v>
                </c:pt>
                <c:pt idx="118">
                  <c:v>0.52842</c:v>
                </c:pt>
                <c:pt idx="119">
                  <c:v>0.52267</c:v>
                </c:pt>
                <c:pt idx="120">
                  <c:v>0.51793</c:v>
                </c:pt>
                <c:pt idx="121">
                  <c:v>0.51309</c:v>
                </c:pt>
                <c:pt idx="122">
                  <c:v>0.50631</c:v>
                </c:pt>
                <c:pt idx="123">
                  <c:v>0.50227</c:v>
                </c:pt>
                <c:pt idx="124">
                  <c:v>0.49666</c:v>
                </c:pt>
                <c:pt idx="125">
                  <c:v>0.49142</c:v>
                </c:pt>
                <c:pt idx="126">
                  <c:v>0.48603</c:v>
                </c:pt>
                <c:pt idx="127">
                  <c:v>0.48031</c:v>
                </c:pt>
                <c:pt idx="129">
                  <c:v>0.47341</c:v>
                </c:pt>
                <c:pt idx="130">
                  <c:v>0.46646</c:v>
                </c:pt>
                <c:pt idx="131">
                  <c:v>0.46055</c:v>
                </c:pt>
                <c:pt idx="132">
                  <c:v>0.45472</c:v>
                </c:pt>
                <c:pt idx="133">
                  <c:v>0.45043</c:v>
                </c:pt>
                <c:pt idx="134">
                  <c:v>0.44778</c:v>
                </c:pt>
                <c:pt idx="135">
                  <c:v>0.44278</c:v>
                </c:pt>
                <c:pt idx="136">
                  <c:v>0.43836</c:v>
                </c:pt>
                <c:pt idx="137">
                  <c:v>0.43392</c:v>
                </c:pt>
                <c:pt idx="138">
                  <c:v>0.42911</c:v>
                </c:pt>
                <c:pt idx="139">
                  <c:v>0.42496</c:v>
                </c:pt>
                <c:pt idx="140">
                  <c:v>0.42111</c:v>
                </c:pt>
                <c:pt idx="141">
                  <c:v>0.41604</c:v>
                </c:pt>
                <c:pt idx="142">
                  <c:v>0.41005</c:v>
                </c:pt>
                <c:pt idx="143">
                  <c:v>0.4066</c:v>
                </c:pt>
                <c:pt idx="144">
                  <c:v>0.40356</c:v>
                </c:pt>
                <c:pt idx="145">
                  <c:v>0.4005</c:v>
                </c:pt>
                <c:pt idx="146">
                  <c:v>0.39678</c:v>
                </c:pt>
                <c:pt idx="147">
                  <c:v>0.3921</c:v>
                </c:pt>
                <c:pt idx="148">
                  <c:v>0.3875</c:v>
                </c:pt>
                <c:pt idx="149">
                  <c:v>0.38312</c:v>
                </c:pt>
                <c:pt idx="150">
                  <c:v>0.37834</c:v>
                </c:pt>
                <c:pt idx="151">
                  <c:v>0.37386</c:v>
                </c:pt>
                <c:pt idx="152">
                  <c:v>0.36958</c:v>
                </c:pt>
                <c:pt idx="153">
                  <c:v>0.36561</c:v>
                </c:pt>
                <c:pt idx="154">
                  <c:v>0.36201</c:v>
                </c:pt>
                <c:pt idx="155">
                  <c:v>0.35868</c:v>
                </c:pt>
                <c:pt idx="156">
                  <c:v>0.3543</c:v>
                </c:pt>
                <c:pt idx="157">
                  <c:v>0.3532625</c:v>
                </c:pt>
                <c:pt idx="158">
                  <c:v>0.349676</c:v>
                </c:pt>
                <c:pt idx="159">
                  <c:v>0.3467</c:v>
                </c:pt>
                <c:pt idx="160">
                  <c:v>0.34209</c:v>
                </c:pt>
                <c:pt idx="161">
                  <c:v>0.337435</c:v>
                </c:pt>
                <c:pt idx="162">
                  <c:v>0.33463</c:v>
                </c:pt>
                <c:pt idx="163">
                  <c:v>0.333286666666667</c:v>
                </c:pt>
              </c:numCache>
            </c:numRef>
          </c:yVal>
          <c:smooth val="0"/>
        </c:ser>
        <c:ser>
          <c:idx val="19"/>
          <c:order val="19"/>
          <c:tx>
            <c:strRef>
              <c:f>label 20</c:f>
              <c:strCache>
                <c:ptCount val="1"/>
                <c:pt idx="0">
                  <c:v>Spalte AQ</c:v>
                </c:pt>
              </c:strCache>
            </c:strRef>
          </c:tx>
          <c:spPr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20</c:f>
              <c:numCache>
                <c:formatCode>General</c:formatCode>
                <c:ptCount val="171"/>
                <c:pt idx="10">
                  <c:v>0.22482</c:v>
                </c:pt>
                <c:pt idx="11">
                  <c:v>0.23016</c:v>
                </c:pt>
                <c:pt idx="12">
                  <c:v>0.24686</c:v>
                </c:pt>
                <c:pt idx="13">
                  <c:v>0.26198</c:v>
                </c:pt>
                <c:pt idx="14">
                  <c:v>0.27468</c:v>
                </c:pt>
                <c:pt idx="15">
                  <c:v>0.28493</c:v>
                </c:pt>
                <c:pt idx="16">
                  <c:v>0.29147</c:v>
                </c:pt>
                <c:pt idx="17">
                  <c:v>0.30043</c:v>
                </c:pt>
                <c:pt idx="18">
                  <c:v>0.30925</c:v>
                </c:pt>
                <c:pt idx="19">
                  <c:v>0.31678</c:v>
                </c:pt>
                <c:pt idx="20">
                  <c:v>0.32309</c:v>
                </c:pt>
                <c:pt idx="21">
                  <c:v>0.32879</c:v>
                </c:pt>
                <c:pt idx="22">
                  <c:v>0.33746</c:v>
                </c:pt>
                <c:pt idx="23">
                  <c:v>0.34348</c:v>
                </c:pt>
                <c:pt idx="24">
                  <c:v>0.35042</c:v>
                </c:pt>
                <c:pt idx="25">
                  <c:v>0.35752</c:v>
                </c:pt>
                <c:pt idx="26">
                  <c:v>0.36471</c:v>
                </c:pt>
                <c:pt idx="27">
                  <c:v>0.37291</c:v>
                </c:pt>
                <c:pt idx="28">
                  <c:v>0.37895</c:v>
                </c:pt>
                <c:pt idx="29">
                  <c:v>0.38517</c:v>
                </c:pt>
                <c:pt idx="30">
                  <c:v>0.39019</c:v>
                </c:pt>
                <c:pt idx="31">
                  <c:v>0.39421</c:v>
                </c:pt>
                <c:pt idx="32">
                  <c:v>0.39622</c:v>
                </c:pt>
                <c:pt idx="33">
                  <c:v>0.40326</c:v>
                </c:pt>
                <c:pt idx="34">
                  <c:v>0.41058</c:v>
                </c:pt>
                <c:pt idx="35">
                  <c:v>0.41462</c:v>
                </c:pt>
                <c:pt idx="36">
                  <c:v>0.41853</c:v>
                </c:pt>
                <c:pt idx="37">
                  <c:v>0.42511</c:v>
                </c:pt>
                <c:pt idx="38">
                  <c:v>0.43476</c:v>
                </c:pt>
                <c:pt idx="39">
                  <c:v>0.44314</c:v>
                </c:pt>
                <c:pt idx="40">
                  <c:v>0.44913</c:v>
                </c:pt>
                <c:pt idx="41">
                  <c:v>0.45484</c:v>
                </c:pt>
                <c:pt idx="42">
                  <c:v>0.46426</c:v>
                </c:pt>
                <c:pt idx="43">
                  <c:v>0.47318</c:v>
                </c:pt>
                <c:pt idx="44">
                  <c:v>0.4794</c:v>
                </c:pt>
                <c:pt idx="45">
                  <c:v>0.48728</c:v>
                </c:pt>
                <c:pt idx="46">
                  <c:v>0.4949</c:v>
                </c:pt>
                <c:pt idx="47">
                  <c:v>0.50101</c:v>
                </c:pt>
                <c:pt idx="48">
                  <c:v>0.50958</c:v>
                </c:pt>
                <c:pt idx="49">
                  <c:v>0.51825</c:v>
                </c:pt>
                <c:pt idx="50">
                  <c:v>0.52642</c:v>
                </c:pt>
                <c:pt idx="51">
                  <c:v>0.53255</c:v>
                </c:pt>
                <c:pt idx="52">
                  <c:v>0.54168</c:v>
                </c:pt>
                <c:pt idx="53">
                  <c:v>0.54778</c:v>
                </c:pt>
                <c:pt idx="54">
                  <c:v>0.55882</c:v>
                </c:pt>
                <c:pt idx="55">
                  <c:v>0.57034</c:v>
                </c:pt>
                <c:pt idx="56">
                  <c:v>0.57874</c:v>
                </c:pt>
                <c:pt idx="57">
                  <c:v>0.5868</c:v>
                </c:pt>
                <c:pt idx="58">
                  <c:v>0.59671</c:v>
                </c:pt>
                <c:pt idx="59">
                  <c:v>0.60736</c:v>
                </c:pt>
                <c:pt idx="60">
                  <c:v>0.61824</c:v>
                </c:pt>
                <c:pt idx="61">
                  <c:v>0.62836</c:v>
                </c:pt>
                <c:pt idx="62">
                  <c:v>0.63455</c:v>
                </c:pt>
                <c:pt idx="63">
                  <c:v>0.6419</c:v>
                </c:pt>
                <c:pt idx="64">
                  <c:v>0.64411</c:v>
                </c:pt>
                <c:pt idx="65">
                  <c:v>0.65447</c:v>
                </c:pt>
                <c:pt idx="66">
                  <c:v>0.66778</c:v>
                </c:pt>
                <c:pt idx="67">
                  <c:v>0.67365</c:v>
                </c:pt>
                <c:pt idx="68">
                  <c:v>0.69477</c:v>
                </c:pt>
                <c:pt idx="69">
                  <c:v>0.70947</c:v>
                </c:pt>
                <c:pt idx="70">
                  <c:v>0.71982</c:v>
                </c:pt>
                <c:pt idx="71">
                  <c:v>0.72951</c:v>
                </c:pt>
                <c:pt idx="72">
                  <c:v>0.73525</c:v>
                </c:pt>
                <c:pt idx="73">
                  <c:v>0.7455</c:v>
                </c:pt>
                <c:pt idx="74">
                  <c:v>0.75013</c:v>
                </c:pt>
                <c:pt idx="75">
                  <c:v>0.74162</c:v>
                </c:pt>
                <c:pt idx="76">
                  <c:v>0.74096</c:v>
                </c:pt>
                <c:pt idx="77">
                  <c:v>0.7408</c:v>
                </c:pt>
                <c:pt idx="78">
                  <c:v>0.73798</c:v>
                </c:pt>
                <c:pt idx="79">
                  <c:v>0.73366</c:v>
                </c:pt>
                <c:pt idx="80">
                  <c:v>0.72884</c:v>
                </c:pt>
                <c:pt idx="81">
                  <c:v>0.71954</c:v>
                </c:pt>
                <c:pt idx="82">
                  <c:v>0.69823</c:v>
                </c:pt>
                <c:pt idx="99">
                  <c:v>0.67368</c:v>
                </c:pt>
                <c:pt idx="100">
                  <c:v>0.64081</c:v>
                </c:pt>
                <c:pt idx="101">
                  <c:v>0.60201</c:v>
                </c:pt>
                <c:pt idx="102">
                  <c:v>0.58698</c:v>
                </c:pt>
                <c:pt idx="103">
                  <c:v>0.57673</c:v>
                </c:pt>
                <c:pt idx="104">
                  <c:v>0.56286</c:v>
                </c:pt>
                <c:pt idx="105">
                  <c:v>0.54812</c:v>
                </c:pt>
                <c:pt idx="106">
                  <c:v>0.54153</c:v>
                </c:pt>
                <c:pt idx="107">
                  <c:v>0.52563</c:v>
                </c:pt>
                <c:pt idx="108">
                  <c:v>0.51716</c:v>
                </c:pt>
                <c:pt idx="109">
                  <c:v>0.51105</c:v>
                </c:pt>
                <c:pt idx="110">
                  <c:v>0.5062</c:v>
                </c:pt>
                <c:pt idx="112">
                  <c:v>0.49993</c:v>
                </c:pt>
                <c:pt idx="113">
                  <c:v>0.49412</c:v>
                </c:pt>
                <c:pt idx="114">
                  <c:v>0.49122</c:v>
                </c:pt>
                <c:pt idx="115">
                  <c:v>0.48807</c:v>
                </c:pt>
                <c:pt idx="116">
                  <c:v>0.48452</c:v>
                </c:pt>
                <c:pt idx="117">
                  <c:v>0.47881</c:v>
                </c:pt>
                <c:pt idx="118">
                  <c:v>0.47377</c:v>
                </c:pt>
                <c:pt idx="120">
                  <c:v>0.46703</c:v>
                </c:pt>
                <c:pt idx="121">
                  <c:v>0.46331</c:v>
                </c:pt>
                <c:pt idx="122">
                  <c:v>0.45773</c:v>
                </c:pt>
                <c:pt idx="123">
                  <c:v>0.45511</c:v>
                </c:pt>
                <c:pt idx="124">
                  <c:v>0.45135</c:v>
                </c:pt>
                <c:pt idx="125">
                  <c:v>0.44917</c:v>
                </c:pt>
                <c:pt idx="126">
                  <c:v>0.4469</c:v>
                </c:pt>
                <c:pt idx="127">
                  <c:v>0.44294</c:v>
                </c:pt>
                <c:pt idx="128">
                  <c:v>0.43996</c:v>
                </c:pt>
                <c:pt idx="129">
                  <c:v>0.43726</c:v>
                </c:pt>
                <c:pt idx="130">
                  <c:v>0.43555</c:v>
                </c:pt>
                <c:pt idx="131">
                  <c:v>0.43252</c:v>
                </c:pt>
                <c:pt idx="132">
                  <c:v>0.42811</c:v>
                </c:pt>
                <c:pt idx="133">
                  <c:v>0.42556</c:v>
                </c:pt>
                <c:pt idx="134">
                  <c:v>0.42221</c:v>
                </c:pt>
                <c:pt idx="135">
                  <c:v>0.41894</c:v>
                </c:pt>
                <c:pt idx="137">
                  <c:v>0.41672</c:v>
                </c:pt>
                <c:pt idx="138">
                  <c:v>0.41338</c:v>
                </c:pt>
                <c:pt idx="139">
                  <c:v>0.40769</c:v>
                </c:pt>
                <c:pt idx="140">
                  <c:v>0.40434</c:v>
                </c:pt>
                <c:pt idx="142">
                  <c:v>0.39946</c:v>
                </c:pt>
                <c:pt idx="143">
                  <c:v>0.39634</c:v>
                </c:pt>
                <c:pt idx="144">
                  <c:v>0.39333</c:v>
                </c:pt>
                <c:pt idx="145">
                  <c:v>0.39074</c:v>
                </c:pt>
                <c:pt idx="146">
                  <c:v>0.38805</c:v>
                </c:pt>
                <c:pt idx="147">
                  <c:v>0.38503</c:v>
                </c:pt>
                <c:pt idx="148">
                  <c:v>0.38302</c:v>
                </c:pt>
                <c:pt idx="149">
                  <c:v>0.37974</c:v>
                </c:pt>
                <c:pt idx="150">
                  <c:v>0.37714</c:v>
                </c:pt>
                <c:pt idx="151">
                  <c:v>0.37339</c:v>
                </c:pt>
                <c:pt idx="152">
                  <c:v>0.36998</c:v>
                </c:pt>
                <c:pt idx="153">
                  <c:v>0.36883</c:v>
                </c:pt>
                <c:pt idx="154">
                  <c:v>0.36655</c:v>
                </c:pt>
                <c:pt idx="155">
                  <c:v>0.36323</c:v>
                </c:pt>
                <c:pt idx="156">
                  <c:v>0.36001</c:v>
                </c:pt>
                <c:pt idx="158">
                  <c:v>0.35771</c:v>
                </c:pt>
              </c:numCache>
            </c:numRef>
          </c:yVal>
          <c:smooth val="0"/>
        </c:ser>
        <c:ser>
          <c:idx val="20"/>
          <c:order val="20"/>
          <c:tx>
            <c:strRef>
              <c:f>label 21</c:f>
              <c:strCache>
                <c:ptCount val="1"/>
                <c:pt idx="0">
                  <c:v>Spalte AS</c:v>
                </c:pt>
              </c:strCache>
            </c:strRef>
          </c:tx>
          <c:spPr>
            <a:solidFill>
              <a:srgbClr val="ff9900"/>
            </a:solidFill>
            <a:ln w="21600">
              <a:solidFill>
                <a:srgbClr val="ff9900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21</c:f>
              <c:numCache>
                <c:formatCode>General</c:formatCode>
                <c:ptCount val="171"/>
                <c:pt idx="8">
                  <c:v>0.26838</c:v>
                </c:pt>
                <c:pt idx="24">
                  <c:v>0.40369</c:v>
                </c:pt>
                <c:pt idx="25">
                  <c:v>0.4198</c:v>
                </c:pt>
                <c:pt idx="26">
                  <c:v>0.42363</c:v>
                </c:pt>
                <c:pt idx="27">
                  <c:v>0.42929</c:v>
                </c:pt>
                <c:pt idx="28">
                  <c:v>0.4348</c:v>
                </c:pt>
                <c:pt idx="29">
                  <c:v>0.44006</c:v>
                </c:pt>
                <c:pt idx="30">
                  <c:v>0.44499</c:v>
                </c:pt>
                <c:pt idx="31">
                  <c:v>0.45215</c:v>
                </c:pt>
                <c:pt idx="32">
                  <c:v>0.45933</c:v>
                </c:pt>
                <c:pt idx="33">
                  <c:v>0.46406</c:v>
                </c:pt>
                <c:pt idx="34">
                  <c:v>0.46843</c:v>
                </c:pt>
                <c:pt idx="35">
                  <c:v>0.47342</c:v>
                </c:pt>
                <c:pt idx="36">
                  <c:v>0.47801</c:v>
                </c:pt>
                <c:pt idx="37">
                  <c:v>0.48257</c:v>
                </c:pt>
                <c:pt idx="38">
                  <c:v>0.48942</c:v>
                </c:pt>
                <c:pt idx="39">
                  <c:v>0.49654</c:v>
                </c:pt>
                <c:pt idx="40">
                  <c:v>0.50105</c:v>
                </c:pt>
                <c:pt idx="41">
                  <c:v>0.50537</c:v>
                </c:pt>
                <c:pt idx="42">
                  <c:v>0.51136</c:v>
                </c:pt>
                <c:pt idx="44">
                  <c:v>0.5218</c:v>
                </c:pt>
                <c:pt idx="45">
                  <c:v>0.52499</c:v>
                </c:pt>
                <c:pt idx="46">
                  <c:v>0.52913</c:v>
                </c:pt>
                <c:pt idx="47">
                  <c:v>0.53347</c:v>
                </c:pt>
                <c:pt idx="48">
                  <c:v>0.538</c:v>
                </c:pt>
                <c:pt idx="49">
                  <c:v>0.54394</c:v>
                </c:pt>
                <c:pt idx="50">
                  <c:v>0.55004</c:v>
                </c:pt>
                <c:pt idx="51">
                  <c:v>0.5563</c:v>
                </c:pt>
                <c:pt idx="52">
                  <c:v>0.56206</c:v>
                </c:pt>
                <c:pt idx="53">
                  <c:v>0.56843</c:v>
                </c:pt>
                <c:pt idx="54">
                  <c:v>0.57597</c:v>
                </c:pt>
                <c:pt idx="55">
                  <c:v>0.58863</c:v>
                </c:pt>
                <c:pt idx="56">
                  <c:v>0.60298</c:v>
                </c:pt>
                <c:pt idx="57">
                  <c:v>0.61821</c:v>
                </c:pt>
                <c:pt idx="58">
                  <c:v>0.63431</c:v>
                </c:pt>
                <c:pt idx="59">
                  <c:v>0.65044</c:v>
                </c:pt>
                <c:pt idx="60">
                  <c:v>0.66312</c:v>
                </c:pt>
                <c:pt idx="61">
                  <c:v>0.67377</c:v>
                </c:pt>
                <c:pt idx="62">
                  <c:v>0.68332</c:v>
                </c:pt>
                <c:pt idx="63">
                  <c:v>0.69368</c:v>
                </c:pt>
                <c:pt idx="64">
                  <c:v>0.69571</c:v>
                </c:pt>
                <c:pt idx="66">
                  <c:v>0.71002</c:v>
                </c:pt>
                <c:pt idx="67">
                  <c:v>0.71663</c:v>
                </c:pt>
                <c:pt idx="68">
                  <c:v>0.71688</c:v>
                </c:pt>
                <c:pt idx="69">
                  <c:v>0.71887</c:v>
                </c:pt>
                <c:pt idx="70">
                  <c:v>0.71544</c:v>
                </c:pt>
                <c:pt idx="71">
                  <c:v>0.71404</c:v>
                </c:pt>
                <c:pt idx="72">
                  <c:v>0.72193</c:v>
                </c:pt>
                <c:pt idx="73">
                  <c:v>0.72014</c:v>
                </c:pt>
                <c:pt idx="74">
                  <c:v>0.71811</c:v>
                </c:pt>
                <c:pt idx="75">
                  <c:v>0.71198</c:v>
                </c:pt>
                <c:pt idx="76">
                  <c:v>0.70828</c:v>
                </c:pt>
                <c:pt idx="77">
                  <c:v>0.68797</c:v>
                </c:pt>
                <c:pt idx="78">
                  <c:v>0.66911</c:v>
                </c:pt>
                <c:pt idx="79">
                  <c:v>0.65349</c:v>
                </c:pt>
                <c:pt idx="80">
                  <c:v>0.64452</c:v>
                </c:pt>
                <c:pt idx="81">
                  <c:v>0.63678</c:v>
                </c:pt>
                <c:pt idx="82">
                  <c:v>0.63634</c:v>
                </c:pt>
                <c:pt idx="83">
                  <c:v>0.65628</c:v>
                </c:pt>
                <c:pt idx="84">
                  <c:v>0.66704</c:v>
                </c:pt>
                <c:pt idx="97">
                  <c:v>0.696</c:v>
                </c:pt>
                <c:pt idx="98">
                  <c:v>0.72656</c:v>
                </c:pt>
                <c:pt idx="99">
                  <c:v>0.76167</c:v>
                </c:pt>
                <c:pt idx="100">
                  <c:v>0.76835</c:v>
                </c:pt>
                <c:pt idx="101">
                  <c:v>0.74268</c:v>
                </c:pt>
                <c:pt idx="102">
                  <c:v>0.72107</c:v>
                </c:pt>
                <c:pt idx="103">
                  <c:v>0.70215</c:v>
                </c:pt>
                <c:pt idx="104">
                  <c:v>0.69531</c:v>
                </c:pt>
                <c:pt idx="105">
                  <c:v>0.66899</c:v>
                </c:pt>
                <c:pt idx="106">
                  <c:v>0.64117</c:v>
                </c:pt>
                <c:pt idx="107">
                  <c:v>0.62838</c:v>
                </c:pt>
                <c:pt idx="108">
                  <c:v>0.61928</c:v>
                </c:pt>
                <c:pt idx="109">
                  <c:v>0.61172</c:v>
                </c:pt>
                <c:pt idx="110">
                  <c:v>0.60506</c:v>
                </c:pt>
                <c:pt idx="112">
                  <c:v>0.59882</c:v>
                </c:pt>
                <c:pt idx="113">
                  <c:v>0.59269</c:v>
                </c:pt>
                <c:pt idx="114">
                  <c:v>0.58636</c:v>
                </c:pt>
                <c:pt idx="115">
                  <c:v>0.57982</c:v>
                </c:pt>
                <c:pt idx="116">
                  <c:v>0.57342</c:v>
                </c:pt>
                <c:pt idx="118">
                  <c:v>0.56691</c:v>
                </c:pt>
                <c:pt idx="119">
                  <c:v>0.56072</c:v>
                </c:pt>
                <c:pt idx="120">
                  <c:v>0.55456</c:v>
                </c:pt>
                <c:pt idx="121">
                  <c:v>0.54855</c:v>
                </c:pt>
                <c:pt idx="122">
                  <c:v>0.5427</c:v>
                </c:pt>
                <c:pt idx="124">
                  <c:v>0.53694</c:v>
                </c:pt>
                <c:pt idx="125">
                  <c:v>0.53145</c:v>
                </c:pt>
                <c:pt idx="126">
                  <c:v>0.52629</c:v>
                </c:pt>
                <c:pt idx="127">
                  <c:v>0.52126</c:v>
                </c:pt>
                <c:pt idx="128">
                  <c:v>0.51645</c:v>
                </c:pt>
                <c:pt idx="129">
                  <c:v>0.51175</c:v>
                </c:pt>
                <c:pt idx="130">
                  <c:v>0.50732</c:v>
                </c:pt>
                <c:pt idx="131">
                  <c:v>0.50298</c:v>
                </c:pt>
                <c:pt idx="132">
                  <c:v>0.49871</c:v>
                </c:pt>
                <c:pt idx="133">
                  <c:v>0.49452</c:v>
                </c:pt>
                <c:pt idx="134">
                  <c:v>0.49054</c:v>
                </c:pt>
                <c:pt idx="135">
                  <c:v>0.48657</c:v>
                </c:pt>
                <c:pt idx="136">
                  <c:v>0.48292</c:v>
                </c:pt>
                <c:pt idx="137">
                  <c:v>0.47931</c:v>
                </c:pt>
                <c:pt idx="138">
                  <c:v>0.47578</c:v>
                </c:pt>
                <c:pt idx="139">
                  <c:v>0.47076</c:v>
                </c:pt>
                <c:pt idx="140">
                  <c:v>0.46558</c:v>
                </c:pt>
                <c:pt idx="141">
                  <c:v>0.46242</c:v>
                </c:pt>
                <c:pt idx="142">
                  <c:v>0.45798</c:v>
                </c:pt>
                <c:pt idx="143">
                  <c:v>0.45386</c:v>
                </c:pt>
                <c:pt idx="144">
                  <c:v>0.4499</c:v>
                </c:pt>
                <c:pt idx="145">
                  <c:v>0.4461</c:v>
                </c:pt>
                <c:pt idx="146">
                  <c:v>0.44256</c:v>
                </c:pt>
                <c:pt idx="147">
                  <c:v>0.43802</c:v>
                </c:pt>
                <c:pt idx="148">
                  <c:v>0.43388</c:v>
                </c:pt>
                <c:pt idx="149">
                  <c:v>0.43</c:v>
                </c:pt>
                <c:pt idx="150">
                  <c:v>0.42642</c:v>
                </c:pt>
                <c:pt idx="151">
                  <c:v>0.4231</c:v>
                </c:pt>
                <c:pt idx="152">
                  <c:v>0.41926</c:v>
                </c:pt>
                <c:pt idx="153">
                  <c:v>0.41503</c:v>
                </c:pt>
                <c:pt idx="154">
                  <c:v>0.41134</c:v>
                </c:pt>
                <c:pt idx="155">
                  <c:v>0.40754</c:v>
                </c:pt>
                <c:pt idx="156">
                  <c:v>0.40372</c:v>
                </c:pt>
                <c:pt idx="157">
                  <c:v>0.40018</c:v>
                </c:pt>
                <c:pt idx="158">
                  <c:v>0.39678</c:v>
                </c:pt>
                <c:pt idx="159">
                  <c:v>0.39493</c:v>
                </c:pt>
              </c:numCache>
            </c:numRef>
          </c:yVal>
          <c:smooth val="0"/>
        </c:ser>
        <c:ser>
          <c:idx val="21"/>
          <c:order val="21"/>
          <c:tx>
            <c:strRef>
              <c:f>label 22</c:f>
              <c:strCache>
                <c:ptCount val="1"/>
                <c:pt idx="0">
                  <c:v>Spalte AU</c:v>
                </c:pt>
              </c:strCache>
            </c:strRef>
          </c:tx>
          <c:spPr>
            <a:solidFill>
              <a:srgbClr val="ff6600"/>
            </a:solidFill>
            <a:ln w="21600">
              <a:solidFill>
                <a:srgbClr val="ff6600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22</c:f>
              <c:numCache>
                <c:formatCode>General</c:formatCode>
                <c:ptCount val="171"/>
                <c:pt idx="9">
                  <c:v>0.23647</c:v>
                </c:pt>
                <c:pt idx="10">
                  <c:v>0.25033</c:v>
                </c:pt>
                <c:pt idx="11">
                  <c:v>0.25984</c:v>
                </c:pt>
                <c:pt idx="12">
                  <c:v>0.26657</c:v>
                </c:pt>
                <c:pt idx="13">
                  <c:v>0.27259</c:v>
                </c:pt>
                <c:pt idx="14">
                  <c:v>0.27886</c:v>
                </c:pt>
                <c:pt idx="15">
                  <c:v>0.28429</c:v>
                </c:pt>
                <c:pt idx="16">
                  <c:v>0.28986</c:v>
                </c:pt>
                <c:pt idx="17">
                  <c:v>0.29558</c:v>
                </c:pt>
                <c:pt idx="18">
                  <c:v>0.30025</c:v>
                </c:pt>
                <c:pt idx="19">
                  <c:v>0.30504</c:v>
                </c:pt>
                <c:pt idx="20">
                  <c:v>0.31012</c:v>
                </c:pt>
                <c:pt idx="21">
                  <c:v>0.31402</c:v>
                </c:pt>
                <c:pt idx="22">
                  <c:v>0.31805</c:v>
                </c:pt>
                <c:pt idx="23">
                  <c:v>0.32364</c:v>
                </c:pt>
                <c:pt idx="24">
                  <c:v>0.32801</c:v>
                </c:pt>
                <c:pt idx="25">
                  <c:v>0.33248</c:v>
                </c:pt>
                <c:pt idx="26">
                  <c:v>0.33706</c:v>
                </c:pt>
                <c:pt idx="27">
                  <c:v>0.34182</c:v>
                </c:pt>
                <c:pt idx="28">
                  <c:v>0.3468</c:v>
                </c:pt>
                <c:pt idx="29">
                  <c:v>0.35252</c:v>
                </c:pt>
                <c:pt idx="30">
                  <c:v>0.35995</c:v>
                </c:pt>
                <c:pt idx="31">
                  <c:v>0.36627</c:v>
                </c:pt>
                <c:pt idx="32">
                  <c:v>0.3734</c:v>
                </c:pt>
                <c:pt idx="33">
                  <c:v>0.38057</c:v>
                </c:pt>
                <c:pt idx="34">
                  <c:v>0.38534</c:v>
                </c:pt>
                <c:pt idx="35">
                  <c:v>0.3933</c:v>
                </c:pt>
                <c:pt idx="36">
                  <c:v>0.40154</c:v>
                </c:pt>
                <c:pt idx="37">
                  <c:v>0.41178</c:v>
                </c:pt>
                <c:pt idx="38">
                  <c:v>0.42306</c:v>
                </c:pt>
                <c:pt idx="39">
                  <c:v>0.43537</c:v>
                </c:pt>
                <c:pt idx="40">
                  <c:v>0.44732</c:v>
                </c:pt>
                <c:pt idx="41">
                  <c:v>0.45838</c:v>
                </c:pt>
                <c:pt idx="42">
                  <c:v>0.46822</c:v>
                </c:pt>
                <c:pt idx="43">
                  <c:v>0.4773</c:v>
                </c:pt>
                <c:pt idx="44">
                  <c:v>0.48616</c:v>
                </c:pt>
                <c:pt idx="45">
                  <c:v>0.49606</c:v>
                </c:pt>
                <c:pt idx="46">
                  <c:v>0.50451</c:v>
                </c:pt>
                <c:pt idx="47">
                  <c:v>0.51073</c:v>
                </c:pt>
                <c:pt idx="48">
                  <c:v>0.51985</c:v>
                </c:pt>
                <c:pt idx="49">
                  <c:v>0.52753</c:v>
                </c:pt>
                <c:pt idx="50">
                  <c:v>0.53285</c:v>
                </c:pt>
                <c:pt idx="51">
                  <c:v>0.54149</c:v>
                </c:pt>
                <c:pt idx="52">
                  <c:v>0.54865</c:v>
                </c:pt>
                <c:pt idx="53">
                  <c:v>0.55619</c:v>
                </c:pt>
                <c:pt idx="54">
                  <c:v>0.56602</c:v>
                </c:pt>
                <c:pt idx="55">
                  <c:v>0.5717</c:v>
                </c:pt>
                <c:pt idx="56">
                  <c:v>0.57872</c:v>
                </c:pt>
                <c:pt idx="57">
                  <c:v>0.58814</c:v>
                </c:pt>
                <c:pt idx="58">
                  <c:v>0.59708</c:v>
                </c:pt>
                <c:pt idx="59">
                  <c:v>0.60581</c:v>
                </c:pt>
                <c:pt idx="60">
                  <c:v>0.61525</c:v>
                </c:pt>
                <c:pt idx="61">
                  <c:v>0.63291</c:v>
                </c:pt>
                <c:pt idx="62">
                  <c:v>0.64276</c:v>
                </c:pt>
                <c:pt idx="63">
                  <c:v>0.65561</c:v>
                </c:pt>
                <c:pt idx="64">
                  <c:v>0.66412</c:v>
                </c:pt>
                <c:pt idx="65">
                  <c:v>0.67417</c:v>
                </c:pt>
                <c:pt idx="66">
                  <c:v>0.68435</c:v>
                </c:pt>
                <c:pt idx="67">
                  <c:v>0.69071</c:v>
                </c:pt>
                <c:pt idx="68">
                  <c:v>0.69283</c:v>
                </c:pt>
                <c:pt idx="69">
                  <c:v>0.69659</c:v>
                </c:pt>
                <c:pt idx="70">
                  <c:v>0.70183</c:v>
                </c:pt>
                <c:pt idx="71">
                  <c:v>0.70021</c:v>
                </c:pt>
                <c:pt idx="72">
                  <c:v>0.69318</c:v>
                </c:pt>
                <c:pt idx="73">
                  <c:v>0.6912</c:v>
                </c:pt>
                <c:pt idx="74">
                  <c:v>0.68994</c:v>
                </c:pt>
                <c:pt idx="75">
                  <c:v>0.68977</c:v>
                </c:pt>
                <c:pt idx="76">
                  <c:v>0.69013</c:v>
                </c:pt>
                <c:pt idx="77">
                  <c:v>0.68497</c:v>
                </c:pt>
                <c:pt idx="78">
                  <c:v>0.67531</c:v>
                </c:pt>
                <c:pt idx="79">
                  <c:v>0.66745</c:v>
                </c:pt>
                <c:pt idx="80">
                  <c:v>0.64962</c:v>
                </c:pt>
                <c:pt idx="81">
                  <c:v>0.63294</c:v>
                </c:pt>
                <c:pt idx="82">
                  <c:v>0.6158</c:v>
                </c:pt>
                <c:pt idx="99">
                  <c:v>0.61249</c:v>
                </c:pt>
                <c:pt idx="100">
                  <c:v>0.61567</c:v>
                </c:pt>
                <c:pt idx="101">
                  <c:v>0.58829</c:v>
                </c:pt>
                <c:pt idx="102">
                  <c:v>0.57365</c:v>
                </c:pt>
                <c:pt idx="103">
                  <c:v>0.56</c:v>
                </c:pt>
                <c:pt idx="104">
                  <c:v>0.54972</c:v>
                </c:pt>
                <c:pt idx="105">
                  <c:v>0.54228</c:v>
                </c:pt>
                <c:pt idx="106">
                  <c:v>0.52997</c:v>
                </c:pt>
                <c:pt idx="107">
                  <c:v>0.52248</c:v>
                </c:pt>
                <c:pt idx="108">
                  <c:v>0.51602</c:v>
                </c:pt>
                <c:pt idx="109">
                  <c:v>0.5101</c:v>
                </c:pt>
                <c:pt idx="110">
                  <c:v>0.50385</c:v>
                </c:pt>
                <c:pt idx="111">
                  <c:v>0.49693</c:v>
                </c:pt>
                <c:pt idx="112">
                  <c:v>0.49049</c:v>
                </c:pt>
                <c:pt idx="113">
                  <c:v>0.48455</c:v>
                </c:pt>
                <c:pt idx="114">
                  <c:v>0.47907</c:v>
                </c:pt>
                <c:pt idx="115">
                  <c:v>0.47361</c:v>
                </c:pt>
                <c:pt idx="117">
                  <c:v>0.46856</c:v>
                </c:pt>
                <c:pt idx="118">
                  <c:v>0.46369</c:v>
                </c:pt>
                <c:pt idx="119">
                  <c:v>0.45883</c:v>
                </c:pt>
                <c:pt idx="120">
                  <c:v>0.45397</c:v>
                </c:pt>
                <c:pt idx="121">
                  <c:v>0.44918</c:v>
                </c:pt>
                <c:pt idx="122">
                  <c:v>0.44449</c:v>
                </c:pt>
                <c:pt idx="123">
                  <c:v>0.44003</c:v>
                </c:pt>
                <c:pt idx="124">
                  <c:v>0.43585</c:v>
                </c:pt>
                <c:pt idx="125">
                  <c:v>0.43198</c:v>
                </c:pt>
                <c:pt idx="126">
                  <c:v>0.42833</c:v>
                </c:pt>
                <c:pt idx="127">
                  <c:v>0.42476</c:v>
                </c:pt>
                <c:pt idx="128">
                  <c:v>0.42143</c:v>
                </c:pt>
                <c:pt idx="129">
                  <c:v>0.41822</c:v>
                </c:pt>
                <c:pt idx="130">
                  <c:v>0.41497</c:v>
                </c:pt>
                <c:pt idx="131">
                  <c:v>0.41182</c:v>
                </c:pt>
                <c:pt idx="132">
                  <c:v>0.40876</c:v>
                </c:pt>
                <c:pt idx="133">
                  <c:v>0.40575</c:v>
                </c:pt>
                <c:pt idx="134">
                  <c:v>0.40278</c:v>
                </c:pt>
                <c:pt idx="135">
                  <c:v>0.39995</c:v>
                </c:pt>
                <c:pt idx="136">
                  <c:v>0.3971</c:v>
                </c:pt>
                <c:pt idx="137">
                  <c:v>0.393</c:v>
                </c:pt>
                <c:pt idx="138">
                  <c:v>0.38902</c:v>
                </c:pt>
                <c:pt idx="139">
                  <c:v>0.38645</c:v>
                </c:pt>
                <c:pt idx="140">
                  <c:v>0.38399</c:v>
                </c:pt>
                <c:pt idx="141">
                  <c:v>0.38036</c:v>
                </c:pt>
                <c:pt idx="142">
                  <c:v>0.37692</c:v>
                </c:pt>
                <c:pt idx="143">
                  <c:v>0.37466</c:v>
                </c:pt>
                <c:pt idx="144">
                  <c:v>0.37144</c:v>
                </c:pt>
                <c:pt idx="145">
                  <c:v>0.36733</c:v>
                </c:pt>
                <c:pt idx="146">
                  <c:v>0.36443</c:v>
                </c:pt>
                <c:pt idx="147">
                  <c:v>0.36126</c:v>
                </c:pt>
                <c:pt idx="148">
                  <c:v>0.35859</c:v>
                </c:pt>
                <c:pt idx="149">
                  <c:v>0.35604</c:v>
                </c:pt>
                <c:pt idx="150">
                  <c:v>0.3528</c:v>
                </c:pt>
                <c:pt idx="151">
                  <c:v>0.34976</c:v>
                </c:pt>
                <c:pt idx="152">
                  <c:v>0.34692</c:v>
                </c:pt>
                <c:pt idx="153">
                  <c:v>0.34358</c:v>
                </c:pt>
                <c:pt idx="154">
                  <c:v>0.34051</c:v>
                </c:pt>
                <c:pt idx="155">
                  <c:v>0.33766</c:v>
                </c:pt>
                <c:pt idx="156">
                  <c:v>0.33553</c:v>
                </c:pt>
              </c:numCache>
            </c:numRef>
          </c:yVal>
          <c:smooth val="0"/>
        </c:ser>
        <c:ser>
          <c:idx val="22"/>
          <c:order val="22"/>
          <c:tx>
            <c:strRef>
              <c:f>label 23</c:f>
              <c:strCache>
                <c:ptCount val="1"/>
                <c:pt idx="0">
                  <c:v>Spalte AW</c:v>
                </c:pt>
              </c:strCache>
            </c:strRef>
          </c:tx>
          <c:spPr>
            <a:solidFill>
              <a:srgbClr val="666699"/>
            </a:solidFill>
            <a:ln w="21600">
              <a:solidFill>
                <a:srgbClr val="666699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23</c:f>
              <c:numCache>
                <c:formatCode>General</c:formatCode>
                <c:ptCount val="171"/>
                <c:pt idx="4">
                  <c:v>0.26782</c:v>
                </c:pt>
                <c:pt idx="5">
                  <c:v>0.27761</c:v>
                </c:pt>
                <c:pt idx="6">
                  <c:v>0.29049</c:v>
                </c:pt>
                <c:pt idx="7">
                  <c:v>0.30091</c:v>
                </c:pt>
                <c:pt idx="8">
                  <c:v>0.31281</c:v>
                </c:pt>
                <c:pt idx="9">
                  <c:v>0.32374</c:v>
                </c:pt>
                <c:pt idx="10">
                  <c:v>0.33145</c:v>
                </c:pt>
                <c:pt idx="11">
                  <c:v>0.33935</c:v>
                </c:pt>
                <c:pt idx="12">
                  <c:v>0.34756</c:v>
                </c:pt>
                <c:pt idx="13">
                  <c:v>0.35402</c:v>
                </c:pt>
                <c:pt idx="14">
                  <c:v>0.35829</c:v>
                </c:pt>
                <c:pt idx="15">
                  <c:v>0.36476</c:v>
                </c:pt>
                <c:pt idx="16">
                  <c:v>0.37129</c:v>
                </c:pt>
                <c:pt idx="17">
                  <c:v>0.37539</c:v>
                </c:pt>
                <c:pt idx="18">
                  <c:v>0.38166</c:v>
                </c:pt>
                <c:pt idx="19">
                  <c:v>0.38827</c:v>
                </c:pt>
                <c:pt idx="20">
                  <c:v>0.39275</c:v>
                </c:pt>
                <c:pt idx="21">
                  <c:v>0.39763</c:v>
                </c:pt>
                <c:pt idx="22">
                  <c:v>0.4025</c:v>
                </c:pt>
                <c:pt idx="23">
                  <c:v>0.40792</c:v>
                </c:pt>
                <c:pt idx="24">
                  <c:v>0.417</c:v>
                </c:pt>
                <c:pt idx="25">
                  <c:v>0.42691</c:v>
                </c:pt>
                <c:pt idx="26">
                  <c:v>0.43368</c:v>
                </c:pt>
                <c:pt idx="27">
                  <c:v>0.44182</c:v>
                </c:pt>
                <c:pt idx="28">
                  <c:v>0.45121</c:v>
                </c:pt>
                <c:pt idx="29">
                  <c:v>0.46088</c:v>
                </c:pt>
                <c:pt idx="30">
                  <c:v>0.4703</c:v>
                </c:pt>
                <c:pt idx="31">
                  <c:v>0.48123</c:v>
                </c:pt>
                <c:pt idx="33">
                  <c:v>0.49276</c:v>
                </c:pt>
                <c:pt idx="34">
                  <c:v>0.5043</c:v>
                </c:pt>
                <c:pt idx="35">
                  <c:v>0.51578</c:v>
                </c:pt>
                <c:pt idx="36">
                  <c:v>0.52763</c:v>
                </c:pt>
                <c:pt idx="37">
                  <c:v>0.53899</c:v>
                </c:pt>
                <c:pt idx="38">
                  <c:v>0.54992</c:v>
                </c:pt>
                <c:pt idx="39">
                  <c:v>0.5594</c:v>
                </c:pt>
                <c:pt idx="40">
                  <c:v>0.56925</c:v>
                </c:pt>
                <c:pt idx="41">
                  <c:v>0.58097</c:v>
                </c:pt>
                <c:pt idx="42">
                  <c:v>0.59247</c:v>
                </c:pt>
                <c:pt idx="43">
                  <c:v>0.60492</c:v>
                </c:pt>
                <c:pt idx="44">
                  <c:v>0.62027</c:v>
                </c:pt>
                <c:pt idx="45">
                  <c:v>0.63242</c:v>
                </c:pt>
                <c:pt idx="46">
                  <c:v>0.6422</c:v>
                </c:pt>
                <c:pt idx="47">
                  <c:v>0.65211</c:v>
                </c:pt>
                <c:pt idx="48">
                  <c:v>0.66238</c:v>
                </c:pt>
                <c:pt idx="49">
                  <c:v>0.67272</c:v>
                </c:pt>
                <c:pt idx="50">
                  <c:v>0.68506</c:v>
                </c:pt>
                <c:pt idx="51">
                  <c:v>0.69688</c:v>
                </c:pt>
                <c:pt idx="52">
                  <c:v>0.70749</c:v>
                </c:pt>
                <c:pt idx="53">
                  <c:v>0.71617</c:v>
                </c:pt>
                <c:pt idx="54">
                  <c:v>0.73091</c:v>
                </c:pt>
                <c:pt idx="55">
                  <c:v>0.74547</c:v>
                </c:pt>
                <c:pt idx="56">
                  <c:v>0.75464</c:v>
                </c:pt>
                <c:pt idx="57">
                  <c:v>0.76215</c:v>
                </c:pt>
                <c:pt idx="58">
                  <c:v>0.77266</c:v>
                </c:pt>
                <c:pt idx="59">
                  <c:v>0.78376</c:v>
                </c:pt>
                <c:pt idx="60">
                  <c:v>0.79368</c:v>
                </c:pt>
                <c:pt idx="61">
                  <c:v>0.80694</c:v>
                </c:pt>
                <c:pt idx="62">
                  <c:v>0.81712</c:v>
                </c:pt>
                <c:pt idx="63">
                  <c:v>0.82692</c:v>
                </c:pt>
                <c:pt idx="64">
                  <c:v>0.83826</c:v>
                </c:pt>
                <c:pt idx="65">
                  <c:v>0.84624</c:v>
                </c:pt>
                <c:pt idx="66">
                  <c:v>0.85486</c:v>
                </c:pt>
                <c:pt idx="67">
                  <c:v>0.85958</c:v>
                </c:pt>
                <c:pt idx="68">
                  <c:v>0.87085</c:v>
                </c:pt>
                <c:pt idx="69">
                  <c:v>0.87312</c:v>
                </c:pt>
                <c:pt idx="70">
                  <c:v>0.87964</c:v>
                </c:pt>
                <c:pt idx="71">
                  <c:v>0.88036</c:v>
                </c:pt>
                <c:pt idx="72">
                  <c:v>0.87272</c:v>
                </c:pt>
                <c:pt idx="73">
                  <c:v>0.86394</c:v>
                </c:pt>
                <c:pt idx="74">
                  <c:v>0.85979</c:v>
                </c:pt>
                <c:pt idx="75">
                  <c:v>0.85322</c:v>
                </c:pt>
                <c:pt idx="76">
                  <c:v>0.84772</c:v>
                </c:pt>
                <c:pt idx="77">
                  <c:v>0.83937</c:v>
                </c:pt>
                <c:pt idx="78">
                  <c:v>0.8318</c:v>
                </c:pt>
                <c:pt idx="79">
                  <c:v>0.82062</c:v>
                </c:pt>
                <c:pt idx="80">
                  <c:v>0.80538</c:v>
                </c:pt>
                <c:pt idx="81">
                  <c:v>0.79447</c:v>
                </c:pt>
                <c:pt idx="82">
                  <c:v>0.783</c:v>
                </c:pt>
                <c:pt idx="83">
                  <c:v>0.75686</c:v>
                </c:pt>
                <c:pt idx="98">
                  <c:v>0.74355</c:v>
                </c:pt>
                <c:pt idx="99">
                  <c:v>0.74166</c:v>
                </c:pt>
                <c:pt idx="100">
                  <c:v>0.69985</c:v>
                </c:pt>
                <c:pt idx="101">
                  <c:v>0.6527</c:v>
                </c:pt>
                <c:pt idx="102">
                  <c:v>0.63751</c:v>
                </c:pt>
                <c:pt idx="103">
                  <c:v>0.62741</c:v>
                </c:pt>
                <c:pt idx="104">
                  <c:v>0.6152</c:v>
                </c:pt>
                <c:pt idx="106">
                  <c:v>0.59754</c:v>
                </c:pt>
                <c:pt idx="107">
                  <c:v>0.58738</c:v>
                </c:pt>
                <c:pt idx="109">
                  <c:v>0.58203</c:v>
                </c:pt>
                <c:pt idx="110">
                  <c:v>0.57554</c:v>
                </c:pt>
                <c:pt idx="111">
                  <c:v>0.56884</c:v>
                </c:pt>
                <c:pt idx="113">
                  <c:v>0.56251</c:v>
                </c:pt>
                <c:pt idx="114">
                  <c:v>0.55538</c:v>
                </c:pt>
                <c:pt idx="116">
                  <c:v>0.54803</c:v>
                </c:pt>
                <c:pt idx="117">
                  <c:v>0.54092</c:v>
                </c:pt>
                <c:pt idx="119">
                  <c:v>0.53351</c:v>
                </c:pt>
                <c:pt idx="120">
                  <c:v>0.52622</c:v>
                </c:pt>
                <c:pt idx="122">
                  <c:v>0.51899</c:v>
                </c:pt>
                <c:pt idx="123">
                  <c:v>0.512</c:v>
                </c:pt>
                <c:pt idx="124">
                  <c:v>0.50549</c:v>
                </c:pt>
                <c:pt idx="126">
                  <c:v>0.49928</c:v>
                </c:pt>
                <c:pt idx="127">
                  <c:v>0.4934</c:v>
                </c:pt>
                <c:pt idx="128">
                  <c:v>0.48763</c:v>
                </c:pt>
                <c:pt idx="130">
                  <c:v>0.48233</c:v>
                </c:pt>
                <c:pt idx="131">
                  <c:v>0.47719</c:v>
                </c:pt>
                <c:pt idx="132">
                  <c:v>0.47219</c:v>
                </c:pt>
                <c:pt idx="133">
                  <c:v>0.46736</c:v>
                </c:pt>
                <c:pt idx="134">
                  <c:v>0.46275</c:v>
                </c:pt>
                <c:pt idx="135">
                  <c:v>0.4582</c:v>
                </c:pt>
                <c:pt idx="136">
                  <c:v>0.45382</c:v>
                </c:pt>
                <c:pt idx="137">
                  <c:v>0.44958</c:v>
                </c:pt>
                <c:pt idx="138">
                  <c:v>0.44549</c:v>
                </c:pt>
                <c:pt idx="139">
                  <c:v>0.44155</c:v>
                </c:pt>
                <c:pt idx="140">
                  <c:v>0.43775</c:v>
                </c:pt>
                <c:pt idx="141">
                  <c:v>0.43411</c:v>
                </c:pt>
                <c:pt idx="142">
                  <c:v>0.43055</c:v>
                </c:pt>
                <c:pt idx="143">
                  <c:v>0.42719</c:v>
                </c:pt>
                <c:pt idx="144">
                  <c:v>0.42392</c:v>
                </c:pt>
                <c:pt idx="145">
                  <c:v>0.41927</c:v>
                </c:pt>
                <c:pt idx="146">
                  <c:v>0.41476</c:v>
                </c:pt>
                <c:pt idx="147">
                  <c:v>0.41198</c:v>
                </c:pt>
                <c:pt idx="148">
                  <c:v>0.40797</c:v>
                </c:pt>
                <c:pt idx="149">
                  <c:v>0.40408</c:v>
                </c:pt>
                <c:pt idx="150">
                  <c:v>0.40025</c:v>
                </c:pt>
                <c:pt idx="151">
                  <c:v>0.39815</c:v>
                </c:pt>
                <c:pt idx="152">
                  <c:v>0.39418</c:v>
                </c:pt>
                <c:pt idx="153">
                  <c:v>0.39027</c:v>
                </c:pt>
                <c:pt idx="154">
                  <c:v>0.38745</c:v>
                </c:pt>
                <c:pt idx="155">
                  <c:v>0.38363</c:v>
                </c:pt>
                <c:pt idx="156">
                  <c:v>0.38029</c:v>
                </c:pt>
                <c:pt idx="157">
                  <c:v>0.37718</c:v>
                </c:pt>
                <c:pt idx="158">
                  <c:v>0.37361</c:v>
                </c:pt>
                <c:pt idx="159">
                  <c:v>0.36975</c:v>
                </c:pt>
                <c:pt idx="160">
                  <c:v>0.36738</c:v>
                </c:pt>
              </c:numCache>
            </c:numRef>
          </c:yVal>
          <c:smooth val="0"/>
        </c:ser>
        <c:ser>
          <c:idx val="23"/>
          <c:order val="23"/>
          <c:tx>
            <c:strRef>
              <c:f>label 24</c:f>
              <c:strCache>
                <c:ptCount val="1"/>
                <c:pt idx="0">
                  <c:v>Spalte AY</c:v>
                </c:pt>
              </c:strCache>
            </c:strRef>
          </c:tx>
          <c:spPr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24</c:f>
              <c:numCache>
                <c:formatCode>General</c:formatCode>
                <c:ptCount val="171"/>
                <c:pt idx="1">
                  <c:v>0.23365</c:v>
                </c:pt>
                <c:pt idx="2">
                  <c:v>0.24556</c:v>
                </c:pt>
                <c:pt idx="3">
                  <c:v>0.26163</c:v>
                </c:pt>
                <c:pt idx="4">
                  <c:v>0.27594</c:v>
                </c:pt>
                <c:pt idx="5">
                  <c:v>0.28733</c:v>
                </c:pt>
                <c:pt idx="6">
                  <c:v>0.29612</c:v>
                </c:pt>
                <c:pt idx="7">
                  <c:v>0.30354</c:v>
                </c:pt>
                <c:pt idx="8">
                  <c:v>0.31128</c:v>
                </c:pt>
                <c:pt idx="9">
                  <c:v>0.31968</c:v>
                </c:pt>
                <c:pt idx="10">
                  <c:v>0.32868</c:v>
                </c:pt>
                <c:pt idx="11">
                  <c:v>0.33576</c:v>
                </c:pt>
                <c:pt idx="12">
                  <c:v>0.34363</c:v>
                </c:pt>
                <c:pt idx="13">
                  <c:v>0.35152</c:v>
                </c:pt>
                <c:pt idx="14">
                  <c:v>0.35674</c:v>
                </c:pt>
                <c:pt idx="15">
                  <c:v>0.36481</c:v>
                </c:pt>
                <c:pt idx="16">
                  <c:v>0.37344</c:v>
                </c:pt>
                <c:pt idx="17">
                  <c:v>0.37932</c:v>
                </c:pt>
                <c:pt idx="18">
                  <c:v>0.3852</c:v>
                </c:pt>
                <c:pt idx="19">
                  <c:v>0.3914</c:v>
                </c:pt>
                <c:pt idx="20">
                  <c:v>0.40092</c:v>
                </c:pt>
                <c:pt idx="21">
                  <c:v>0.41106</c:v>
                </c:pt>
                <c:pt idx="22">
                  <c:v>0.4185</c:v>
                </c:pt>
                <c:pt idx="23">
                  <c:v>0.42624</c:v>
                </c:pt>
                <c:pt idx="24">
                  <c:v>0.43423</c:v>
                </c:pt>
                <c:pt idx="25">
                  <c:v>0.44292</c:v>
                </c:pt>
                <c:pt idx="26">
                  <c:v>0.45151</c:v>
                </c:pt>
                <c:pt idx="27">
                  <c:v>0.46064</c:v>
                </c:pt>
                <c:pt idx="28">
                  <c:v>0.47035</c:v>
                </c:pt>
                <c:pt idx="29">
                  <c:v>0.47964</c:v>
                </c:pt>
                <c:pt idx="30">
                  <c:v>0.48909</c:v>
                </c:pt>
                <c:pt idx="31">
                  <c:v>0.49907</c:v>
                </c:pt>
                <c:pt idx="32">
                  <c:v>0.50856</c:v>
                </c:pt>
                <c:pt idx="33">
                  <c:v>0.51825</c:v>
                </c:pt>
                <c:pt idx="34">
                  <c:v>0.52767</c:v>
                </c:pt>
                <c:pt idx="35">
                  <c:v>0.53708</c:v>
                </c:pt>
                <c:pt idx="36">
                  <c:v>0.55148</c:v>
                </c:pt>
                <c:pt idx="37">
                  <c:v>0.56516</c:v>
                </c:pt>
                <c:pt idx="38">
                  <c:v>0.57379</c:v>
                </c:pt>
                <c:pt idx="39">
                  <c:v>0.58212</c:v>
                </c:pt>
                <c:pt idx="40">
                  <c:v>0.59095</c:v>
                </c:pt>
                <c:pt idx="41">
                  <c:v>0.60339</c:v>
                </c:pt>
                <c:pt idx="42">
                  <c:v>0.61594</c:v>
                </c:pt>
                <c:pt idx="43">
                  <c:v>0.62461</c:v>
                </c:pt>
                <c:pt idx="44">
                  <c:v>0.63722</c:v>
                </c:pt>
                <c:pt idx="45">
                  <c:v>0.64972</c:v>
                </c:pt>
                <c:pt idx="46">
                  <c:v>0.65766</c:v>
                </c:pt>
                <c:pt idx="47">
                  <c:v>0.66925</c:v>
                </c:pt>
                <c:pt idx="48">
                  <c:v>0.68038</c:v>
                </c:pt>
                <c:pt idx="49">
                  <c:v>0.69095</c:v>
                </c:pt>
                <c:pt idx="50">
                  <c:v>0.70519</c:v>
                </c:pt>
                <c:pt idx="51">
                  <c:v>0.71651</c:v>
                </c:pt>
                <c:pt idx="52">
                  <c:v>0.72858</c:v>
                </c:pt>
                <c:pt idx="53">
                  <c:v>0.7398</c:v>
                </c:pt>
                <c:pt idx="54">
                  <c:v>0.74938</c:v>
                </c:pt>
                <c:pt idx="55">
                  <c:v>0.76201</c:v>
                </c:pt>
                <c:pt idx="56">
                  <c:v>0.77742</c:v>
                </c:pt>
                <c:pt idx="57">
                  <c:v>0.79432</c:v>
                </c:pt>
                <c:pt idx="58">
                  <c:v>0.81391</c:v>
                </c:pt>
                <c:pt idx="59">
                  <c:v>0.83338</c:v>
                </c:pt>
                <c:pt idx="60">
                  <c:v>0.84631</c:v>
                </c:pt>
                <c:pt idx="61">
                  <c:v>0.85657</c:v>
                </c:pt>
                <c:pt idx="62">
                  <c:v>0.86243</c:v>
                </c:pt>
                <c:pt idx="63">
                  <c:v>0.86502</c:v>
                </c:pt>
                <c:pt idx="64">
                  <c:v>0.87276</c:v>
                </c:pt>
                <c:pt idx="65">
                  <c:v>0.87526</c:v>
                </c:pt>
                <c:pt idx="66">
                  <c:v>0.87211</c:v>
                </c:pt>
                <c:pt idx="67">
                  <c:v>0.86485</c:v>
                </c:pt>
                <c:pt idx="68">
                  <c:v>0.85296</c:v>
                </c:pt>
                <c:pt idx="69">
                  <c:v>0.84222</c:v>
                </c:pt>
                <c:pt idx="70">
                  <c:v>0.83498</c:v>
                </c:pt>
                <c:pt idx="71">
                  <c:v>0.83336</c:v>
                </c:pt>
                <c:pt idx="72">
                  <c:v>0.84227</c:v>
                </c:pt>
                <c:pt idx="73">
                  <c:v>0.87591</c:v>
                </c:pt>
                <c:pt idx="74">
                  <c:v>0.90155</c:v>
                </c:pt>
                <c:pt idx="75">
                  <c:v>0.89928</c:v>
                </c:pt>
                <c:pt idx="76">
                  <c:v>0.89844</c:v>
                </c:pt>
                <c:pt idx="77">
                  <c:v>0.88545</c:v>
                </c:pt>
                <c:pt idx="78">
                  <c:v>0.87325</c:v>
                </c:pt>
                <c:pt idx="79">
                  <c:v>0.84321</c:v>
                </c:pt>
                <c:pt idx="80">
                  <c:v>0.8253</c:v>
                </c:pt>
                <c:pt idx="99">
                  <c:v>0.82273</c:v>
                </c:pt>
                <c:pt idx="100">
                  <c:v>0.8002</c:v>
                </c:pt>
                <c:pt idx="101">
                  <c:v>0.7874</c:v>
                </c:pt>
                <c:pt idx="102">
                  <c:v>0.74404</c:v>
                </c:pt>
                <c:pt idx="103">
                  <c:v>0.6443</c:v>
                </c:pt>
                <c:pt idx="104">
                  <c:v>0.6264</c:v>
                </c:pt>
                <c:pt idx="105">
                  <c:v>0.61022</c:v>
                </c:pt>
                <c:pt idx="106">
                  <c:v>0.60066</c:v>
                </c:pt>
                <c:pt idx="107">
                  <c:v>0.59501</c:v>
                </c:pt>
                <c:pt idx="108">
                  <c:v>0.58867</c:v>
                </c:pt>
                <c:pt idx="109">
                  <c:v>0.58304</c:v>
                </c:pt>
                <c:pt idx="110">
                  <c:v>0.57729</c:v>
                </c:pt>
                <c:pt idx="111">
                  <c:v>0.57159</c:v>
                </c:pt>
                <c:pt idx="112">
                  <c:v>0.56567</c:v>
                </c:pt>
                <c:pt idx="113">
                  <c:v>0.55979</c:v>
                </c:pt>
                <c:pt idx="114">
                  <c:v>0.55446</c:v>
                </c:pt>
                <c:pt idx="115">
                  <c:v>0.54889</c:v>
                </c:pt>
                <c:pt idx="116">
                  <c:v>0.54347</c:v>
                </c:pt>
                <c:pt idx="117">
                  <c:v>0.53805</c:v>
                </c:pt>
                <c:pt idx="119">
                  <c:v>0.53261</c:v>
                </c:pt>
                <c:pt idx="120">
                  <c:v>0.52735</c:v>
                </c:pt>
                <c:pt idx="121">
                  <c:v>0.52205</c:v>
                </c:pt>
                <c:pt idx="122">
                  <c:v>0.51701</c:v>
                </c:pt>
                <c:pt idx="123">
                  <c:v>0.51207</c:v>
                </c:pt>
                <c:pt idx="124">
                  <c:v>0.50737</c:v>
                </c:pt>
                <c:pt idx="125">
                  <c:v>0.5028</c:v>
                </c:pt>
                <c:pt idx="127">
                  <c:v>0.4984</c:v>
                </c:pt>
                <c:pt idx="128">
                  <c:v>0.49419</c:v>
                </c:pt>
                <c:pt idx="129">
                  <c:v>0.49017</c:v>
                </c:pt>
                <c:pt idx="130">
                  <c:v>0.48639</c:v>
                </c:pt>
                <c:pt idx="131">
                  <c:v>0.48272</c:v>
                </c:pt>
                <c:pt idx="132">
                  <c:v>0.47919</c:v>
                </c:pt>
                <c:pt idx="133">
                  <c:v>0.47579</c:v>
                </c:pt>
                <c:pt idx="134">
                  <c:v>0.47241</c:v>
                </c:pt>
                <c:pt idx="135">
                  <c:v>0.46915</c:v>
                </c:pt>
                <c:pt idx="136">
                  <c:v>0.46598</c:v>
                </c:pt>
                <c:pt idx="137">
                  <c:v>0.46289</c:v>
                </c:pt>
                <c:pt idx="138">
                  <c:v>0.45984</c:v>
                </c:pt>
                <c:pt idx="139">
                  <c:v>0.4537</c:v>
                </c:pt>
                <c:pt idx="140">
                  <c:v>0.44781</c:v>
                </c:pt>
                <c:pt idx="141">
                  <c:v>0.4449</c:v>
                </c:pt>
                <c:pt idx="142">
                  <c:v>0.44212</c:v>
                </c:pt>
                <c:pt idx="143">
                  <c:v>0.43951</c:v>
                </c:pt>
                <c:pt idx="144">
                  <c:v>0.43572</c:v>
                </c:pt>
                <c:pt idx="145">
                  <c:v>0.43213</c:v>
                </c:pt>
                <c:pt idx="146">
                  <c:v>0.42873</c:v>
                </c:pt>
                <c:pt idx="147">
                  <c:v>0.42547</c:v>
                </c:pt>
                <c:pt idx="148">
                  <c:v>0.42246</c:v>
                </c:pt>
                <c:pt idx="149">
                  <c:v>0.41957</c:v>
                </c:pt>
                <c:pt idx="150">
                  <c:v>0.4168</c:v>
                </c:pt>
                <c:pt idx="151">
                  <c:v>0.41335</c:v>
                </c:pt>
                <c:pt idx="152">
                  <c:v>0.41012</c:v>
                </c:pt>
                <c:pt idx="153">
                  <c:v>0.40699</c:v>
                </c:pt>
                <c:pt idx="154">
                  <c:v>0.40421</c:v>
                </c:pt>
                <c:pt idx="155">
                  <c:v>0.40158</c:v>
                </c:pt>
                <c:pt idx="156">
                  <c:v>0.39854</c:v>
                </c:pt>
                <c:pt idx="157">
                  <c:v>0.39523</c:v>
                </c:pt>
                <c:pt idx="158">
                  <c:v>0.39231</c:v>
                </c:pt>
                <c:pt idx="159">
                  <c:v>0.38965</c:v>
                </c:pt>
                <c:pt idx="160">
                  <c:v>0.38688</c:v>
                </c:pt>
                <c:pt idx="161">
                  <c:v>0.38377</c:v>
                </c:pt>
                <c:pt idx="162">
                  <c:v>0.38093</c:v>
                </c:pt>
                <c:pt idx="163">
                  <c:v>0.37839</c:v>
                </c:pt>
                <c:pt idx="164">
                  <c:v>0.37682</c:v>
                </c:pt>
              </c:numCache>
            </c:numRef>
          </c:yVal>
          <c:smooth val="0"/>
        </c:ser>
        <c:ser>
          <c:idx val="24"/>
          <c:order val="24"/>
          <c:tx>
            <c:strRef>
              <c:f>label 25</c:f>
              <c:strCache>
                <c:ptCount val="1"/>
                <c:pt idx="0">
                  <c:v>Spalte BA</c:v>
                </c:pt>
              </c:strCache>
            </c:strRef>
          </c:tx>
          <c:spPr>
            <a:solidFill>
              <a:srgbClr val="000000"/>
            </a:solidFill>
            <a:ln w="21600">
              <a:solidFill>
                <a:srgbClr val="000000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25</c:f>
              <c:numCache>
                <c:formatCode>General</c:formatCode>
                <c:ptCount val="171"/>
                <c:pt idx="3">
                  <c:v>0.24465</c:v>
                </c:pt>
                <c:pt idx="4">
                  <c:v>0.245</c:v>
                </c:pt>
                <c:pt idx="5">
                  <c:v>0.25155</c:v>
                </c:pt>
                <c:pt idx="6">
                  <c:v>0.25997</c:v>
                </c:pt>
                <c:pt idx="7">
                  <c:v>0.268</c:v>
                </c:pt>
                <c:pt idx="8">
                  <c:v>0.27469</c:v>
                </c:pt>
                <c:pt idx="9">
                  <c:v>0.27999</c:v>
                </c:pt>
                <c:pt idx="10">
                  <c:v>0.28461</c:v>
                </c:pt>
                <c:pt idx="11">
                  <c:v>0.28946</c:v>
                </c:pt>
                <c:pt idx="12">
                  <c:v>0.2946</c:v>
                </c:pt>
                <c:pt idx="13">
                  <c:v>0.30006</c:v>
                </c:pt>
                <c:pt idx="14">
                  <c:v>0.30561</c:v>
                </c:pt>
                <c:pt idx="15">
                  <c:v>0.30981</c:v>
                </c:pt>
                <c:pt idx="16">
                  <c:v>0.31433</c:v>
                </c:pt>
                <c:pt idx="17">
                  <c:v>0.3189</c:v>
                </c:pt>
                <c:pt idx="18">
                  <c:v>0.32196</c:v>
                </c:pt>
                <c:pt idx="19">
                  <c:v>0.32649</c:v>
                </c:pt>
                <c:pt idx="20">
                  <c:v>0.33105</c:v>
                </c:pt>
                <c:pt idx="21">
                  <c:v>0.33604</c:v>
                </c:pt>
                <c:pt idx="22">
                  <c:v>0.34117</c:v>
                </c:pt>
                <c:pt idx="23">
                  <c:v>0.34441</c:v>
                </c:pt>
                <c:pt idx="24">
                  <c:v>0.35014</c:v>
                </c:pt>
                <c:pt idx="25">
                  <c:v>0.35583</c:v>
                </c:pt>
                <c:pt idx="26">
                  <c:v>0.3616</c:v>
                </c:pt>
                <c:pt idx="27">
                  <c:v>0.36729</c:v>
                </c:pt>
                <c:pt idx="28">
                  <c:v>0.37129</c:v>
                </c:pt>
                <c:pt idx="29">
                  <c:v>0.37732</c:v>
                </c:pt>
                <c:pt idx="30">
                  <c:v>0.38381</c:v>
                </c:pt>
                <c:pt idx="31">
                  <c:v>0.3881</c:v>
                </c:pt>
                <c:pt idx="32">
                  <c:v>0.39323</c:v>
                </c:pt>
                <c:pt idx="33">
                  <c:v>0.39977</c:v>
                </c:pt>
                <c:pt idx="34">
                  <c:v>0.40584</c:v>
                </c:pt>
                <c:pt idx="35">
                  <c:v>0.4123</c:v>
                </c:pt>
                <c:pt idx="36">
                  <c:v>0.41793</c:v>
                </c:pt>
                <c:pt idx="37">
                  <c:v>0.4191</c:v>
                </c:pt>
                <c:pt idx="38">
                  <c:v>0.42434</c:v>
                </c:pt>
                <c:pt idx="39">
                  <c:v>0.43004</c:v>
                </c:pt>
                <c:pt idx="40">
                  <c:v>0.43785</c:v>
                </c:pt>
                <c:pt idx="41">
                  <c:v>0.4463</c:v>
                </c:pt>
                <c:pt idx="42">
                  <c:v>0.45313</c:v>
                </c:pt>
                <c:pt idx="43">
                  <c:v>0.45794</c:v>
                </c:pt>
                <c:pt idx="44">
                  <c:v>0.46522</c:v>
                </c:pt>
                <c:pt idx="45">
                  <c:v>0.47381</c:v>
                </c:pt>
                <c:pt idx="46">
                  <c:v>0.48366</c:v>
                </c:pt>
                <c:pt idx="47">
                  <c:v>0.49381</c:v>
                </c:pt>
                <c:pt idx="48">
                  <c:v>0.50297</c:v>
                </c:pt>
                <c:pt idx="49">
                  <c:v>0.51394</c:v>
                </c:pt>
                <c:pt idx="50">
                  <c:v>0.52261</c:v>
                </c:pt>
                <c:pt idx="51">
                  <c:v>0.53556</c:v>
                </c:pt>
                <c:pt idx="52">
                  <c:v>0.54944</c:v>
                </c:pt>
                <c:pt idx="53">
                  <c:v>0.56159</c:v>
                </c:pt>
                <c:pt idx="54">
                  <c:v>0.5783</c:v>
                </c:pt>
                <c:pt idx="55">
                  <c:v>0.59778</c:v>
                </c:pt>
                <c:pt idx="56">
                  <c:v>0.61859</c:v>
                </c:pt>
                <c:pt idx="57">
                  <c:v>0.63943</c:v>
                </c:pt>
                <c:pt idx="58">
                  <c:v>0.66984</c:v>
                </c:pt>
                <c:pt idx="59">
                  <c:v>0.71075</c:v>
                </c:pt>
                <c:pt idx="60">
                  <c:v>0.73704</c:v>
                </c:pt>
                <c:pt idx="61">
                  <c:v>0.74111</c:v>
                </c:pt>
                <c:pt idx="62">
                  <c:v>0.74314</c:v>
                </c:pt>
                <c:pt idx="63">
                  <c:v>0.74902</c:v>
                </c:pt>
                <c:pt idx="64">
                  <c:v>0.75165</c:v>
                </c:pt>
                <c:pt idx="65">
                  <c:v>0.74758</c:v>
                </c:pt>
                <c:pt idx="66">
                  <c:v>0.74431</c:v>
                </c:pt>
                <c:pt idx="67">
                  <c:v>0.74499</c:v>
                </c:pt>
                <c:pt idx="68">
                  <c:v>0.74839</c:v>
                </c:pt>
                <c:pt idx="69">
                  <c:v>0.75088</c:v>
                </c:pt>
                <c:pt idx="70">
                  <c:v>0.74917</c:v>
                </c:pt>
                <c:pt idx="71">
                  <c:v>0.74647</c:v>
                </c:pt>
                <c:pt idx="72">
                  <c:v>0.74306</c:v>
                </c:pt>
                <c:pt idx="73">
                  <c:v>0.73545</c:v>
                </c:pt>
                <c:pt idx="74">
                  <c:v>0.7247</c:v>
                </c:pt>
                <c:pt idx="75">
                  <c:v>0.7124</c:v>
                </c:pt>
                <c:pt idx="76">
                  <c:v>0.71061</c:v>
                </c:pt>
                <c:pt idx="77">
                  <c:v>0.70974</c:v>
                </c:pt>
                <c:pt idx="78">
                  <c:v>0.69674</c:v>
                </c:pt>
                <c:pt idx="79">
                  <c:v>0.69241</c:v>
                </c:pt>
                <c:pt idx="102">
                  <c:v>0.68486</c:v>
                </c:pt>
                <c:pt idx="103">
                  <c:v>0.65011</c:v>
                </c:pt>
                <c:pt idx="104">
                  <c:v>0.64304</c:v>
                </c:pt>
                <c:pt idx="105">
                  <c:v>0.63592</c:v>
                </c:pt>
                <c:pt idx="107">
                  <c:v>0.62719</c:v>
                </c:pt>
                <c:pt idx="108">
                  <c:v>0.62052</c:v>
                </c:pt>
                <c:pt idx="109">
                  <c:v>0.61363</c:v>
                </c:pt>
                <c:pt idx="110">
                  <c:v>0.60781</c:v>
                </c:pt>
                <c:pt idx="111">
                  <c:v>0.60233</c:v>
                </c:pt>
                <c:pt idx="112">
                  <c:v>0.59791</c:v>
                </c:pt>
                <c:pt idx="113">
                  <c:v>0.59369</c:v>
                </c:pt>
                <c:pt idx="115">
                  <c:v>0.58901</c:v>
                </c:pt>
                <c:pt idx="116">
                  <c:v>0.58421</c:v>
                </c:pt>
                <c:pt idx="117">
                  <c:v>0.58025</c:v>
                </c:pt>
                <c:pt idx="118">
                  <c:v>0.57516</c:v>
                </c:pt>
                <c:pt idx="119">
                  <c:v>0.57021</c:v>
                </c:pt>
                <c:pt idx="120">
                  <c:v>0.56509</c:v>
                </c:pt>
                <c:pt idx="121">
                  <c:v>0.55971</c:v>
                </c:pt>
                <c:pt idx="123">
                  <c:v>0.55428</c:v>
                </c:pt>
                <c:pt idx="124">
                  <c:v>0.54844</c:v>
                </c:pt>
                <c:pt idx="125">
                  <c:v>0.54278</c:v>
                </c:pt>
                <c:pt idx="126">
                  <c:v>0.53726</c:v>
                </c:pt>
                <c:pt idx="127">
                  <c:v>0.53172</c:v>
                </c:pt>
                <c:pt idx="128">
                  <c:v>0.52614</c:v>
                </c:pt>
                <c:pt idx="129">
                  <c:v>0.52043</c:v>
                </c:pt>
                <c:pt idx="130">
                  <c:v>0.5119</c:v>
                </c:pt>
                <c:pt idx="131">
                  <c:v>0.50336</c:v>
                </c:pt>
                <c:pt idx="132">
                  <c:v>0.49756</c:v>
                </c:pt>
                <c:pt idx="133">
                  <c:v>0.49163</c:v>
                </c:pt>
                <c:pt idx="134">
                  <c:v>0.48564</c:v>
                </c:pt>
                <c:pt idx="135">
                  <c:v>0.47659</c:v>
                </c:pt>
                <c:pt idx="136">
                  <c:v>0.46786</c:v>
                </c:pt>
                <c:pt idx="137">
                  <c:v>0.46008</c:v>
                </c:pt>
                <c:pt idx="138">
                  <c:v>0.45313</c:v>
                </c:pt>
                <c:pt idx="139">
                  <c:v>0.44714</c:v>
                </c:pt>
                <c:pt idx="140">
                  <c:v>0.44177</c:v>
                </c:pt>
                <c:pt idx="141">
                  <c:v>0.43693</c:v>
                </c:pt>
                <c:pt idx="142">
                  <c:v>0.43093</c:v>
                </c:pt>
                <c:pt idx="143">
                  <c:v>0.42544</c:v>
                </c:pt>
                <c:pt idx="144">
                  <c:v>0.42031</c:v>
                </c:pt>
                <c:pt idx="145">
                  <c:v>0.41556</c:v>
                </c:pt>
                <c:pt idx="146">
                  <c:v>0.41001</c:v>
                </c:pt>
                <c:pt idx="147">
                  <c:v>0.40484</c:v>
                </c:pt>
                <c:pt idx="148">
                  <c:v>0.4001</c:v>
                </c:pt>
                <c:pt idx="149">
                  <c:v>0.39481</c:v>
                </c:pt>
                <c:pt idx="150">
                  <c:v>0.39001</c:v>
                </c:pt>
                <c:pt idx="151">
                  <c:v>0.38492</c:v>
                </c:pt>
                <c:pt idx="152">
                  <c:v>0.3797</c:v>
                </c:pt>
                <c:pt idx="153">
                  <c:v>0.37452</c:v>
                </c:pt>
                <c:pt idx="154">
                  <c:v>0.36954</c:v>
                </c:pt>
                <c:pt idx="155">
                  <c:v>0.36485</c:v>
                </c:pt>
                <c:pt idx="156">
                  <c:v>0.36023</c:v>
                </c:pt>
                <c:pt idx="157">
                  <c:v>0.35663</c:v>
                </c:pt>
              </c:numCache>
            </c:numRef>
          </c:yVal>
          <c:smooth val="0"/>
        </c:ser>
        <c:ser>
          <c:idx val="25"/>
          <c:order val="25"/>
          <c:tx>
            <c:strRef>
              <c:f>label 26</c:f>
              <c:strCache>
                <c:ptCount val="1"/>
                <c:pt idx="0">
                  <c:v>Spalte B</c:v>
                </c:pt>
              </c:strCache>
            </c:strRef>
          </c:tx>
          <c:spPr>
            <a:solidFill>
              <a:srgbClr val="ff0000"/>
            </a:solidFill>
            <a:ln w="21600">
              <a:solidFill>
                <a:srgbClr val="ff0000"/>
              </a:solidFill>
              <a:round/>
            </a:ln>
          </c:spPr>
          <c:marker>
            <c:symbol val="none"/>
          </c:marker>
          <c:dLbls>
            <c:txPr>
              <a:bodyPr wrap="none"/>
              <a:lstStyle/>
              <a:p>
                <a:pPr>
                  <a:defRPr b="0" sz="1290" spc="-1" strike="noStrike">
                    <a:solidFill>
                      <a:srgbClr val="000000"/>
                    </a:solidFill>
                    <a:latin typeface="Arial"/>
                    <a:ea typeface="DejaVu LGC San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171"/>
                <c:pt idx="0">
                  <c:v>10</c:v>
                </c:pt>
                <c:pt idx="1">
                  <c:v>11</c:v>
                </c:pt>
                <c:pt idx="2">
                  <c:v>12</c:v>
                </c:pt>
                <c:pt idx="3">
                  <c:v>13</c:v>
                </c:pt>
                <c:pt idx="4">
                  <c:v>14</c:v>
                </c:pt>
                <c:pt idx="5">
                  <c:v>15</c:v>
                </c:pt>
                <c:pt idx="6">
                  <c:v>16</c:v>
                </c:pt>
                <c:pt idx="7">
                  <c:v>17</c:v>
                </c:pt>
                <c:pt idx="8">
                  <c:v>18</c:v>
                </c:pt>
                <c:pt idx="9">
                  <c:v>19</c:v>
                </c:pt>
                <c:pt idx="10">
                  <c:v>20</c:v>
                </c:pt>
                <c:pt idx="11">
                  <c:v>21</c:v>
                </c:pt>
                <c:pt idx="12">
                  <c:v>22</c:v>
                </c:pt>
                <c:pt idx="13">
                  <c:v>23</c:v>
                </c:pt>
                <c:pt idx="14">
                  <c:v>24</c:v>
                </c:pt>
                <c:pt idx="15">
                  <c:v>25</c:v>
                </c:pt>
                <c:pt idx="16">
                  <c:v>26</c:v>
                </c:pt>
                <c:pt idx="17">
                  <c:v>27</c:v>
                </c:pt>
                <c:pt idx="18">
                  <c:v>28</c:v>
                </c:pt>
                <c:pt idx="19">
                  <c:v>29</c:v>
                </c:pt>
                <c:pt idx="20">
                  <c:v>30</c:v>
                </c:pt>
                <c:pt idx="21">
                  <c:v>31</c:v>
                </c:pt>
                <c:pt idx="22">
                  <c:v>32</c:v>
                </c:pt>
                <c:pt idx="23">
                  <c:v>33</c:v>
                </c:pt>
                <c:pt idx="24">
                  <c:v>34</c:v>
                </c:pt>
                <c:pt idx="25">
                  <c:v>35</c:v>
                </c:pt>
                <c:pt idx="26">
                  <c:v>36</c:v>
                </c:pt>
                <c:pt idx="27">
                  <c:v>37</c:v>
                </c:pt>
                <c:pt idx="28">
                  <c:v>38</c:v>
                </c:pt>
                <c:pt idx="29">
                  <c:v>39</c:v>
                </c:pt>
                <c:pt idx="30">
                  <c:v>40</c:v>
                </c:pt>
                <c:pt idx="31">
                  <c:v>41</c:v>
                </c:pt>
                <c:pt idx="32">
                  <c:v>42</c:v>
                </c:pt>
                <c:pt idx="33">
                  <c:v>43</c:v>
                </c:pt>
                <c:pt idx="34">
                  <c:v>44</c:v>
                </c:pt>
                <c:pt idx="35">
                  <c:v>45</c:v>
                </c:pt>
                <c:pt idx="36">
                  <c:v>46</c:v>
                </c:pt>
                <c:pt idx="37">
                  <c:v>47</c:v>
                </c:pt>
                <c:pt idx="38">
                  <c:v>48</c:v>
                </c:pt>
                <c:pt idx="39">
                  <c:v>49</c:v>
                </c:pt>
                <c:pt idx="40">
                  <c:v>50</c:v>
                </c:pt>
                <c:pt idx="41">
                  <c:v>51</c:v>
                </c:pt>
                <c:pt idx="42">
                  <c:v>52</c:v>
                </c:pt>
                <c:pt idx="43">
                  <c:v>53</c:v>
                </c:pt>
                <c:pt idx="44">
                  <c:v>54</c:v>
                </c:pt>
                <c:pt idx="45">
                  <c:v>55</c:v>
                </c:pt>
                <c:pt idx="46">
                  <c:v>56</c:v>
                </c:pt>
                <c:pt idx="47">
                  <c:v>57</c:v>
                </c:pt>
                <c:pt idx="48">
                  <c:v>58</c:v>
                </c:pt>
                <c:pt idx="49">
                  <c:v>59</c:v>
                </c:pt>
                <c:pt idx="50">
                  <c:v>60</c:v>
                </c:pt>
                <c:pt idx="51">
                  <c:v>61</c:v>
                </c:pt>
                <c:pt idx="52">
                  <c:v>62</c:v>
                </c:pt>
                <c:pt idx="53">
                  <c:v>63</c:v>
                </c:pt>
                <c:pt idx="54">
                  <c:v>64</c:v>
                </c:pt>
                <c:pt idx="55">
                  <c:v>65</c:v>
                </c:pt>
                <c:pt idx="56">
                  <c:v>66</c:v>
                </c:pt>
                <c:pt idx="57">
                  <c:v>67</c:v>
                </c:pt>
                <c:pt idx="58">
                  <c:v>68</c:v>
                </c:pt>
                <c:pt idx="59">
                  <c:v>69</c:v>
                </c:pt>
                <c:pt idx="60">
                  <c:v>70</c:v>
                </c:pt>
                <c:pt idx="61">
                  <c:v>71</c:v>
                </c:pt>
                <c:pt idx="62">
                  <c:v>72</c:v>
                </c:pt>
                <c:pt idx="63">
                  <c:v>73</c:v>
                </c:pt>
                <c:pt idx="64">
                  <c:v>74</c:v>
                </c:pt>
                <c:pt idx="65">
                  <c:v>75</c:v>
                </c:pt>
                <c:pt idx="66">
                  <c:v>76</c:v>
                </c:pt>
                <c:pt idx="67">
                  <c:v>77</c:v>
                </c:pt>
                <c:pt idx="68">
                  <c:v>78</c:v>
                </c:pt>
                <c:pt idx="69">
                  <c:v>79</c:v>
                </c:pt>
                <c:pt idx="70">
                  <c:v>80</c:v>
                </c:pt>
                <c:pt idx="71">
                  <c:v>81</c:v>
                </c:pt>
                <c:pt idx="72">
                  <c:v>82</c:v>
                </c:pt>
                <c:pt idx="73">
                  <c:v>83</c:v>
                </c:pt>
                <c:pt idx="74">
                  <c:v>84</c:v>
                </c:pt>
                <c:pt idx="75">
                  <c:v>85</c:v>
                </c:pt>
                <c:pt idx="76">
                  <c:v>86</c:v>
                </c:pt>
                <c:pt idx="77">
                  <c:v>87</c:v>
                </c:pt>
                <c:pt idx="78">
                  <c:v>88</c:v>
                </c:pt>
                <c:pt idx="79">
                  <c:v>89</c:v>
                </c:pt>
                <c:pt idx="80">
                  <c:v>90</c:v>
                </c:pt>
                <c:pt idx="81">
                  <c:v>91</c:v>
                </c:pt>
                <c:pt idx="82">
                  <c:v>92</c:v>
                </c:pt>
                <c:pt idx="83">
                  <c:v>93</c:v>
                </c:pt>
                <c:pt idx="84">
                  <c:v>94</c:v>
                </c:pt>
                <c:pt idx="85">
                  <c:v>95</c:v>
                </c:pt>
                <c:pt idx="86">
                  <c:v>96</c:v>
                </c:pt>
                <c:pt idx="87">
                  <c:v>97</c:v>
                </c:pt>
                <c:pt idx="88">
                  <c:v>98</c:v>
                </c:pt>
                <c:pt idx="89">
                  <c:v>99</c:v>
                </c:pt>
                <c:pt idx="90">
                  <c:v>100</c:v>
                </c:pt>
                <c:pt idx="91">
                  <c:v>99</c:v>
                </c:pt>
                <c:pt idx="92">
                  <c:v>98</c:v>
                </c:pt>
                <c:pt idx="93">
                  <c:v>97</c:v>
                </c:pt>
                <c:pt idx="94">
                  <c:v>96</c:v>
                </c:pt>
                <c:pt idx="95">
                  <c:v>95</c:v>
                </c:pt>
                <c:pt idx="96">
                  <c:v>94</c:v>
                </c:pt>
                <c:pt idx="97">
                  <c:v>93</c:v>
                </c:pt>
                <c:pt idx="98">
                  <c:v>92</c:v>
                </c:pt>
                <c:pt idx="99">
                  <c:v>91</c:v>
                </c:pt>
                <c:pt idx="100">
                  <c:v>90</c:v>
                </c:pt>
                <c:pt idx="101">
                  <c:v>89</c:v>
                </c:pt>
                <c:pt idx="102">
                  <c:v>88</c:v>
                </c:pt>
                <c:pt idx="103">
                  <c:v>87</c:v>
                </c:pt>
                <c:pt idx="104">
                  <c:v>86</c:v>
                </c:pt>
                <c:pt idx="105">
                  <c:v>85</c:v>
                </c:pt>
                <c:pt idx="106">
                  <c:v>84</c:v>
                </c:pt>
                <c:pt idx="107">
                  <c:v>83</c:v>
                </c:pt>
                <c:pt idx="108">
                  <c:v>82</c:v>
                </c:pt>
                <c:pt idx="109">
                  <c:v>81</c:v>
                </c:pt>
                <c:pt idx="110">
                  <c:v>80</c:v>
                </c:pt>
                <c:pt idx="111">
                  <c:v>79</c:v>
                </c:pt>
                <c:pt idx="112">
                  <c:v>78</c:v>
                </c:pt>
                <c:pt idx="113">
                  <c:v>77</c:v>
                </c:pt>
                <c:pt idx="114">
                  <c:v>76</c:v>
                </c:pt>
                <c:pt idx="115">
                  <c:v>75</c:v>
                </c:pt>
                <c:pt idx="116">
                  <c:v>74</c:v>
                </c:pt>
                <c:pt idx="117">
                  <c:v>73</c:v>
                </c:pt>
                <c:pt idx="118">
                  <c:v>72</c:v>
                </c:pt>
                <c:pt idx="119">
                  <c:v>71</c:v>
                </c:pt>
                <c:pt idx="120">
                  <c:v>70</c:v>
                </c:pt>
                <c:pt idx="121">
                  <c:v>69</c:v>
                </c:pt>
                <c:pt idx="122">
                  <c:v>68</c:v>
                </c:pt>
                <c:pt idx="123">
                  <c:v>67</c:v>
                </c:pt>
                <c:pt idx="124">
                  <c:v>66</c:v>
                </c:pt>
                <c:pt idx="125">
                  <c:v>65</c:v>
                </c:pt>
                <c:pt idx="126">
                  <c:v>64</c:v>
                </c:pt>
                <c:pt idx="127">
                  <c:v>63</c:v>
                </c:pt>
                <c:pt idx="128">
                  <c:v>62</c:v>
                </c:pt>
                <c:pt idx="129">
                  <c:v>61</c:v>
                </c:pt>
                <c:pt idx="130">
                  <c:v>60</c:v>
                </c:pt>
                <c:pt idx="131">
                  <c:v>59</c:v>
                </c:pt>
                <c:pt idx="132">
                  <c:v>58</c:v>
                </c:pt>
                <c:pt idx="133">
                  <c:v>57</c:v>
                </c:pt>
                <c:pt idx="134">
                  <c:v>56</c:v>
                </c:pt>
                <c:pt idx="135">
                  <c:v>55</c:v>
                </c:pt>
                <c:pt idx="136">
                  <c:v>54</c:v>
                </c:pt>
                <c:pt idx="137">
                  <c:v>53</c:v>
                </c:pt>
                <c:pt idx="138">
                  <c:v>52</c:v>
                </c:pt>
                <c:pt idx="139">
                  <c:v>51</c:v>
                </c:pt>
                <c:pt idx="140">
                  <c:v>50</c:v>
                </c:pt>
                <c:pt idx="141">
                  <c:v>49</c:v>
                </c:pt>
                <c:pt idx="142">
                  <c:v>48</c:v>
                </c:pt>
                <c:pt idx="143">
                  <c:v>47</c:v>
                </c:pt>
                <c:pt idx="144">
                  <c:v>46</c:v>
                </c:pt>
                <c:pt idx="145">
                  <c:v>45</c:v>
                </c:pt>
                <c:pt idx="146">
                  <c:v>44</c:v>
                </c:pt>
                <c:pt idx="147">
                  <c:v>43</c:v>
                </c:pt>
                <c:pt idx="148">
                  <c:v>42</c:v>
                </c:pt>
                <c:pt idx="149">
                  <c:v>41</c:v>
                </c:pt>
                <c:pt idx="150">
                  <c:v>40</c:v>
                </c:pt>
                <c:pt idx="151">
                  <c:v>39</c:v>
                </c:pt>
                <c:pt idx="152">
                  <c:v>38</c:v>
                </c:pt>
                <c:pt idx="153">
                  <c:v>37</c:v>
                </c:pt>
                <c:pt idx="154">
                  <c:v>36</c:v>
                </c:pt>
                <c:pt idx="155">
                  <c:v>35</c:v>
                </c:pt>
                <c:pt idx="156">
                  <c:v>34</c:v>
                </c:pt>
                <c:pt idx="157">
                  <c:v>33</c:v>
                </c:pt>
                <c:pt idx="158">
                  <c:v>32</c:v>
                </c:pt>
                <c:pt idx="159">
                  <c:v>31</c:v>
                </c:pt>
                <c:pt idx="160">
                  <c:v>30</c:v>
                </c:pt>
                <c:pt idx="161">
                  <c:v>29</c:v>
                </c:pt>
                <c:pt idx="162">
                  <c:v>28</c:v>
                </c:pt>
                <c:pt idx="163">
                  <c:v>27</c:v>
                </c:pt>
                <c:pt idx="164">
                  <c:v>26</c:v>
                </c:pt>
                <c:pt idx="165">
                  <c:v>25</c:v>
                </c:pt>
                <c:pt idx="166">
                  <c:v>24</c:v>
                </c:pt>
                <c:pt idx="167">
                  <c:v>23</c:v>
                </c:pt>
                <c:pt idx="168">
                  <c:v>22</c:v>
                </c:pt>
                <c:pt idx="169">
                  <c:v>21</c:v>
                </c:pt>
                <c:pt idx="170">
                  <c:v>20</c:v>
                </c:pt>
              </c:numCache>
            </c:numRef>
          </c:xVal>
          <c:yVal>
            <c:numRef>
              <c:f>26</c:f>
              <c:numCache>
                <c:formatCode>General</c:formatCode>
                <c:ptCount val="171"/>
                <c:pt idx="0">
                  <c:v>0.23456</c:v>
                </c:pt>
                <c:pt idx="1">
                  <c:v>0.241476666666667</c:v>
                </c:pt>
                <c:pt idx="2">
                  <c:v>0.24821</c:v>
                </c:pt>
                <c:pt idx="3">
                  <c:v>0.260245714285714</c:v>
                </c:pt>
                <c:pt idx="4">
                  <c:v>0.261109090909091</c:v>
                </c:pt>
                <c:pt idx="5">
                  <c:v>0.267299166666667</c:v>
                </c:pt>
                <c:pt idx="6">
                  <c:v>0.278526363636364</c:v>
                </c:pt>
                <c:pt idx="7">
                  <c:v>0.285264166666667</c:v>
                </c:pt>
                <c:pt idx="8">
                  <c:v>0.294666923076923</c:v>
                </c:pt>
                <c:pt idx="9">
                  <c:v>0.303810769230769</c:v>
                </c:pt>
                <c:pt idx="10">
                  <c:v>0.305824615384615</c:v>
                </c:pt>
                <c:pt idx="11">
                  <c:v>0.310058</c:v>
                </c:pt>
                <c:pt idx="12">
                  <c:v>0.319139333333333</c:v>
                </c:pt>
                <c:pt idx="13">
                  <c:v>0.323128125</c:v>
                </c:pt>
                <c:pt idx="14">
                  <c:v>0.33316875</c:v>
                </c:pt>
                <c:pt idx="15">
                  <c:v>0.328960333333333</c:v>
                </c:pt>
                <c:pt idx="16">
                  <c:v>0.335439473684211</c:v>
                </c:pt>
                <c:pt idx="17">
                  <c:v>0.343423</c:v>
                </c:pt>
                <c:pt idx="18">
                  <c:v>0.3519065</c:v>
                </c:pt>
                <c:pt idx="19">
                  <c:v>0.3527825</c:v>
                </c:pt>
                <c:pt idx="20">
                  <c:v>0.36097347826087</c:v>
                </c:pt>
                <c:pt idx="21">
                  <c:v>0.366273636363636</c:v>
                </c:pt>
                <c:pt idx="22">
                  <c:v>0.378099583333333</c:v>
                </c:pt>
                <c:pt idx="23">
                  <c:v>0.379685714285714</c:v>
                </c:pt>
                <c:pt idx="24">
                  <c:v>0.3922756</c:v>
                </c:pt>
                <c:pt idx="25">
                  <c:v>0.403598181818182</c:v>
                </c:pt>
                <c:pt idx="26">
                  <c:v>0.4068904</c:v>
                </c:pt>
                <c:pt idx="27">
                  <c:v>0.407822857142857</c:v>
                </c:pt>
                <c:pt idx="28">
                  <c:v>0.416476956521739</c:v>
                </c:pt>
                <c:pt idx="29">
                  <c:v>0.423069583333333</c:v>
                </c:pt>
                <c:pt idx="30">
                  <c:v>0.434995</c:v>
                </c:pt>
                <c:pt idx="31">
                  <c:v>0.442511304347826</c:v>
                </c:pt>
                <c:pt idx="32">
                  <c:v>0.450376666666667</c:v>
                </c:pt>
                <c:pt idx="33">
                  <c:v>0.457930434782609</c:v>
                </c:pt>
                <c:pt idx="34">
                  <c:v>0.471697619047619</c:v>
                </c:pt>
                <c:pt idx="35">
                  <c:v>0.474773043478261</c:v>
                </c:pt>
                <c:pt idx="36">
                  <c:v>0.476336363636364</c:v>
                </c:pt>
                <c:pt idx="37">
                  <c:v>0.491936</c:v>
                </c:pt>
                <c:pt idx="38">
                  <c:v>0.497475217391304</c:v>
                </c:pt>
                <c:pt idx="39">
                  <c:v>0.507643333333333</c:v>
                </c:pt>
                <c:pt idx="40">
                  <c:v>0.522697391304348</c:v>
                </c:pt>
                <c:pt idx="41">
                  <c:v>0.52693</c:v>
                </c:pt>
                <c:pt idx="42">
                  <c:v>0.538204166666667</c:v>
                </c:pt>
                <c:pt idx="43">
                  <c:v>0.542439130434783</c:v>
                </c:pt>
                <c:pt idx="44">
                  <c:v>0.556789583333333</c:v>
                </c:pt>
                <c:pt idx="45">
                  <c:v>0.5603216</c:v>
                </c:pt>
                <c:pt idx="46">
                  <c:v>0.568643333333333</c:v>
                </c:pt>
                <c:pt idx="47">
                  <c:v>0.577188</c:v>
                </c:pt>
                <c:pt idx="48">
                  <c:v>0.58600625</c:v>
                </c:pt>
                <c:pt idx="49">
                  <c:v>0.594762173913044</c:v>
                </c:pt>
                <c:pt idx="50">
                  <c:v>0.611000869565217</c:v>
                </c:pt>
                <c:pt idx="51">
                  <c:v>0.612685652173913</c:v>
                </c:pt>
                <c:pt idx="52">
                  <c:v>0.625267916666667</c:v>
                </c:pt>
                <c:pt idx="53">
                  <c:v>0.627421666666667</c:v>
                </c:pt>
                <c:pt idx="54">
                  <c:v>0.642326</c:v>
                </c:pt>
                <c:pt idx="55">
                  <c:v>0.660231666666667</c:v>
                </c:pt>
                <c:pt idx="56">
                  <c:v>0.66705</c:v>
                </c:pt>
                <c:pt idx="57">
                  <c:v>0.6787408</c:v>
                </c:pt>
                <c:pt idx="58">
                  <c:v>0.6912852</c:v>
                </c:pt>
                <c:pt idx="59">
                  <c:v>0.7059825</c:v>
                </c:pt>
                <c:pt idx="60">
                  <c:v>0.718242083333333</c:v>
                </c:pt>
                <c:pt idx="61">
                  <c:v>0.7295964</c:v>
                </c:pt>
                <c:pt idx="62">
                  <c:v>0.749528695652174</c:v>
                </c:pt>
                <c:pt idx="63">
                  <c:v>0.7526608</c:v>
                </c:pt>
                <c:pt idx="64">
                  <c:v>0.759234782608696</c:v>
                </c:pt>
                <c:pt idx="65">
                  <c:v>0.772718695652174</c:v>
                </c:pt>
                <c:pt idx="66">
                  <c:v>0.776446666666667</c:v>
                </c:pt>
                <c:pt idx="67">
                  <c:v>0.780922083333333</c:v>
                </c:pt>
                <c:pt idx="68">
                  <c:v>0.78853</c:v>
                </c:pt>
                <c:pt idx="69">
                  <c:v>0.784545</c:v>
                </c:pt>
                <c:pt idx="70">
                  <c:v>0.791289565217391</c:v>
                </c:pt>
                <c:pt idx="71">
                  <c:v>0.788465416666667</c:v>
                </c:pt>
                <c:pt idx="72">
                  <c:v>0.791221666666667</c:v>
                </c:pt>
                <c:pt idx="73">
                  <c:v>0.790651666666667</c:v>
                </c:pt>
                <c:pt idx="74">
                  <c:v>0.790473333333333</c:v>
                </c:pt>
                <c:pt idx="75">
                  <c:v>0.788565</c:v>
                </c:pt>
                <c:pt idx="76">
                  <c:v>0.7867775</c:v>
                </c:pt>
                <c:pt idx="77">
                  <c:v>0.777718</c:v>
                </c:pt>
                <c:pt idx="78">
                  <c:v>0.765852083333333</c:v>
                </c:pt>
                <c:pt idx="79">
                  <c:v>0.755921739130435</c:v>
                </c:pt>
                <c:pt idx="80">
                  <c:v>0.752124761904762</c:v>
                </c:pt>
                <c:pt idx="81">
                  <c:v>0.734324375</c:v>
                </c:pt>
                <c:pt idx="82">
                  <c:v>0.7316005</c:v>
                </c:pt>
                <c:pt idx="83">
                  <c:v>0.712737</c:v>
                </c:pt>
                <c:pt idx="84">
                  <c:v>0.679302</c:v>
                </c:pt>
                <c:pt idx="85">
                  <c:v>0.7068</c:v>
                </c:pt>
                <c:pt idx="86">
                  <c:v>0.66897</c:v>
                </c:pt>
                <c:pt idx="87">
                  <c:v>0.65823</c:v>
                </c:pt>
                <c:pt idx="88">
                  <c:v>0.63794</c:v>
                </c:pt>
                <c:pt idx="93">
                  <c:v>0.63877</c:v>
                </c:pt>
                <c:pt idx="94">
                  <c:v>0.63668</c:v>
                </c:pt>
                <c:pt idx="95">
                  <c:v>0.60542</c:v>
                </c:pt>
                <c:pt idx="96">
                  <c:v>0.63732</c:v>
                </c:pt>
                <c:pt idx="97">
                  <c:v>0.642268333333333</c:v>
                </c:pt>
                <c:pt idx="98">
                  <c:v>0.645732</c:v>
                </c:pt>
                <c:pt idx="99">
                  <c:v>0.653596</c:v>
                </c:pt>
                <c:pt idx="100">
                  <c:v>0.625675882352941</c:v>
                </c:pt>
                <c:pt idx="101">
                  <c:v>0.6219045</c:v>
                </c:pt>
                <c:pt idx="102">
                  <c:v>0.614909545454545</c:v>
                </c:pt>
                <c:pt idx="103">
                  <c:v>0.600261363636364</c:v>
                </c:pt>
                <c:pt idx="104">
                  <c:v>0.602952631578947</c:v>
                </c:pt>
                <c:pt idx="105">
                  <c:v>0.583590833333333</c:v>
                </c:pt>
                <c:pt idx="106">
                  <c:v>0.57727</c:v>
                </c:pt>
                <c:pt idx="107">
                  <c:v>0.572181</c:v>
                </c:pt>
                <c:pt idx="108">
                  <c:v>0.565018181818182</c:v>
                </c:pt>
                <c:pt idx="109">
                  <c:v>0.555338695652174</c:v>
                </c:pt>
                <c:pt idx="110">
                  <c:v>0.548356363636364</c:v>
                </c:pt>
                <c:pt idx="111">
                  <c:v>0.55767</c:v>
                </c:pt>
                <c:pt idx="112">
                  <c:v>0.540512173913044</c:v>
                </c:pt>
                <c:pt idx="113">
                  <c:v>0.542091904761905</c:v>
                </c:pt>
                <c:pt idx="114">
                  <c:v>0.533424285714286</c:v>
                </c:pt>
                <c:pt idx="115">
                  <c:v>0.528044444444445</c:v>
                </c:pt>
                <c:pt idx="116">
                  <c:v>0.525660869565217</c:v>
                </c:pt>
                <c:pt idx="117">
                  <c:v>0.515569375</c:v>
                </c:pt>
                <c:pt idx="118">
                  <c:v>0.519833333333333</c:v>
                </c:pt>
                <c:pt idx="119">
                  <c:v>0.512658636363636</c:v>
                </c:pt>
                <c:pt idx="120">
                  <c:v>0.506496666666667</c:v>
                </c:pt>
                <c:pt idx="121">
                  <c:v>0.502444285714286</c:v>
                </c:pt>
                <c:pt idx="122">
                  <c:v>0.499481428571429</c:v>
                </c:pt>
                <c:pt idx="123">
                  <c:v>0.503414444444444</c:v>
                </c:pt>
                <c:pt idx="124">
                  <c:v>0.491833636363636</c:v>
                </c:pt>
                <c:pt idx="125">
                  <c:v>0.476951</c:v>
                </c:pt>
                <c:pt idx="126">
                  <c:v>0.470820869565217</c:v>
                </c:pt>
                <c:pt idx="127">
                  <c:v>0.47549875</c:v>
                </c:pt>
                <c:pt idx="128">
                  <c:v>0.479393</c:v>
                </c:pt>
                <c:pt idx="129">
                  <c:v>0.464639545454545</c:v>
                </c:pt>
                <c:pt idx="130">
                  <c:v>0.464025</c:v>
                </c:pt>
                <c:pt idx="131">
                  <c:v>0.458765</c:v>
                </c:pt>
                <c:pt idx="132">
                  <c:v>0.454756086956522</c:v>
                </c:pt>
                <c:pt idx="133">
                  <c:v>0.450795217391304</c:v>
                </c:pt>
                <c:pt idx="134">
                  <c:v>0.445674166666667</c:v>
                </c:pt>
                <c:pt idx="135">
                  <c:v>0.445258571428571</c:v>
                </c:pt>
                <c:pt idx="136">
                  <c:v>0.439435217391304</c:v>
                </c:pt>
                <c:pt idx="137">
                  <c:v>0.436827826086956</c:v>
                </c:pt>
                <c:pt idx="138">
                  <c:v>0.433500869565217</c:v>
                </c:pt>
                <c:pt idx="139">
                  <c:v>0.428408260869565</c:v>
                </c:pt>
                <c:pt idx="140">
                  <c:v>0.423164583333333</c:v>
                </c:pt>
                <c:pt idx="141">
                  <c:v>0.42027125</c:v>
                </c:pt>
                <c:pt idx="142">
                  <c:v>0.416652727272727</c:v>
                </c:pt>
                <c:pt idx="143">
                  <c:v>0.412980416666667</c:v>
                </c:pt>
                <c:pt idx="144">
                  <c:v>0.4081968</c:v>
                </c:pt>
                <c:pt idx="145">
                  <c:v>0.4039368</c:v>
                </c:pt>
                <c:pt idx="146">
                  <c:v>0.3997796</c:v>
                </c:pt>
                <c:pt idx="147">
                  <c:v>0.3964516</c:v>
                </c:pt>
                <c:pt idx="148">
                  <c:v>0.3927092</c:v>
                </c:pt>
                <c:pt idx="149">
                  <c:v>0.3890552</c:v>
                </c:pt>
                <c:pt idx="150">
                  <c:v>0.3859736</c:v>
                </c:pt>
                <c:pt idx="151">
                  <c:v>0.3818064</c:v>
                </c:pt>
                <c:pt idx="152">
                  <c:v>0.3779592</c:v>
                </c:pt>
                <c:pt idx="153">
                  <c:v>0.3744132</c:v>
                </c:pt>
                <c:pt idx="154">
                  <c:v>0.37142</c:v>
                </c:pt>
                <c:pt idx="155">
                  <c:v>0.365561666666667</c:v>
                </c:pt>
                <c:pt idx="156">
                  <c:v>0.363326363636364</c:v>
                </c:pt>
                <c:pt idx="157">
                  <c:v>0.357304464285714</c:v>
                </c:pt>
                <c:pt idx="158">
                  <c:v>0.353447333333333</c:v>
                </c:pt>
                <c:pt idx="159">
                  <c:v>0.357666666666667</c:v>
                </c:pt>
                <c:pt idx="160">
                  <c:v>0.3532</c:v>
                </c:pt>
                <c:pt idx="161">
                  <c:v>0.344841666666667</c:v>
                </c:pt>
                <c:pt idx="162">
                  <c:v>0.34283</c:v>
                </c:pt>
                <c:pt idx="163">
                  <c:v>0.355838333333333</c:v>
                </c:pt>
                <c:pt idx="164">
                  <c:v>0.37682</c:v>
                </c:pt>
              </c:numCache>
            </c:numRef>
          </c:yVal>
          <c:smooth val="0"/>
        </c:ser>
        <c:axId val="14648678"/>
        <c:axId val="41264720"/>
      </c:scatterChart>
      <c:valAx>
        <c:axId val="14648678"/>
        <c:scaling>
          <c:orientation val="minMax"/>
          <c:max val="100"/>
        </c:scaling>
        <c:delete val="0"/>
        <c:axPos val="b"/>
        <c:numFmt formatCode="General" sourceLinked="1"/>
        <c:majorTickMark val="out"/>
        <c:minorTickMark val="none"/>
        <c:tickLblPos val="low"/>
        <c:spPr>
          <a:ln w="0">
            <a:solidFill>
              <a:srgbClr val="33333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  <a:ea typeface="DejaVu LGC Sans"/>
              </a:defRPr>
            </a:pPr>
          </a:p>
        </c:txPr>
        <c:crossAx val="41264720"/>
        <c:crossesAt val="0"/>
        <c:crossBetween val="midCat"/>
        <c:majorUnit val="10"/>
      </c:valAx>
      <c:valAx>
        <c:axId val="41264720"/>
        <c:scaling>
          <c:orientation val="minMax"/>
          <c:max val="1"/>
          <c:min val="0"/>
        </c:scaling>
        <c:delete val="0"/>
        <c:axPos val="l"/>
        <c:majorGridlines>
          <c:spPr>
            <a:ln w="12600">
              <a:solidFill>
                <a:srgbClr val="000000"/>
              </a:solidFill>
              <a:round/>
            </a:ln>
          </c:spPr>
        </c:majorGridlines>
        <c:numFmt formatCode="0.00E+00" sourceLinked="0"/>
        <c:majorTickMark val="out"/>
        <c:minorTickMark val="none"/>
        <c:tickLblPos val="low"/>
        <c:spPr>
          <a:ln w="0">
            <a:solidFill>
              <a:srgbClr val="333333"/>
            </a:solidFill>
          </a:ln>
        </c:spPr>
        <c:txPr>
          <a:bodyPr/>
          <a:lstStyle/>
          <a:p>
            <a:pPr>
              <a:defRPr b="0" sz="800" spc="-1" strike="noStrike">
                <a:solidFill>
                  <a:srgbClr val="000000"/>
                </a:solidFill>
                <a:latin typeface="Arial"/>
                <a:ea typeface="DejaVu LGC Sans"/>
              </a:defRPr>
            </a:pPr>
          </a:p>
        </c:txPr>
        <c:crossAx val="14648678"/>
        <c:crossesAt val="0"/>
        <c:crossBetween val="midCat"/>
        <c:majorUnit val="0.1"/>
      </c:valAx>
      <c:spPr>
        <a:solidFill>
          <a:srgbClr val="c0c0c0"/>
        </a:solidFill>
        <a:ln w="12600">
          <a:solidFill>
            <a:srgbClr val="808080"/>
          </a:solidFill>
          <a:round/>
        </a:ln>
      </c:spPr>
    </c:plotArea>
    <c:plotVisOnly val="0"/>
    <c:dispBlanksAs val="span"/>
  </c:chart>
  <c:spPr>
    <a:noFill/>
    <a:ln w="1260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0412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0"/>
            <a:ext cx="327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280040" y="0"/>
            <a:ext cx="327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0" y="10156680"/>
            <a:ext cx="32796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4"/>
          </p:nvPr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40753-0604-4914-84D1-EE8E8414C7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0"/>
          <p:cNvSpPr/>
          <p:nvPr/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434AE-1186-4201-B01E-811A067146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428004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CA48D-82B3-447F-B188-2DB2F9E2BA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0"/>
          <p:cNvSpPr/>
          <p:nvPr/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824A8-1D3C-48A8-9693-6734A36522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0"/>
          <p:cNvSpPr/>
          <p:nvPr/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0EC25-9554-4C38-806C-79735F6A8E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0"/>
          <p:cNvSpPr/>
          <p:nvPr/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AF9B9-9503-4188-B2BB-A181B2403A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9DA49-D267-476B-B110-994B2BA536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0"/>
          <p:cNvSpPr/>
          <p:nvPr/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23FDA-8014-4FBF-8A63-C50EB3A39B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0"/>
          <p:cNvSpPr/>
          <p:nvPr/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7366B-BADB-43EB-AC66-C9868DD61A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0"/>
          <p:cNvSpPr/>
          <p:nvPr/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EADB4-561D-482F-B98E-38EA1C54EA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0"/>
          <p:cNvSpPr/>
          <p:nvPr/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36F90-714D-434E-BFD6-5B82B039C1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0"/>
          <p:cNvSpPr/>
          <p:nvPr/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EA044-CE74-4499-AAA8-B7B130E110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0"/>
          <p:cNvSpPr/>
          <p:nvPr/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83054-81E3-4486-8DBD-D53A97BC60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0"/>
          <p:cNvSpPr/>
          <p:nvPr/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B6596-FC62-4074-9075-70DEA2718E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"/>
          <p:cNvSpPr/>
          <p:nvPr/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5D5BF-8614-44D2-A361-1256375377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2040" cy="40068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"/>
          <p:cNvSpPr/>
          <p:nvPr/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C7150-1155-446D-ADAC-DB040C9EBD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"/>
          <p:cNvSpPr/>
          <p:nvPr/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864C1-578F-4A9D-BCCE-73DD6EF88B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0"/>
          <p:cNvSpPr/>
          <p:nvPr/>
        </p:nvSpPr>
        <p:spPr>
          <a:xfrm>
            <a:off x="4280040" y="1015668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DC9E2-ED8B-4F02-87F3-47D1CEF514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0D086-7BDE-48B3-9E1B-7DBBC144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-394200"/>
            <a:ext cx="90644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920" y="5815080"/>
            <a:ext cx="906444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ABA57-2102-4440-B67E-25846624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-394200"/>
            <a:ext cx="90644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2920" y="5815080"/>
            <a:ext cx="442332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7640" y="5815080"/>
            <a:ext cx="442332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5931-A887-4CDA-9E82-A80053B8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-394200"/>
            <a:ext cx="90644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2920" y="5815080"/>
            <a:ext cx="291852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67600" y="5815080"/>
            <a:ext cx="291852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2640" y="5815080"/>
            <a:ext cx="291852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1777E-CB7A-4CDA-B1B3-923EB1EA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-394200"/>
            <a:ext cx="90644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77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ts val="756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126FF-EF85-42D1-A6F8-B2A13C55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-394200"/>
            <a:ext cx="90644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77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B01F-B65A-4952-A67D-3A98DA41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-394200"/>
            <a:ext cx="90644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77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77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D2D4C-B67A-4A9E-BB68-043D6C69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-394200"/>
            <a:ext cx="90644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707A9-55D7-4F16-8ACD-68339DDF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2920" y="-394200"/>
            <a:ext cx="9064440" cy="122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ts val="756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31002-3D85-42F6-99BD-7B31C115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-394200"/>
            <a:ext cx="90644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77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920" y="5815080"/>
            <a:ext cx="442332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E1C0-AE55-4491-8BC5-92AF7C75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-394200"/>
            <a:ext cx="90644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77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7640" y="5815080"/>
            <a:ext cx="442332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4804-4B13-4E74-A8EB-73A0E6CE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-394200"/>
            <a:ext cx="90644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5815080"/>
            <a:ext cx="9064440" cy="36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756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C9CB7-C1B8-474B-9533-0107BBB7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-394200"/>
            <a:ext cx="9064440" cy="26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77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1200" indent="-317520">
              <a:lnSpc>
                <a:spcPts val="756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282600">
              <a:lnSpc>
                <a:spcPts val="756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6200" indent="-210600">
              <a:lnSpc>
                <a:spcPts val="756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207360">
              <a:lnSpc>
                <a:spcPts val="756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31200" indent="-209160">
              <a:lnSpc>
                <a:spcPts val="756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31200" indent="-209160">
              <a:lnSpc>
                <a:spcPts val="756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31200" indent="-209160">
              <a:lnSpc>
                <a:spcPts val="756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645000" y="7003800"/>
            <a:ext cx="210816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99280" y="7002000"/>
            <a:ext cx="82872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B792EF-FD94-40E3-9EAB-7908F90A75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1793880" y="7019640"/>
            <a:ext cx="90000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8353440" y="6691320"/>
            <a:ext cx="118908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52440" y="6624720"/>
            <a:ext cx="906480" cy="720720"/>
          </a:xfrm>
          <a:prstGeom prst="rect">
            <a:avLst/>
          </a:prstGeom>
          <a:ln w="0">
            <a:noFill/>
          </a:ln>
        </p:spPr>
      </p:pic>
      <p:sp>
        <p:nvSpPr>
          <p:cNvPr id="7" name="Line 8"/>
          <p:cNvSpPr/>
          <p:nvPr/>
        </p:nvSpPr>
        <p:spPr>
          <a:xfrm>
            <a:off x="1189080" y="6840360"/>
            <a:ext cx="7091280" cy="1800"/>
          </a:xfrm>
          <a:prstGeom prst="line">
            <a:avLst/>
          </a:prstGeom>
          <a:ln w="18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31.png"/><Relationship Id="rId5" Type="http://schemas.openxmlformats.org/officeDocument/2006/relationships/image" Target="../media/image54.png"/><Relationship Id="rId6" Type="http://schemas.openxmlformats.org/officeDocument/2006/relationships/image" Target="../media/image48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7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8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3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68360" y="835200"/>
            <a:ext cx="907236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PDE-Constrained Optimization With Stochastic Col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8040600" y="3780000"/>
            <a:ext cx="849240" cy="86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539640" y="4022640"/>
            <a:ext cx="2095560" cy="471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539640" y="2340000"/>
            <a:ext cx="907272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209520" algn="ctr">
              <a:lnSpc>
                <a:spcPct val="124000"/>
              </a:lnSpc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DejaVu LGC Sans"/>
              </a:rPr>
              <a:t>Hanne Ties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09520" algn="ctr">
              <a:lnSpc>
                <a:spcPct val="124000"/>
              </a:lnSpc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CeVis/ZeTeM @ University of Bre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09520" algn="ctr">
              <a:lnSpc>
                <a:spcPct val="124000"/>
              </a:lnSpc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DFG SPP 12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09520" algn="ctr">
              <a:lnSpc>
                <a:spcPct val="124000"/>
              </a:lnSpc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09520" algn="ctr">
              <a:lnSpc>
                <a:spcPct val="124000"/>
              </a:lnSpc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Mike Kirby, University of Ut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09520" algn="ctr">
              <a:lnSpc>
                <a:spcPct val="124000"/>
              </a:lnSpc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Tobias Preusser, Jacobs University Bremen/Fraunhofer MEV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oliennummernplatzhalter 6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0A228-AD8B-4B04-9D36-AD26E9761C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Datumsplatzhalter 8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ußzeilenplatzhalter 1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A29EB-9FA6-4F24-BD60-BE9ADAE9EB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"/>
          <p:cNvSpPr/>
          <p:nvPr/>
        </p:nvSpPr>
        <p:spPr>
          <a:xfrm>
            <a:off x="503280" y="15876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Objective Functiona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uppieren 27"/>
          <p:cNvGrpSpPr/>
          <p:nvPr/>
        </p:nvGrpSpPr>
        <p:grpSpPr>
          <a:xfrm>
            <a:off x="539640" y="5637240"/>
            <a:ext cx="4502160" cy="735120"/>
            <a:chOff x="539640" y="5637240"/>
            <a:chExt cx="4502160" cy="735120"/>
          </a:xfrm>
        </p:grpSpPr>
        <p:pic>
          <p:nvPicPr>
            <p:cNvPr id="215" name="Picture 6" descr=""/>
            <p:cNvPicPr/>
            <p:nvPr/>
          </p:nvPicPr>
          <p:blipFill>
            <a:blip r:embed="rId1"/>
            <a:stretch/>
          </p:blipFill>
          <p:spPr>
            <a:xfrm>
              <a:off x="539640" y="6084000"/>
              <a:ext cx="2743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7" descr=""/>
            <p:cNvPicPr/>
            <p:nvPr/>
          </p:nvPicPr>
          <p:blipFill>
            <a:blip r:embed="rId2"/>
            <a:stretch/>
          </p:blipFill>
          <p:spPr>
            <a:xfrm>
              <a:off x="1098000" y="5637240"/>
              <a:ext cx="1638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8" descr=""/>
            <p:cNvPicPr/>
            <p:nvPr/>
          </p:nvPicPr>
          <p:blipFill>
            <a:blip r:embed="rId3"/>
            <a:stretch/>
          </p:blipFill>
          <p:spPr>
            <a:xfrm>
              <a:off x="3325320" y="5637240"/>
              <a:ext cx="119268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9" descr=""/>
            <p:cNvPicPr/>
            <p:nvPr/>
          </p:nvPicPr>
          <p:blipFill>
            <a:blip r:embed="rId4"/>
            <a:stretch/>
          </p:blipFill>
          <p:spPr>
            <a:xfrm>
              <a:off x="3851640" y="6048360"/>
              <a:ext cx="119016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Text Box 10"/>
          <p:cNvSpPr/>
          <p:nvPr/>
        </p:nvSpPr>
        <p:spPr>
          <a:xfrm>
            <a:off x="396720" y="5637240"/>
            <a:ext cx="921564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5520" indent="-32076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                        and                    is the inverse CDF of the random variable     with the spanning varia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uppieren 24"/>
          <p:cNvGrpSpPr/>
          <p:nvPr/>
        </p:nvGrpSpPr>
        <p:grpSpPr>
          <a:xfrm>
            <a:off x="357120" y="1135080"/>
            <a:ext cx="9255240" cy="1430280"/>
            <a:chOff x="357120" y="1135080"/>
            <a:chExt cx="9255240" cy="1430280"/>
          </a:xfrm>
        </p:grpSpPr>
        <p:grpSp>
          <p:nvGrpSpPr>
            <p:cNvPr id="221" name="Gruppieren 20"/>
            <p:cNvGrpSpPr/>
            <p:nvPr/>
          </p:nvGrpSpPr>
          <p:grpSpPr>
            <a:xfrm>
              <a:off x="396720" y="1779120"/>
              <a:ext cx="9215640" cy="786240"/>
              <a:chOff x="396720" y="1779120"/>
              <a:chExt cx="9215640" cy="786240"/>
            </a:xfrm>
          </p:grpSpPr>
          <p:pic>
            <p:nvPicPr>
              <p:cNvPr id="222" name="Pictur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468000" y="1819800"/>
                <a:ext cx="6019920" cy="73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Rechteck 14"/>
              <p:cNvSpPr/>
              <p:nvPr/>
            </p:nvSpPr>
            <p:spPr>
              <a:xfrm>
                <a:off x="396720" y="1779120"/>
                <a:ext cx="9215640" cy="786240"/>
              </a:xfrm>
              <a:prstGeom prst="rect">
                <a:avLst/>
              </a:prstGeom>
              <a:solidFill>
                <a:srgbClr val="66ffcc">
                  <a:alpha val="10000"/>
                </a:srgbClr>
              </a:solidFill>
              <a:ln w="9360">
                <a:solidFill>
                  <a:srgbClr val="0099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4249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" name="Textfeld 21"/>
            <p:cNvSpPr/>
            <p:nvPr/>
          </p:nvSpPr>
          <p:spPr>
            <a:xfrm>
              <a:off x="357120" y="1135080"/>
              <a:ext cx="4683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imple data measurements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Gruppieren 25"/>
          <p:cNvGrpSpPr/>
          <p:nvPr/>
        </p:nvGrpSpPr>
        <p:grpSpPr>
          <a:xfrm>
            <a:off x="325440" y="2492280"/>
            <a:ext cx="9286920" cy="1644840"/>
            <a:chOff x="325440" y="2492280"/>
            <a:chExt cx="9286920" cy="1644840"/>
          </a:xfrm>
        </p:grpSpPr>
        <p:grpSp>
          <p:nvGrpSpPr>
            <p:cNvPr id="226" name="Gruppieren 19"/>
            <p:cNvGrpSpPr/>
            <p:nvPr/>
          </p:nvGrpSpPr>
          <p:grpSpPr>
            <a:xfrm>
              <a:off x="396720" y="3207960"/>
              <a:ext cx="9215640" cy="929160"/>
              <a:chOff x="396720" y="3207960"/>
              <a:chExt cx="9215640" cy="929160"/>
            </a:xfrm>
          </p:grpSpPr>
          <p:pic>
            <p:nvPicPr>
              <p:cNvPr id="227" name="Picture 2" descr=""/>
              <p:cNvPicPr/>
              <p:nvPr/>
            </p:nvPicPr>
            <p:blipFill>
              <a:blip r:embed="rId6"/>
              <a:stretch/>
            </p:blipFill>
            <p:spPr>
              <a:xfrm>
                <a:off x="502920" y="3264480"/>
                <a:ext cx="8863200" cy="86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Rechteck 16"/>
              <p:cNvSpPr/>
              <p:nvPr/>
            </p:nvSpPr>
            <p:spPr>
              <a:xfrm>
                <a:off x="396720" y="3207960"/>
                <a:ext cx="9215640" cy="929160"/>
              </a:xfrm>
              <a:prstGeom prst="rect">
                <a:avLst/>
              </a:prstGeom>
              <a:solidFill>
                <a:srgbClr val="66ffcc">
                  <a:alpha val="10000"/>
                </a:srgbClr>
              </a:solidFill>
              <a:ln w="9360">
                <a:solidFill>
                  <a:srgbClr val="0099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4249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" name="Textfeld 22"/>
            <p:cNvSpPr/>
            <p:nvPr/>
          </p:nvSpPr>
          <p:spPr>
            <a:xfrm>
              <a:off x="325440" y="2492280"/>
              <a:ext cx="65725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everal moments for the measurements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Gruppieren 27"/>
          <p:cNvGrpSpPr/>
          <p:nvPr/>
        </p:nvGrpSpPr>
        <p:grpSpPr>
          <a:xfrm>
            <a:off x="396720" y="4132440"/>
            <a:ext cx="9286920" cy="1566000"/>
            <a:chOff x="396720" y="4132440"/>
            <a:chExt cx="9286920" cy="1566000"/>
          </a:xfrm>
        </p:grpSpPr>
        <p:grpSp>
          <p:nvGrpSpPr>
            <p:cNvPr id="231" name="Gruppieren 26"/>
            <p:cNvGrpSpPr/>
            <p:nvPr/>
          </p:nvGrpSpPr>
          <p:grpSpPr>
            <a:xfrm>
              <a:off x="396720" y="4132440"/>
              <a:ext cx="9286920" cy="1433520"/>
              <a:chOff x="396720" y="4132440"/>
              <a:chExt cx="9286920" cy="1433520"/>
            </a:xfrm>
          </p:grpSpPr>
          <p:grpSp>
            <p:nvGrpSpPr>
              <p:cNvPr id="232" name="Gruppieren 18"/>
              <p:cNvGrpSpPr/>
              <p:nvPr/>
            </p:nvGrpSpPr>
            <p:grpSpPr>
              <a:xfrm>
                <a:off x="468000" y="4780080"/>
                <a:ext cx="9215640" cy="785880"/>
                <a:chOff x="468000" y="4780080"/>
                <a:chExt cx="9215640" cy="785880"/>
              </a:xfrm>
            </p:grpSpPr>
            <p:pic>
              <p:nvPicPr>
                <p:cNvPr id="233" name="Picture 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0560" y="4788720"/>
                  <a:ext cx="5689800" cy="73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4" name="Rechteck 17"/>
                <p:cNvSpPr/>
                <p:nvPr/>
              </p:nvSpPr>
              <p:spPr>
                <a:xfrm>
                  <a:off x="468000" y="4780080"/>
                  <a:ext cx="9215640" cy="785880"/>
                </a:xfrm>
                <a:prstGeom prst="rect">
                  <a:avLst/>
                </a:prstGeom>
                <a:solidFill>
                  <a:srgbClr val="66ffcc">
                    <a:alpha val="10000"/>
                  </a:srgbClr>
                </a:solidFill>
                <a:ln w="9360">
                  <a:solidFill>
                    <a:srgbClr val="00997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Textfeld 23"/>
              <p:cNvSpPr/>
              <p:nvPr/>
            </p:nvSpPr>
            <p:spPr>
              <a:xfrm>
                <a:off x="396720" y="4132440"/>
                <a:ext cx="468324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4249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Arial"/>
                  </a:rPr>
                  <a:t>Cumulative distribution function: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" name="Textfeld 26"/>
            <p:cNvSpPr/>
            <p:nvPr/>
          </p:nvSpPr>
          <p:spPr>
            <a:xfrm>
              <a:off x="6754680" y="5064840"/>
              <a:ext cx="29289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Zabaras, Ganapathysubramani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Datumsplatzhalter 28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ußzeilenplatzhalter 1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30497-5A1E-41A1-AB9A-83DDC306FB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1892160" y="5208480"/>
            <a:ext cx="1219320" cy="395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3959280" y="5170320"/>
            <a:ext cx="4191120" cy="395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1039680" y="3137040"/>
            <a:ext cx="7469280" cy="822240"/>
          </a:xfrm>
          <a:prstGeom prst="rect">
            <a:avLst/>
          </a:prstGeom>
          <a:ln w="9360">
            <a:solidFill>
              <a:srgbClr val="32946a"/>
            </a:solidFill>
            <a:round/>
          </a:ln>
        </p:spPr>
      </p:pic>
      <p:pic>
        <p:nvPicPr>
          <p:cNvPr id="243" name="Picture 5" descr=""/>
          <p:cNvPicPr/>
          <p:nvPr/>
        </p:nvPicPr>
        <p:blipFill>
          <a:blip r:embed="rId4"/>
          <a:stretch/>
        </p:blipFill>
        <p:spPr>
          <a:xfrm>
            <a:off x="1254240" y="4194000"/>
            <a:ext cx="4908600" cy="9432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503280" y="230040"/>
            <a:ext cx="907236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Optimization Problem with SPDE Constrain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468360" y="1708200"/>
            <a:ext cx="90723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5520" indent="-32076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ec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40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40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h that                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40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e measure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Gruppieren 16"/>
          <p:cNvGrpSpPr/>
          <p:nvPr/>
        </p:nvGrpSpPr>
        <p:grpSpPr>
          <a:xfrm>
            <a:off x="1468440" y="1708200"/>
            <a:ext cx="7286760" cy="785880"/>
            <a:chOff x="1468440" y="1708200"/>
            <a:chExt cx="7286760" cy="785880"/>
          </a:xfrm>
        </p:grpSpPr>
        <p:pic>
          <p:nvPicPr>
            <p:cNvPr id="247" name="Picture 3" descr=""/>
            <p:cNvPicPr/>
            <p:nvPr/>
          </p:nvPicPr>
          <p:blipFill>
            <a:blip r:embed="rId5"/>
            <a:srcRect l="0" t="0" r="89394" b="-13644"/>
            <a:stretch/>
          </p:blipFill>
          <p:spPr>
            <a:xfrm>
              <a:off x="1550880" y="1851120"/>
              <a:ext cx="58572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" descr=""/>
            <p:cNvPicPr/>
            <p:nvPr/>
          </p:nvPicPr>
          <p:blipFill>
            <a:blip r:embed="rId6"/>
            <a:stretch/>
          </p:blipFill>
          <p:spPr>
            <a:xfrm>
              <a:off x="2136960" y="1723680"/>
              <a:ext cx="6019920" cy="7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hteck 15"/>
            <p:cNvSpPr/>
            <p:nvPr/>
          </p:nvSpPr>
          <p:spPr>
            <a:xfrm>
              <a:off x="1468440" y="1708200"/>
              <a:ext cx="7286760" cy="785880"/>
            </a:xfrm>
            <a:prstGeom prst="rect">
              <a:avLst/>
            </a:prstGeom>
            <a:solidFill>
              <a:srgbClr val="66ffcc">
                <a:alpha val="10000"/>
              </a:srgbClr>
            </a:solidFill>
            <a:ln w="9360">
              <a:solidFill>
                <a:srgbClr val="0099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0" name="Picture 2" descr=""/>
          <p:cNvPicPr/>
          <p:nvPr/>
        </p:nvPicPr>
        <p:blipFill>
          <a:blip r:embed="rId7"/>
          <a:stretch/>
        </p:blipFill>
        <p:spPr>
          <a:xfrm>
            <a:off x="3757680" y="5843520"/>
            <a:ext cx="1068480" cy="365040"/>
          </a:xfrm>
          <a:prstGeom prst="rect">
            <a:avLst/>
          </a:prstGeom>
          <a:ln w="0">
            <a:noFill/>
          </a:ln>
        </p:spPr>
      </p:pic>
      <p:sp>
        <p:nvSpPr>
          <p:cNvPr id="251" name="Datumsplatzhalter 16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ußzeilenplatzhalter 1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97D0A-A112-426A-8E27-AB612BBD14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539640" y="179280"/>
            <a:ext cx="90727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Optimality Syst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539640" y="2494080"/>
            <a:ext cx="90727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joint eq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ative with respect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3825720" y="4751280"/>
            <a:ext cx="586080" cy="335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682560" y="2908440"/>
            <a:ext cx="8928000" cy="1800000"/>
          </a:xfrm>
          <a:prstGeom prst="rect">
            <a:avLst/>
          </a:prstGeom>
          <a:ln w="9360">
            <a:solidFill>
              <a:srgbClr val="009973"/>
            </a:solidFill>
            <a:round/>
          </a:ln>
        </p:spPr>
      </p:pic>
      <p:pic>
        <p:nvPicPr>
          <p:cNvPr id="258" name="Picture 3" descr=""/>
          <p:cNvPicPr/>
          <p:nvPr/>
        </p:nvPicPr>
        <p:blipFill>
          <a:blip r:embed="rId3"/>
          <a:stretch/>
        </p:blipFill>
        <p:spPr>
          <a:xfrm>
            <a:off x="1109520" y="5137200"/>
            <a:ext cx="7710480" cy="696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"/>
          <p:cNvPicPr/>
          <p:nvPr/>
        </p:nvPicPr>
        <p:blipFill>
          <a:blip r:embed="rId4">
            <a:alphaModFix amt="10000"/>
          </a:blip>
          <a:stretch/>
        </p:blipFill>
        <p:spPr>
          <a:xfrm>
            <a:off x="1251000" y="5851440"/>
            <a:ext cx="7432560" cy="696960"/>
          </a:xfrm>
          <a:prstGeom prst="rect">
            <a:avLst/>
          </a:prstGeom>
          <a:ln w="9360">
            <a:solidFill>
              <a:srgbClr val="009973"/>
            </a:solidFill>
            <a:round/>
          </a:ln>
        </p:spPr>
      </p:pic>
      <p:sp>
        <p:nvSpPr>
          <p:cNvPr id="260" name="Datumsplatzhalter 14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5"/>
          <a:stretch/>
        </p:blipFill>
        <p:spPr>
          <a:xfrm>
            <a:off x="604800" y="1065240"/>
            <a:ext cx="89154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2920" y="65160"/>
            <a:ext cx="9072360" cy="10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umerical Sol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2920" y="1494000"/>
            <a:ext cx="907236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equential quadratic programming (SQ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e search direction by solving the quadratic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weighting factor    for penalt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stepwidth      such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12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2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 optimizat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124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124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Hessian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4040280" y="3494160"/>
            <a:ext cx="426960" cy="244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2"/>
          <a:stretch/>
        </p:blipFill>
        <p:spPr>
          <a:xfrm>
            <a:off x="4479840" y="291636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"/>
          <p:cNvPicPr/>
          <p:nvPr/>
        </p:nvPicPr>
        <p:blipFill>
          <a:blip r:embed="rId3"/>
          <a:stretch/>
        </p:blipFill>
        <p:spPr>
          <a:xfrm>
            <a:off x="771480" y="3959280"/>
            <a:ext cx="8408880" cy="392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"/>
          <p:cNvPicPr/>
          <p:nvPr/>
        </p:nvPicPr>
        <p:blipFill>
          <a:blip r:embed="rId4"/>
          <a:stretch/>
        </p:blipFill>
        <p:spPr>
          <a:xfrm>
            <a:off x="7397640" y="2779560"/>
            <a:ext cx="1584360" cy="365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"/>
          <p:cNvPicPr/>
          <p:nvPr/>
        </p:nvPicPr>
        <p:blipFill>
          <a:blip r:embed="rId5"/>
          <a:stretch/>
        </p:blipFill>
        <p:spPr>
          <a:xfrm>
            <a:off x="2411280" y="5210280"/>
            <a:ext cx="5150160" cy="426960"/>
          </a:xfrm>
          <a:prstGeom prst="rect">
            <a:avLst/>
          </a:prstGeom>
          <a:ln w="0">
            <a:noFill/>
          </a:ln>
        </p:spPr>
      </p:pic>
      <p:sp>
        <p:nvSpPr>
          <p:cNvPr id="269" name="Fußzeilenplatzhalter 1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D83E1-F09C-4C02-AD41-DB60495A73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Datumsplatzhalter 11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64800"/>
            <a:ext cx="906444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400" spc="-1" strike="noStrike">
                <a:solidFill>
                  <a:srgbClr val="000000"/>
                </a:solidFill>
                <a:latin typeface="Arial"/>
              </a:rPr>
              <a:t>Computational Asp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2920" y="1493640"/>
            <a:ext cx="906444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1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ond derivative of objective 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ctation value is omni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86000"/>
              </a:lnSpc>
              <a:spcAft>
                <a:spcPts val="1137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venient to be solve with colloca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ußzeilenplatzhalter 3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oliennummernplatzhalter 4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E7475-ED0A-4069-BC73-91A351A2F8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Gruppieren 10"/>
          <p:cNvGrpSpPr/>
          <p:nvPr/>
        </p:nvGrpSpPr>
        <p:grpSpPr>
          <a:xfrm>
            <a:off x="396720" y="4208400"/>
            <a:ext cx="9469440" cy="714600"/>
            <a:chOff x="396720" y="4208400"/>
            <a:chExt cx="9469440" cy="714600"/>
          </a:xfrm>
        </p:grpSpPr>
        <p:pic>
          <p:nvPicPr>
            <p:cNvPr id="277" name="Picture 2" descr=""/>
            <p:cNvPicPr/>
            <p:nvPr/>
          </p:nvPicPr>
          <p:blipFill>
            <a:blip r:embed="rId1"/>
            <a:stretch/>
          </p:blipFill>
          <p:spPr>
            <a:xfrm>
              <a:off x="671400" y="4208400"/>
              <a:ext cx="4583160" cy="6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Rechteck 9"/>
            <p:cNvSpPr/>
            <p:nvPr/>
          </p:nvSpPr>
          <p:spPr>
            <a:xfrm>
              <a:off x="396720" y="4208400"/>
              <a:ext cx="9469440" cy="714600"/>
            </a:xfrm>
            <a:prstGeom prst="rect">
              <a:avLst/>
            </a:prstGeom>
            <a:solidFill>
              <a:srgbClr val="66ffcc">
                <a:alpha val="10000"/>
              </a:srgbClr>
            </a:solidFill>
            <a:ln w="9360">
              <a:solidFill>
                <a:srgbClr val="0099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Pfeil nach rechts 11"/>
          <p:cNvSpPr/>
          <p:nvPr/>
        </p:nvSpPr>
        <p:spPr>
          <a:xfrm>
            <a:off x="1397160" y="6048360"/>
            <a:ext cx="78552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6ffcc">
              <a:alpha val="4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396720" y="2208240"/>
            <a:ext cx="9444240" cy="1785960"/>
          </a:xfrm>
          <a:prstGeom prst="rect">
            <a:avLst/>
          </a:prstGeom>
          <a:ln w="9360">
            <a:solidFill>
              <a:srgbClr val="009973"/>
            </a:solidFill>
            <a:round/>
          </a:ln>
        </p:spPr>
      </p:pic>
      <p:sp>
        <p:nvSpPr>
          <p:cNvPr id="281" name="Datumsplatzhalter 12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2920" y="-122400"/>
            <a:ext cx="906444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400" spc="-1" strike="noStrike">
                <a:solidFill>
                  <a:srgbClr val="000000"/>
                </a:solidFill>
                <a:latin typeface="Arial"/>
              </a:rPr>
              <a:t>Stochastic Model for RF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ußzeilenplatzhalter 3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Gruppieren 17" descr=""/>
          <p:cNvPicPr/>
          <p:nvPr/>
        </p:nvPicPr>
        <p:blipFill>
          <a:blip r:embed="rId1"/>
          <a:stretch/>
        </p:blipFill>
        <p:spPr>
          <a:xfrm>
            <a:off x="517680" y="1773360"/>
            <a:ext cx="8997840" cy="1811160"/>
          </a:xfrm>
          <a:prstGeom prst="rect">
            <a:avLst/>
          </a:prstGeom>
          <a:ln w="0">
            <a:noFill/>
          </a:ln>
        </p:spPr>
      </p:pic>
      <p:pic>
        <p:nvPicPr>
          <p:cNvPr id="285" name="Gruppieren 18" descr=""/>
          <p:cNvPicPr/>
          <p:nvPr/>
        </p:nvPicPr>
        <p:blipFill>
          <a:blip r:embed="rId2"/>
          <a:stretch/>
        </p:blipFill>
        <p:spPr>
          <a:xfrm>
            <a:off x="517680" y="3700440"/>
            <a:ext cx="8997840" cy="2590920"/>
          </a:xfrm>
          <a:prstGeom prst="rect">
            <a:avLst/>
          </a:prstGeom>
          <a:ln w="0">
            <a:noFill/>
          </a:ln>
        </p:spPr>
      </p:pic>
      <p:sp>
        <p:nvSpPr>
          <p:cNvPr id="286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FD479-61EA-4C4D-9876-37660E5C2A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Datumsplatzhalter 16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6444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400" spc="-1" strike="noStrike">
                <a:solidFill>
                  <a:srgbClr val="000000"/>
                </a:solidFill>
                <a:latin typeface="Arial"/>
              </a:rPr>
              <a:t>First Applications for the Probe Position*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2920" y="1697040"/>
            <a:ext cx="91090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xpectation of the maximal volume on destroyed tis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683400" y="2708280"/>
            <a:ext cx="2741760" cy="29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ighest probabi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or successfu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hera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t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ußzeilenplatzhalter 3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Gruppieren 9"/>
          <p:cNvGrpSpPr/>
          <p:nvPr/>
        </p:nvGrpSpPr>
        <p:grpSpPr>
          <a:xfrm>
            <a:off x="760320" y="2494080"/>
            <a:ext cx="2637000" cy="3992040"/>
            <a:chOff x="760320" y="2494080"/>
            <a:chExt cx="2637000" cy="3992040"/>
          </a:xfrm>
        </p:grpSpPr>
        <p:pic>
          <p:nvPicPr>
            <p:cNvPr id="293" name="Picture 11" descr="MO16"/>
            <p:cNvPicPr/>
            <p:nvPr/>
          </p:nvPicPr>
          <p:blipFill>
            <a:blip r:embed="rId1"/>
            <a:stretch/>
          </p:blipFill>
          <p:spPr>
            <a:xfrm>
              <a:off x="985680" y="2494080"/>
              <a:ext cx="2125800" cy="2952720"/>
            </a:xfrm>
            <a:prstGeom prst="rect">
              <a:avLst/>
            </a:prstGeom>
            <a:ln w="1440">
              <a:solidFill>
                <a:srgbClr val="595959"/>
              </a:solidFill>
              <a:miter/>
            </a:ln>
          </p:spPr>
        </p:pic>
        <p:sp>
          <p:nvSpPr>
            <p:cNvPr id="294" name="Text Box 12"/>
            <p:cNvSpPr/>
            <p:nvPr/>
          </p:nvSpPr>
          <p:spPr>
            <a:xfrm>
              <a:off x="760320" y="5569200"/>
              <a:ext cx="263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ptimal probe position for the deterministic mod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Group 5"/>
          <p:cNvGrpSpPr/>
          <p:nvPr/>
        </p:nvGrpSpPr>
        <p:grpSpPr>
          <a:xfrm>
            <a:off x="3540240" y="2496960"/>
            <a:ext cx="3036600" cy="3988800"/>
            <a:chOff x="3540240" y="2496960"/>
            <a:chExt cx="3036600" cy="3988800"/>
          </a:xfrm>
        </p:grpSpPr>
        <p:pic>
          <p:nvPicPr>
            <p:cNvPr id="296" name="Picture 6" descr=""/>
            <p:cNvPicPr/>
            <p:nvPr/>
          </p:nvPicPr>
          <p:blipFill>
            <a:blip r:embed="rId2"/>
            <a:stretch/>
          </p:blipFill>
          <p:spPr>
            <a:xfrm>
              <a:off x="3933720" y="2496960"/>
              <a:ext cx="2125080" cy="2952720"/>
            </a:xfrm>
            <a:prstGeom prst="rect">
              <a:avLst/>
            </a:prstGeom>
            <a:ln w="1440">
              <a:solidFill>
                <a:srgbClr val="595959"/>
              </a:solidFill>
              <a:round/>
            </a:ln>
          </p:spPr>
        </p:pic>
        <p:sp>
          <p:nvSpPr>
            <p:cNvPr id="297" name="Text Box 7"/>
            <p:cNvSpPr/>
            <p:nvPr/>
          </p:nvSpPr>
          <p:spPr>
            <a:xfrm>
              <a:off x="3540240" y="5568840"/>
              <a:ext cx="3036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be positon for the expected maximal volume of destroyed tissu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594A2-D30E-4645-9F05-7632390B8D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feil nach rechts 13"/>
          <p:cNvSpPr/>
          <p:nvPr/>
        </p:nvSpPr>
        <p:spPr>
          <a:xfrm>
            <a:off x="6826320" y="485136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66ffcc">
              <a:alpha val="4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Datumsplatzhalter 14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feld 14"/>
          <p:cNvSpPr/>
          <p:nvPr/>
        </p:nvSpPr>
        <p:spPr>
          <a:xfrm>
            <a:off x="5540400" y="851040"/>
            <a:ext cx="40003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 I. Altrogge, CeVis, University of Brem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2920" y="208080"/>
            <a:ext cx="906444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400" spc="-1" strike="noStrike">
                <a:solidFill>
                  <a:srgbClr val="000000"/>
                </a:solidFill>
                <a:latin typeface="Arial"/>
              </a:rPr>
              <a:t>Conclusion and Outloo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02920" y="1636200"/>
            <a:ext cx="906444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ivation of optimality system for SPDE-constrain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radient descent method and SQP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rst applications for R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ly for more problems/objective func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fidence inter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archical basi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ußzeilenplatzhalter 1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04016-EFEA-43C5-91A1-6D9F8625BC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feld 18"/>
          <p:cNvSpPr/>
          <p:nvPr/>
        </p:nvSpPr>
        <p:spPr>
          <a:xfrm>
            <a:off x="3754440" y="5994360"/>
            <a:ext cx="31431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Gruppieren 17"/>
          <p:cNvGrpSpPr/>
          <p:nvPr/>
        </p:nvGrpSpPr>
        <p:grpSpPr>
          <a:xfrm>
            <a:off x="6183360" y="4424400"/>
            <a:ext cx="3143160" cy="1712880"/>
            <a:chOff x="6183360" y="4424400"/>
            <a:chExt cx="3143160" cy="1712880"/>
          </a:xfrm>
        </p:grpSpPr>
        <p:grpSp>
          <p:nvGrpSpPr>
            <p:cNvPr id="308" name="Gruppieren 15"/>
            <p:cNvGrpSpPr/>
            <p:nvPr/>
          </p:nvGrpSpPr>
          <p:grpSpPr>
            <a:xfrm>
              <a:off x="6183360" y="4424400"/>
              <a:ext cx="3143160" cy="1712880"/>
              <a:chOff x="6183360" y="4424400"/>
              <a:chExt cx="3143160" cy="1712880"/>
            </a:xfrm>
          </p:grpSpPr>
          <p:grpSp>
            <p:nvGrpSpPr>
              <p:cNvPr id="309" name="Gruppieren 27"/>
              <p:cNvGrpSpPr/>
              <p:nvPr/>
            </p:nvGrpSpPr>
            <p:grpSpPr>
              <a:xfrm>
                <a:off x="6468840" y="4708440"/>
                <a:ext cx="2286000" cy="1071720"/>
                <a:chOff x="6468840" y="4708440"/>
                <a:chExt cx="2286000" cy="1071720"/>
              </a:xfrm>
            </p:grpSpPr>
            <p:sp>
              <p:nvSpPr>
                <p:cNvPr id="310" name="Gleichschenkliges Dreieck 12"/>
                <p:cNvSpPr/>
                <p:nvPr/>
              </p:nvSpPr>
              <p:spPr>
                <a:xfrm>
                  <a:off x="6468840" y="4708440"/>
                  <a:ext cx="1143000" cy="1071720"/>
                </a:xfrm>
                <a:prstGeom prst="triangle">
                  <a:avLst>
                    <a:gd name="adj" fmla="val 50000"/>
                  </a:avLst>
                </a:prstGeom>
                <a:noFill/>
                <a:ln w="12600">
                  <a:solidFill>
                    <a:srgbClr val="0066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Gleichschenkliges Dreieck 13"/>
                <p:cNvSpPr/>
                <p:nvPr/>
              </p:nvSpPr>
              <p:spPr>
                <a:xfrm>
                  <a:off x="7611840" y="4708440"/>
                  <a:ext cx="1143000" cy="1071720"/>
                </a:xfrm>
                <a:prstGeom prst="triangle">
                  <a:avLst>
                    <a:gd name="adj" fmla="val 50000"/>
                  </a:avLst>
                </a:prstGeom>
                <a:noFill/>
                <a:ln w="12600">
                  <a:solidFill>
                    <a:srgbClr val="0066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Gleichschenkliges Dreieck 14"/>
                <p:cNvSpPr/>
                <p:nvPr/>
              </p:nvSpPr>
              <p:spPr>
                <a:xfrm>
                  <a:off x="6468840" y="4708440"/>
                  <a:ext cx="2286000" cy="1071720"/>
                </a:xfrm>
                <a:prstGeom prst="triangle">
                  <a:avLst>
                    <a:gd name="adj" fmla="val 50000"/>
                  </a:avLst>
                </a:prstGeom>
                <a:noFill/>
                <a:ln w="12600">
                  <a:solidFill>
                    <a:srgbClr val="0066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Gerade Verbindung 16"/>
              <p:cNvSpPr/>
              <p:nvPr/>
            </p:nvSpPr>
            <p:spPr>
              <a:xfrm flipH="1">
                <a:off x="6468840" y="4424400"/>
                <a:ext cx="1440" cy="171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4249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Gerade Verbindung 18"/>
              <p:cNvSpPr/>
              <p:nvPr/>
            </p:nvSpPr>
            <p:spPr>
              <a:xfrm>
                <a:off x="6183360" y="5780160"/>
                <a:ext cx="31431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ts val="4249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Gerade Verbindung 16"/>
            <p:cNvSpPr/>
            <p:nvPr/>
          </p:nvSpPr>
          <p:spPr>
            <a:xfrm>
              <a:off x="6468840" y="4708440"/>
              <a:ext cx="2357280" cy="1440"/>
            </a:xfrm>
            <a:prstGeom prst="line">
              <a:avLst/>
            </a:prstGeom>
            <a:ln w="9360">
              <a:solidFill>
                <a:srgbClr val="0066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Datumsplatzhalter 19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ußzeilenplatzhalter 3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11"/>
          <p:cNvGrpSpPr/>
          <p:nvPr/>
        </p:nvGrpSpPr>
        <p:grpSpPr>
          <a:xfrm>
            <a:off x="595440" y="1739880"/>
            <a:ext cx="8901000" cy="1208160"/>
            <a:chOff x="595440" y="1739880"/>
            <a:chExt cx="8901000" cy="1208160"/>
          </a:xfrm>
        </p:grpSpPr>
        <p:sp>
          <p:nvSpPr>
            <p:cNvPr id="319" name="Rectangle 12"/>
            <p:cNvSpPr/>
            <p:nvPr/>
          </p:nvSpPr>
          <p:spPr>
            <a:xfrm>
              <a:off x="595440" y="1739880"/>
              <a:ext cx="8901000" cy="1208160"/>
            </a:xfrm>
            <a:prstGeom prst="rect">
              <a:avLst/>
            </a:prstGeom>
            <a:solidFill>
              <a:srgbClr val="66ffcc">
                <a:alpha val="1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3"/>
            <p:cNvSpPr/>
            <p:nvPr/>
          </p:nvSpPr>
          <p:spPr>
            <a:xfrm>
              <a:off x="747000" y="1774800"/>
              <a:ext cx="23112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262626"/>
                  </a:solidFill>
                  <a:latin typeface="Arial"/>
                </a:rPr>
                <a:t>Electric potential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1" name="Picture 17" descr=""/>
          <p:cNvPicPr/>
          <p:nvPr/>
        </p:nvPicPr>
        <p:blipFill>
          <a:blip r:embed="rId1"/>
          <a:stretch/>
        </p:blipFill>
        <p:spPr>
          <a:xfrm>
            <a:off x="3473280" y="1859040"/>
            <a:ext cx="5588280" cy="92556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7"/>
          <p:cNvGrpSpPr/>
          <p:nvPr/>
        </p:nvGrpSpPr>
        <p:grpSpPr>
          <a:xfrm>
            <a:off x="595440" y="3152880"/>
            <a:ext cx="8901000" cy="997920"/>
            <a:chOff x="595440" y="3152880"/>
            <a:chExt cx="8901000" cy="997920"/>
          </a:xfrm>
        </p:grpSpPr>
        <p:sp>
          <p:nvSpPr>
            <p:cNvPr id="323" name="Rectangle 8"/>
            <p:cNvSpPr/>
            <p:nvPr/>
          </p:nvSpPr>
          <p:spPr>
            <a:xfrm>
              <a:off x="595440" y="3152880"/>
              <a:ext cx="8901000" cy="973080"/>
            </a:xfrm>
            <a:prstGeom prst="rect">
              <a:avLst/>
            </a:prstGeom>
            <a:solidFill>
              <a:srgbClr val="66ffcc">
                <a:alpha val="10000"/>
              </a:srgbClr>
            </a:solidFill>
            <a:ln w="9360">
              <a:solidFill>
                <a:srgbClr val="0099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9"/>
            <p:cNvSpPr/>
            <p:nvPr/>
          </p:nvSpPr>
          <p:spPr>
            <a:xfrm>
              <a:off x="778680" y="3225960"/>
              <a:ext cx="280656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262626"/>
                  </a:solidFill>
                  <a:latin typeface="Arial"/>
                </a:rPr>
                <a:t>Heat-equation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2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262626"/>
                  </a:solidFill>
                  <a:latin typeface="Arial"/>
                </a:rPr>
                <a:t>(Bioheat transfer eq.)</a:t>
              </a:r>
              <a:r>
                <a:rPr b="0" lang="en-GB" sz="2200" spc="-1" strike="noStrike">
                  <a:solidFill>
                    <a:srgbClr val="262626"/>
                  </a:solidFill>
                  <a:latin typeface="Arial"/>
                </a:rPr>
                <a:t>‏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5" name="Picture 10" descr=""/>
            <p:cNvPicPr/>
            <p:nvPr/>
          </p:nvPicPr>
          <p:blipFill>
            <a:blip r:embed="rId2"/>
            <a:stretch/>
          </p:blipFill>
          <p:spPr>
            <a:xfrm>
              <a:off x="3676680" y="3475080"/>
              <a:ext cx="5776920" cy="36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6" name="Group 2"/>
          <p:cNvGrpSpPr/>
          <p:nvPr/>
        </p:nvGrpSpPr>
        <p:grpSpPr>
          <a:xfrm>
            <a:off x="595440" y="4319640"/>
            <a:ext cx="8901000" cy="2023920"/>
            <a:chOff x="595440" y="4319640"/>
            <a:chExt cx="8901000" cy="2023920"/>
          </a:xfrm>
        </p:grpSpPr>
        <p:sp>
          <p:nvSpPr>
            <p:cNvPr id="327" name="Rectangle 3"/>
            <p:cNvSpPr/>
            <p:nvPr/>
          </p:nvSpPr>
          <p:spPr>
            <a:xfrm>
              <a:off x="595440" y="4319640"/>
              <a:ext cx="8901000" cy="2023920"/>
            </a:xfrm>
            <a:prstGeom prst="rect">
              <a:avLst/>
            </a:prstGeom>
            <a:solidFill>
              <a:srgbClr val="66ffcc">
                <a:alpha val="10000"/>
              </a:srgbClr>
            </a:solidFill>
            <a:ln w="9360">
              <a:solidFill>
                <a:srgbClr val="0099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Text Box 4"/>
            <p:cNvSpPr/>
            <p:nvPr/>
          </p:nvSpPr>
          <p:spPr>
            <a:xfrm>
              <a:off x="717120" y="4422600"/>
              <a:ext cx="17658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262626"/>
                  </a:solidFill>
                  <a:latin typeface="Arial"/>
                </a:rPr>
                <a:t>Source/Sink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9" name="Picture 5" descr=""/>
            <p:cNvPicPr/>
            <p:nvPr/>
          </p:nvPicPr>
          <p:blipFill>
            <a:blip r:embed="rId3"/>
            <a:stretch/>
          </p:blipFill>
          <p:spPr>
            <a:xfrm>
              <a:off x="4548240" y="4459320"/>
              <a:ext cx="4591080" cy="36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Group 14"/>
          <p:cNvGrpSpPr/>
          <p:nvPr/>
        </p:nvGrpSpPr>
        <p:grpSpPr>
          <a:xfrm>
            <a:off x="4068720" y="4967280"/>
            <a:ext cx="5246280" cy="1177560"/>
            <a:chOff x="4068720" y="4967280"/>
            <a:chExt cx="5246280" cy="1177560"/>
          </a:xfrm>
        </p:grpSpPr>
        <p:pic>
          <p:nvPicPr>
            <p:cNvPr id="331" name="Picture 15" descr=""/>
            <p:cNvPicPr/>
            <p:nvPr/>
          </p:nvPicPr>
          <p:blipFill>
            <a:blip r:embed="rId4"/>
            <a:stretch/>
          </p:blipFill>
          <p:spPr>
            <a:xfrm>
              <a:off x="4169880" y="5326920"/>
              <a:ext cx="5145120" cy="8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16" descr=""/>
            <p:cNvPicPr/>
            <p:nvPr/>
          </p:nvPicPr>
          <p:blipFill>
            <a:blip r:embed="rId5"/>
            <a:stretch/>
          </p:blipFill>
          <p:spPr>
            <a:xfrm>
              <a:off x="4068720" y="4967280"/>
              <a:ext cx="4913280" cy="36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Rectangle 1"/>
          <p:cNvSpPr/>
          <p:nvPr/>
        </p:nvSpPr>
        <p:spPr>
          <a:xfrm>
            <a:off x="503280" y="208080"/>
            <a:ext cx="906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0412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imulating RF Abl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50388-4FC3-4716-97F6-4EF6C4FC57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Datumsplatzhalter 21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ußzeilenplatzhalter 1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3BF6D-877F-48AD-85A2-8F0BED07B5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503280" y="13644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molyak Algorith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503280" y="1565280"/>
            <a:ext cx="903600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e the deterministic problem at certain sample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366840" y="2851200"/>
            <a:ext cx="9320040" cy="890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2"/>
          <a:stretch/>
        </p:blipFill>
        <p:spPr>
          <a:xfrm>
            <a:off x="2828880" y="2279520"/>
            <a:ext cx="3995640" cy="335160"/>
          </a:xfrm>
          <a:prstGeom prst="rect">
            <a:avLst/>
          </a:prstGeom>
          <a:ln w="0">
            <a:noFill/>
          </a:ln>
        </p:spPr>
      </p:pic>
      <p:grpSp>
        <p:nvGrpSpPr>
          <p:cNvPr id="342" name="Gruppieren 12"/>
          <p:cNvGrpSpPr/>
          <p:nvPr/>
        </p:nvGrpSpPr>
        <p:grpSpPr>
          <a:xfrm>
            <a:off x="787320" y="4208400"/>
            <a:ext cx="3967200" cy="1908360"/>
            <a:chOff x="787320" y="4208400"/>
            <a:chExt cx="3967200" cy="1908360"/>
          </a:xfrm>
        </p:grpSpPr>
        <p:sp>
          <p:nvSpPr>
            <p:cNvPr id="343" name="Text Box 3"/>
            <p:cNvSpPr/>
            <p:nvPr/>
          </p:nvSpPr>
          <p:spPr>
            <a:xfrm>
              <a:off x="3397320" y="4851360"/>
              <a:ext cx="135720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ndom sample poin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4" name="Picture 7" descr=""/>
            <p:cNvPicPr/>
            <p:nvPr/>
          </p:nvPicPr>
          <p:blipFill>
            <a:blip r:embed="rId3"/>
            <a:stretch/>
          </p:blipFill>
          <p:spPr>
            <a:xfrm>
              <a:off x="787320" y="4208400"/>
              <a:ext cx="2395440" cy="190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uppieren 13"/>
          <p:cNvGrpSpPr/>
          <p:nvPr/>
        </p:nvGrpSpPr>
        <p:grpSpPr>
          <a:xfrm>
            <a:off x="5202360" y="4208400"/>
            <a:ext cx="4195800" cy="1908360"/>
            <a:chOff x="5202360" y="4208400"/>
            <a:chExt cx="4195800" cy="1908360"/>
          </a:xfrm>
        </p:grpSpPr>
        <p:pic>
          <p:nvPicPr>
            <p:cNvPr id="346" name="Picture 6" descr=""/>
            <p:cNvPicPr/>
            <p:nvPr/>
          </p:nvPicPr>
          <p:blipFill>
            <a:blip r:embed="rId4"/>
            <a:stretch/>
          </p:blipFill>
          <p:spPr>
            <a:xfrm>
              <a:off x="5202360" y="4208400"/>
              <a:ext cx="2395440" cy="19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8"/>
            <p:cNvSpPr/>
            <p:nvPr/>
          </p:nvSpPr>
          <p:spPr>
            <a:xfrm>
              <a:off x="7826400" y="4208400"/>
              <a:ext cx="157176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parse grid, generated with Smolyak‘s algorith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Datumsplatzhalter 14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8000" y="2065320"/>
            <a:ext cx="9064440" cy="36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ochastic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w to solve SP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erical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timization with SP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umer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ußzeilenplatzhalter 1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B4CCF-D3FA-4CF9-898E-077CACA8AB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"/>
          <p:cNvSpPr/>
          <p:nvPr/>
        </p:nvSpPr>
        <p:spPr>
          <a:xfrm>
            <a:off x="50328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Datumsplatzhalter 6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ußzeilenplatzhalter 3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Foliennummernplatzhalter 4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5BC27-CB7D-4439-8651-09801DB9CB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2920" y="36000"/>
            <a:ext cx="906948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Numerical Sol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9440" y="1460160"/>
            <a:ext cx="9069480" cy="55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jugate gradien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8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ctation value as solution of SPDE and adjoint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8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ctation value in descent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>
              <a:lnSpc>
                <a:spcPct val="18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tiell quadratic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8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66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expectation value of Lagrange multipliers to determine weighting factor for penalt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Datumsplatzhalter 6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Fußzeilenplatzhalter 1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0B15E-AF3E-47FE-8441-66DFB92B9A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539640" y="1440000"/>
            <a:ext cx="907272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5520" indent="-32076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probability density function        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86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e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86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c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86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 tensor product sp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chastic elliptic P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925720" y="2994120"/>
            <a:ext cx="2833560" cy="760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3060720" y="2136600"/>
            <a:ext cx="3565440" cy="760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3"/>
          <a:stretch/>
        </p:blipFill>
        <p:spPr>
          <a:xfrm>
            <a:off x="5073480" y="1511280"/>
            <a:ext cx="609840" cy="3650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4"/>
          <a:stretch/>
        </p:blipFill>
        <p:spPr>
          <a:xfrm>
            <a:off x="6040440" y="1476360"/>
            <a:ext cx="297000" cy="395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5"/>
          <a:stretch/>
        </p:blipFill>
        <p:spPr>
          <a:xfrm>
            <a:off x="5091120" y="3994200"/>
            <a:ext cx="1949400" cy="395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"/>
          <p:cNvPicPr/>
          <p:nvPr/>
        </p:nvPicPr>
        <p:blipFill>
          <a:blip r:embed="rId6">
            <a:alphaModFix amt="10000"/>
          </a:blip>
          <a:stretch/>
        </p:blipFill>
        <p:spPr>
          <a:xfrm>
            <a:off x="1560600" y="5365800"/>
            <a:ext cx="6899040" cy="753840"/>
          </a:xfrm>
          <a:prstGeom prst="rect">
            <a:avLst/>
          </a:prstGeom>
          <a:ln w="9360">
            <a:solidFill>
              <a:srgbClr val="009973"/>
            </a:solidFill>
            <a:round/>
          </a:ln>
        </p:spPr>
      </p:pic>
      <p:sp>
        <p:nvSpPr>
          <p:cNvPr id="363" name="Datumsplatzhalter 11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ußzeilenplatzhalter 1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76122-F700-4D6B-8153-C024E47EF5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503280" y="216000"/>
            <a:ext cx="90723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tochastic Collocation Metho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539640" y="1220760"/>
            <a:ext cx="90727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bine stochastic Galerkin method and Monte Carlo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polynomial approximation in random spaces and sample at discrete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weak solution of the SPDE 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thogonal Lagrange interpolation polynom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1044720" y="2994120"/>
            <a:ext cx="2863800" cy="395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2"/>
          <a:stretch/>
        </p:blipFill>
        <p:spPr>
          <a:xfrm>
            <a:off x="1249200" y="3524400"/>
            <a:ext cx="7391520" cy="104112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5"/>
          <p:cNvGrpSpPr/>
          <p:nvPr/>
        </p:nvGrpSpPr>
        <p:grpSpPr>
          <a:xfrm>
            <a:off x="2496960" y="5400720"/>
            <a:ext cx="3828960" cy="1252080"/>
            <a:chOff x="2496960" y="5400720"/>
            <a:chExt cx="3828960" cy="1252080"/>
          </a:xfrm>
        </p:grpSpPr>
        <p:pic>
          <p:nvPicPr>
            <p:cNvPr id="371" name="Picture 6" descr=""/>
            <p:cNvPicPr/>
            <p:nvPr/>
          </p:nvPicPr>
          <p:blipFill>
            <a:blip r:embed="rId3"/>
            <a:stretch/>
          </p:blipFill>
          <p:spPr>
            <a:xfrm>
              <a:off x="2496960" y="5758560"/>
              <a:ext cx="3629520" cy="89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7" descr=""/>
            <p:cNvPicPr/>
            <p:nvPr/>
          </p:nvPicPr>
          <p:blipFill>
            <a:blip r:embed="rId4"/>
            <a:stretch/>
          </p:blipFill>
          <p:spPr>
            <a:xfrm>
              <a:off x="2514240" y="5400720"/>
              <a:ext cx="3811680" cy="39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Datumsplatzhalter 11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2920" y="65160"/>
            <a:ext cx="906444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400" spc="-1" strike="noStrike">
                <a:solidFill>
                  <a:srgbClr val="000000"/>
                </a:solidFill>
                <a:latin typeface="Arial"/>
              </a:rPr>
              <a:t>Distributed Paramet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03280" y="1696680"/>
            <a:ext cx="832320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utput depends on uncertain input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atistical properties of 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ußzeilenplatzhalter 3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oliennummernplatzhalter 4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F03A6-F5C4-452B-8692-6029C60C7B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Gruppieren 24"/>
          <p:cNvGrpSpPr/>
          <p:nvPr/>
        </p:nvGrpSpPr>
        <p:grpSpPr>
          <a:xfrm>
            <a:off x="735120" y="3422520"/>
            <a:ext cx="3447720" cy="2497320"/>
            <a:chOff x="735120" y="3422520"/>
            <a:chExt cx="3447720" cy="2497320"/>
          </a:xfrm>
        </p:grpSpPr>
        <p:grpSp>
          <p:nvGrpSpPr>
            <p:cNvPr id="379" name="Gruppieren 6"/>
            <p:cNvGrpSpPr/>
            <p:nvPr/>
          </p:nvGrpSpPr>
          <p:grpSpPr>
            <a:xfrm>
              <a:off x="1092240" y="3565080"/>
              <a:ext cx="3090600" cy="2143080"/>
              <a:chOff x="1092240" y="3565080"/>
              <a:chExt cx="3090600" cy="2143080"/>
            </a:xfrm>
          </p:grpSpPr>
          <p:grpSp>
            <p:nvGrpSpPr>
              <p:cNvPr id="380" name="Group 66"/>
              <p:cNvGrpSpPr/>
              <p:nvPr/>
            </p:nvGrpSpPr>
            <p:grpSpPr>
              <a:xfrm>
                <a:off x="1092240" y="3636000"/>
                <a:ext cx="3090600" cy="2072160"/>
                <a:chOff x="1092240" y="3636000"/>
                <a:chExt cx="3090600" cy="2072160"/>
              </a:xfrm>
            </p:grpSpPr>
            <p:pic>
              <p:nvPicPr>
                <p:cNvPr id="381" name="Picture 33" descr="TP_tmp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448640" y="3647520"/>
                  <a:ext cx="89172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2" name="Line 26"/>
                <p:cNvSpPr/>
                <p:nvPr/>
              </p:nvSpPr>
              <p:spPr>
                <a:xfrm flipV="1">
                  <a:off x="1161360" y="3636000"/>
                  <a:ext cx="0" cy="200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7"/>
                <p:cNvSpPr/>
                <p:nvPr/>
              </p:nvSpPr>
              <p:spPr>
                <a:xfrm>
                  <a:off x="1092240" y="5604480"/>
                  <a:ext cx="2857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384" name="Picture 28" descr="TP_tmp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67560" y="5554440"/>
                  <a:ext cx="215280" cy="15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9" descr="TP_tmp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37680" y="3640680"/>
                  <a:ext cx="184320" cy="307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6" name="Gruppieren 31"/>
              <p:cNvGrpSpPr/>
              <p:nvPr/>
            </p:nvGrpSpPr>
            <p:grpSpPr>
              <a:xfrm>
                <a:off x="1244520" y="3565080"/>
                <a:ext cx="2555640" cy="1968120"/>
                <a:chOff x="1244520" y="3565080"/>
                <a:chExt cx="2555640" cy="1968120"/>
              </a:xfrm>
            </p:grpSpPr>
            <p:sp>
              <p:nvSpPr>
                <p:cNvPr id="387" name="Freeform 46"/>
                <p:cNvSpPr/>
                <p:nvPr/>
              </p:nvSpPr>
              <p:spPr>
                <a:xfrm>
                  <a:off x="1244520" y="3911040"/>
                  <a:ext cx="2498760" cy="1622160"/>
                </a:xfrm>
                <a:prstGeom prst="pie">
                  <a:avLst/>
                </a:prstGeom>
                <a:noFill/>
                <a:ln w="28440">
                  <a:solidFill>
                    <a:srgbClr val="7f7f7f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Textfeld 10"/>
                <p:cNvSpPr/>
                <p:nvPr/>
              </p:nvSpPr>
              <p:spPr>
                <a:xfrm>
                  <a:off x="2877840" y="4136400"/>
                  <a:ext cx="255960" cy="63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de-DE" sz="1800" spc="-1" strike="noStrike">
                      <a:solidFill>
                        <a:srgbClr val="ff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Textfeld 11"/>
                <p:cNvSpPr/>
                <p:nvPr/>
              </p:nvSpPr>
              <p:spPr>
                <a:xfrm>
                  <a:off x="1340280" y="4876200"/>
                  <a:ext cx="255960" cy="63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de-DE" sz="1800" spc="-1" strike="noStrike">
                      <a:solidFill>
                        <a:srgbClr val="ff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Textfeld 12"/>
                <p:cNvSpPr/>
                <p:nvPr/>
              </p:nvSpPr>
              <p:spPr>
                <a:xfrm>
                  <a:off x="2467800" y="4246200"/>
                  <a:ext cx="255960" cy="63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de-DE" sz="1800" spc="-1" strike="noStrike">
                      <a:solidFill>
                        <a:srgbClr val="ff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Textfeld 13"/>
                <p:cNvSpPr/>
                <p:nvPr/>
              </p:nvSpPr>
              <p:spPr>
                <a:xfrm>
                  <a:off x="2057760" y="4350600"/>
                  <a:ext cx="255960" cy="63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de-DE" sz="1800" spc="-1" strike="noStrike">
                      <a:solidFill>
                        <a:srgbClr val="ff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Textfeld 14"/>
                <p:cNvSpPr/>
                <p:nvPr/>
              </p:nvSpPr>
              <p:spPr>
                <a:xfrm>
                  <a:off x="1647720" y="4565160"/>
                  <a:ext cx="255960" cy="63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de-DE" sz="1800" spc="-1" strike="noStrike">
                      <a:solidFill>
                        <a:srgbClr val="ff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Textfeld 15"/>
                <p:cNvSpPr/>
                <p:nvPr/>
              </p:nvSpPr>
              <p:spPr>
                <a:xfrm>
                  <a:off x="3544200" y="3565080"/>
                  <a:ext cx="255960" cy="63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de-DE" sz="1800" spc="-1" strike="noStrike">
                      <a:solidFill>
                        <a:srgbClr val="ff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Textfeld 16"/>
                <p:cNvSpPr/>
                <p:nvPr/>
              </p:nvSpPr>
              <p:spPr>
                <a:xfrm>
                  <a:off x="3236400" y="3922200"/>
                  <a:ext cx="255960" cy="63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de-DE" sz="1800" spc="-1" strike="noStrike">
                      <a:solidFill>
                        <a:srgbClr val="ff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95" name="Picture 8" descr="txp_fig"/>
            <p:cNvPicPr/>
            <p:nvPr/>
          </p:nvPicPr>
          <p:blipFill>
            <a:blip r:embed="rId4"/>
            <a:srcRect l="32588" t="41594" r="63622" b="0"/>
            <a:stretch/>
          </p:blipFill>
          <p:spPr>
            <a:xfrm>
              <a:off x="735120" y="3422520"/>
              <a:ext cx="268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16" descr=""/>
            <p:cNvPicPr/>
            <p:nvPr/>
          </p:nvPicPr>
          <p:blipFill>
            <a:blip r:embed="rId5"/>
            <a:stretch/>
          </p:blipFill>
          <p:spPr>
            <a:xfrm>
              <a:off x="3848400" y="5708880"/>
              <a:ext cx="244440" cy="21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Pfeil nach rechts 25"/>
          <p:cNvSpPr/>
          <p:nvPr/>
        </p:nvSpPr>
        <p:spPr>
          <a:xfrm>
            <a:off x="1182600" y="249408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66ffcc">
              <a:alpha val="5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488960" y="5792760"/>
            <a:ext cx="21225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Gruppieren 80"/>
          <p:cNvGrpSpPr/>
          <p:nvPr/>
        </p:nvGrpSpPr>
        <p:grpSpPr>
          <a:xfrm>
            <a:off x="4897440" y="3351240"/>
            <a:ext cx="3714840" cy="3004200"/>
            <a:chOff x="4897440" y="3351240"/>
            <a:chExt cx="3714840" cy="3004200"/>
          </a:xfrm>
        </p:grpSpPr>
        <p:grpSp>
          <p:nvGrpSpPr>
            <p:cNvPr id="400" name="Group 66"/>
            <p:cNvGrpSpPr/>
            <p:nvPr/>
          </p:nvGrpSpPr>
          <p:grpSpPr>
            <a:xfrm>
              <a:off x="5520960" y="3636720"/>
              <a:ext cx="3090960" cy="2071440"/>
              <a:chOff x="5520960" y="3636720"/>
              <a:chExt cx="3090960" cy="2071440"/>
            </a:xfrm>
          </p:grpSpPr>
          <p:sp>
            <p:nvSpPr>
              <p:cNvPr id="401" name="Line 26"/>
              <p:cNvSpPr/>
              <p:nvPr/>
            </p:nvSpPr>
            <p:spPr>
              <a:xfrm flipV="1">
                <a:off x="5590440" y="3636720"/>
                <a:ext cx="0" cy="200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ts val="4249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7"/>
              <p:cNvSpPr/>
              <p:nvPr/>
            </p:nvSpPr>
            <p:spPr>
              <a:xfrm>
                <a:off x="5520960" y="5604480"/>
                <a:ext cx="285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ts val="4249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03" name="Picture 28" descr="TP_tmp"/>
              <p:cNvPicPr/>
              <p:nvPr/>
            </p:nvPicPr>
            <p:blipFill>
              <a:blip r:embed="rId6"/>
              <a:stretch/>
            </p:blipFill>
            <p:spPr>
              <a:xfrm>
                <a:off x="8396640" y="5554440"/>
                <a:ext cx="215280" cy="15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Picture 29" descr="TP_tmp"/>
              <p:cNvPicPr/>
              <p:nvPr/>
            </p:nvPicPr>
            <p:blipFill>
              <a:blip r:embed="rId7"/>
              <a:stretch/>
            </p:blipFill>
            <p:spPr>
              <a:xfrm>
                <a:off x="5666400" y="3641040"/>
                <a:ext cx="184680" cy="307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5" name="Freihandform 74"/>
            <p:cNvSpPr/>
            <p:nvPr/>
          </p:nvSpPr>
          <p:spPr>
            <a:xfrm>
              <a:off x="5611680" y="3752280"/>
              <a:ext cx="2246040" cy="1813320"/>
            </a:xfrm>
            <a:prstGeom prst="pie">
              <a:avLst/>
            </a:prstGeom>
            <a:noFill/>
            <a:ln w="158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6"/>
            <p:cNvSpPr/>
            <p:nvPr/>
          </p:nvSpPr>
          <p:spPr>
            <a:xfrm>
              <a:off x="6489360" y="5721840"/>
              <a:ext cx="212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7" name="Picture 8" descr="txp_fig"/>
            <p:cNvPicPr/>
            <p:nvPr/>
          </p:nvPicPr>
          <p:blipFill>
            <a:blip r:embed="rId8"/>
            <a:srcRect l="32588" t="41594" r="63622" b="0"/>
            <a:stretch/>
          </p:blipFill>
          <p:spPr>
            <a:xfrm>
              <a:off x="8272080" y="5494320"/>
              <a:ext cx="268920" cy="53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8" name="Gruppieren 79"/>
            <p:cNvGrpSpPr/>
            <p:nvPr/>
          </p:nvGrpSpPr>
          <p:grpSpPr>
            <a:xfrm>
              <a:off x="4897440" y="3351240"/>
              <a:ext cx="857160" cy="633600"/>
              <a:chOff x="4897440" y="3351240"/>
              <a:chExt cx="857160" cy="633600"/>
            </a:xfrm>
          </p:grpSpPr>
          <p:sp>
            <p:nvSpPr>
              <p:cNvPr id="409" name="Textfeld 77"/>
              <p:cNvSpPr/>
              <p:nvPr/>
            </p:nvSpPr>
            <p:spPr>
              <a:xfrm>
                <a:off x="4897440" y="3351240"/>
                <a:ext cx="85716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4249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i="1" lang="de-DE" sz="1800" spc="-1" strike="noStrike">
                    <a:solidFill>
                      <a:srgbClr val="000000"/>
                    </a:solidFill>
                    <a:latin typeface="Arial"/>
                  </a:rPr>
                  <a:t>P(   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10" name="Picture 8" descr="txp_fig"/>
              <p:cNvPicPr/>
              <p:nvPr/>
            </p:nvPicPr>
            <p:blipFill>
              <a:blip r:embed="rId9"/>
              <a:srcRect l="32588" t="41594" r="63622" b="0"/>
              <a:stretch/>
            </p:blipFill>
            <p:spPr>
              <a:xfrm>
                <a:off x="5128200" y="3422520"/>
                <a:ext cx="268920" cy="54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11" name="Datumsplatzhalter 39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ußzeilenplatzhalter 3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oliennummernplatzhalter 4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CACA3-E69F-4E5B-A067-9A4BC19BFA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64800"/>
            <a:ext cx="906624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438120" y="387360"/>
            <a:ext cx="82296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Motivation - Planu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7596360" y="6613560"/>
            <a:ext cx="2808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249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reeform 2"/>
          <p:cNvSpPr/>
          <p:nvPr/>
        </p:nvSpPr>
        <p:spPr>
          <a:xfrm>
            <a:off x="1008000" y="1160640"/>
            <a:ext cx="7696440" cy="5547960"/>
          </a:xfrm>
          <a:prstGeom prst="pie">
            <a:avLst/>
          </a:prstGeom>
          <a:gradFill rotWithShape="0">
            <a:gsLst>
              <a:gs pos="0">
                <a:srgbClr val="582424"/>
              </a:gs>
              <a:gs pos="100000">
                <a:srgbClr val="bf4f4f"/>
              </a:gs>
            </a:gsLst>
            <a:lin ang="5400000"/>
          </a:gradFill>
          <a:ln w="19080">
            <a:solidFill>
              <a:srgbClr val="ff5050"/>
            </a:solidFill>
            <a:round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2959200" y="2509920"/>
            <a:ext cx="2547360" cy="1131480"/>
            <a:chOff x="2959200" y="2509920"/>
            <a:chExt cx="2547360" cy="1131480"/>
          </a:xfrm>
        </p:grpSpPr>
        <p:sp>
          <p:nvSpPr>
            <p:cNvPr id="73" name="Oval 5"/>
            <p:cNvSpPr/>
            <p:nvPr/>
          </p:nvSpPr>
          <p:spPr>
            <a:xfrm>
              <a:off x="2959200" y="2735640"/>
              <a:ext cx="1015560" cy="90576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46745" dir="2116872" blurRad="0" rotWithShape="0">
                <a:srgbClr val="18181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6"/>
            <p:cNvSpPr/>
            <p:nvPr/>
          </p:nvSpPr>
          <p:spPr>
            <a:xfrm>
              <a:off x="4307760" y="2509920"/>
              <a:ext cx="119880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4249"/>
                </a:lnSpc>
                <a:spcBef>
                  <a:spcPts val="193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i="1" lang="en-US" sz="3100" spc="-1" strike="noStrike">
                  <a:solidFill>
                    <a:srgbClr val="ffffff"/>
                  </a:solidFill>
                  <a:latin typeface="Comic Sans MS"/>
                </a:rPr>
                <a:t>lesion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5583240" y="5439960"/>
            <a:ext cx="2519280" cy="731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92120"/>
                <a:tab algn="l" pos="987480"/>
                <a:tab algn="l" pos="1482840"/>
                <a:tab algn="l" pos="1978200"/>
                <a:tab algn="l" pos="2473200"/>
                <a:tab algn="l" pos="2968560"/>
                <a:tab algn="l" pos="3463920"/>
                <a:tab algn="l" pos="395928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6080"/>
                <a:tab algn="l" pos="9901080"/>
                <a:tab algn="l" pos="10368000"/>
                <a:tab algn="l" pos="108615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-Ab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0"/>
          <p:cNvSpPr/>
          <p:nvPr/>
        </p:nvSpPr>
        <p:spPr>
          <a:xfrm rot="20026800">
            <a:off x="2963880" y="2317320"/>
            <a:ext cx="904680" cy="1631880"/>
          </a:xfrm>
          <a:prstGeom prst="ellipse">
            <a:avLst/>
          </a:prstGeom>
          <a:solidFill>
            <a:srgbClr val="18181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93560"/>
                <a:tab algn="l" pos="987480"/>
                <a:tab algn="l" pos="1481040"/>
                <a:tab algn="l" pos="1974960"/>
                <a:tab algn="l" pos="2468520"/>
                <a:tab algn="l" pos="2962440"/>
                <a:tab algn="l" pos="3456000"/>
                <a:tab algn="l" pos="3949560"/>
                <a:tab algn="l" pos="4443480"/>
                <a:tab algn="l" pos="4937040"/>
                <a:tab algn="l" pos="5430960"/>
                <a:tab algn="l" pos="5924520"/>
                <a:tab algn="l" pos="6418440"/>
                <a:tab algn="l" pos="6912000"/>
                <a:tab algn="l" pos="7405560"/>
                <a:tab algn="l" pos="7899480"/>
                <a:tab algn="l" pos="8393040"/>
                <a:tab algn="l" pos="8886960"/>
                <a:tab algn="l" pos="9380520"/>
                <a:tab algn="l" pos="98740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482760" y="426960"/>
            <a:ext cx="907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900" spc="-1" strike="noStrike">
                <a:solidFill>
                  <a:srgbClr val="ffffff"/>
                </a:solidFill>
                <a:latin typeface="Arial"/>
              </a:rPr>
              <a:t>Motivation - Planu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8373960" y="7289640"/>
            <a:ext cx="309600" cy="6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ts val="4249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1"/>
          <p:cNvGrpSpPr/>
          <p:nvPr/>
        </p:nvGrpSpPr>
        <p:grpSpPr>
          <a:xfrm>
            <a:off x="3295800" y="2335320"/>
            <a:ext cx="303840" cy="4801320"/>
            <a:chOff x="3295800" y="2335320"/>
            <a:chExt cx="303840" cy="4801320"/>
          </a:xfrm>
        </p:grpSpPr>
        <p:grpSp>
          <p:nvGrpSpPr>
            <p:cNvPr id="80" name="Group 12"/>
            <p:cNvGrpSpPr/>
            <p:nvPr/>
          </p:nvGrpSpPr>
          <p:grpSpPr>
            <a:xfrm>
              <a:off x="3295800" y="2769120"/>
              <a:ext cx="303840" cy="4367520"/>
              <a:chOff x="3295800" y="2769120"/>
              <a:chExt cx="303840" cy="4367520"/>
            </a:xfrm>
          </p:grpSpPr>
          <p:sp>
            <p:nvSpPr>
              <p:cNvPr id="81" name="Rectangle 13"/>
              <p:cNvSpPr/>
              <p:nvPr/>
            </p:nvSpPr>
            <p:spPr>
              <a:xfrm>
                <a:off x="3416760" y="2769120"/>
                <a:ext cx="84240" cy="4284720"/>
              </a:xfrm>
              <a:prstGeom prst="rect">
                <a:avLst/>
              </a:prstGeom>
              <a:gradFill rotWithShape="0">
                <a:gsLst>
                  <a:gs pos="0">
                    <a:srgbClr val="767600"/>
                  </a:gs>
                  <a:gs pos="50000">
                    <a:srgbClr val="ffff00"/>
                  </a:gs>
                  <a:gs pos="100000">
                    <a:srgbClr val="7676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4249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14"/>
              <p:cNvSpPr/>
              <p:nvPr/>
            </p:nvSpPr>
            <p:spPr>
              <a:xfrm>
                <a:off x="3295800" y="6254640"/>
                <a:ext cx="303840" cy="882000"/>
              </a:xfrm>
              <a:prstGeom prst="rect">
                <a:avLst/>
              </a:prstGeom>
              <a:gradFill rotWithShape="0">
                <a:gsLst>
                  <a:gs pos="0">
                    <a:srgbClr val="18185e"/>
                  </a:gs>
                  <a:gs pos="50000">
                    <a:srgbClr val="3333cc"/>
                  </a:gs>
                  <a:gs pos="100000">
                    <a:srgbClr val="18185e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4249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" name="AutoShape 15"/>
            <p:cNvSpPr/>
            <p:nvPr/>
          </p:nvSpPr>
          <p:spPr>
            <a:xfrm>
              <a:off x="3417120" y="2335320"/>
              <a:ext cx="94680" cy="433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5e47"/>
                </a:gs>
                <a:gs pos="50000">
                  <a:srgbClr val="00cc99"/>
                </a:gs>
                <a:gs pos="100000">
                  <a:srgbClr val="005e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>
              <a:off x="3417120" y="2997720"/>
              <a:ext cx="96840" cy="160560"/>
            </a:xfrm>
            <a:prstGeom prst="rect">
              <a:avLst/>
            </a:prstGeom>
            <a:gradFill rotWithShape="0">
              <a:gsLst>
                <a:gs pos="0">
                  <a:srgbClr val="005e47"/>
                </a:gs>
                <a:gs pos="50000">
                  <a:srgbClr val="00cc99"/>
                </a:gs>
                <a:gs pos="100000">
                  <a:srgbClr val="005e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7"/>
            <p:cNvSpPr/>
            <p:nvPr/>
          </p:nvSpPr>
          <p:spPr>
            <a:xfrm>
              <a:off x="3417120" y="3360960"/>
              <a:ext cx="96840" cy="151200"/>
            </a:xfrm>
            <a:prstGeom prst="rect">
              <a:avLst/>
            </a:prstGeom>
            <a:gradFill rotWithShape="0">
              <a:gsLst>
                <a:gs pos="0">
                  <a:srgbClr val="005e47"/>
                </a:gs>
                <a:gs pos="50000">
                  <a:srgbClr val="00cc99"/>
                </a:gs>
                <a:gs pos="100000">
                  <a:srgbClr val="005e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18"/>
          <p:cNvGrpSpPr/>
          <p:nvPr/>
        </p:nvGrpSpPr>
        <p:grpSpPr>
          <a:xfrm>
            <a:off x="3290760" y="3022560"/>
            <a:ext cx="340920" cy="449280"/>
            <a:chOff x="3290760" y="3022560"/>
            <a:chExt cx="340920" cy="449280"/>
          </a:xfrm>
        </p:grpSpPr>
        <p:sp>
          <p:nvSpPr>
            <p:cNvPr id="87" name="Oval 19"/>
            <p:cNvSpPr/>
            <p:nvPr/>
          </p:nvSpPr>
          <p:spPr>
            <a:xfrm>
              <a:off x="3290760" y="3022560"/>
              <a:ext cx="340920" cy="44928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0"/>
            <p:cNvSpPr/>
            <p:nvPr/>
          </p:nvSpPr>
          <p:spPr>
            <a:xfrm>
              <a:off x="3336840" y="3065760"/>
              <a:ext cx="257400" cy="353880"/>
            </a:xfrm>
            <a:prstGeom prst="ellipse">
              <a:avLst/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9" name="Group 7" descr=""/>
          <p:cNvPicPr/>
          <p:nvPr/>
        </p:nvPicPr>
        <p:blipFill>
          <a:blip r:embed="rId1"/>
          <a:stretch/>
        </p:blipFill>
        <p:spPr>
          <a:xfrm>
            <a:off x="1511280" y="1627200"/>
            <a:ext cx="5505480" cy="2968560"/>
          </a:xfrm>
          <a:prstGeom prst="rect">
            <a:avLst/>
          </a:prstGeom>
          <a:ln w="0">
            <a:noFill/>
          </a:ln>
        </p:spPr>
      </p:pic>
      <p:sp>
        <p:nvSpPr>
          <p:cNvPr id="90" name="Datumsplatzhalter 29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25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ußzeilenplatzhalter 3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3887640" y="6970680"/>
            <a:ext cx="2300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503280" y="39600"/>
            <a:ext cx="90709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Uncertainty in Material Propert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96720" y="1279440"/>
            <a:ext cx="50007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8680" indent="-328680">
              <a:lnSpc>
                <a:spcPct val="124000"/>
              </a:lnSpc>
              <a:spcBef>
                <a:spcPts val="799"/>
              </a:spcBef>
              <a:tabLst>
                <a:tab algn="l" pos="0"/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erial proper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Arial"/>
              <a:buChar char="–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different for each pat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Arial"/>
              <a:buChar char="–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with vaporisation of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124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Arial"/>
              <a:buChar char="–"/>
              <a:tabLst>
                <a:tab algn="l" pos="328680"/>
                <a:tab algn="l" pos="776160"/>
                <a:tab algn="l" pos="1225440"/>
                <a:tab algn="l" pos="1674720"/>
                <a:tab algn="l" pos="2124000"/>
                <a:tab algn="l" pos="2573280"/>
                <a:tab algn="l" pos="3022560"/>
                <a:tab algn="l" pos="3471840"/>
                <a:tab algn="l" pos="3921120"/>
                <a:tab algn="l" pos="4370400"/>
                <a:tab algn="l" pos="4819680"/>
                <a:tab algn="l" pos="5268960"/>
                <a:tab algn="l" pos="5718240"/>
                <a:tab algn="l" pos="6167520"/>
                <a:tab algn="l" pos="6616800"/>
                <a:tab algn="l" pos="7066080"/>
                <a:tab algn="l" pos="7515360"/>
                <a:tab algn="l" pos="7964640"/>
                <a:tab algn="l" pos="8413920"/>
                <a:tab algn="l" pos="8862840"/>
                <a:tab algn="l" pos="93121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with coagulation of the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Object 2"/>
          <p:cNvGraphicFramePr/>
          <p:nvPr/>
        </p:nvGraphicFramePr>
        <p:xfrm>
          <a:off x="5810400" y="1065240"/>
          <a:ext cx="3944880" cy="2320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6" name="Text Box 7"/>
          <p:cNvSpPr/>
          <p:nvPr/>
        </p:nvSpPr>
        <p:spPr>
          <a:xfrm>
            <a:off x="4686480" y="3376440"/>
            <a:ext cx="5211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imental Data: K. Lehmann, B. Frericks, U. Zurbuchen, Charite, Ber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F2B66-03D8-4F0A-836D-4AB8F5765F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uppieren 57"/>
          <p:cNvGrpSpPr/>
          <p:nvPr/>
        </p:nvGrpSpPr>
        <p:grpSpPr>
          <a:xfrm>
            <a:off x="5397480" y="4280040"/>
            <a:ext cx="3429000" cy="2563200"/>
            <a:chOff x="5397480" y="4280040"/>
            <a:chExt cx="3429000" cy="2563200"/>
          </a:xfrm>
        </p:grpSpPr>
        <p:grpSp>
          <p:nvGrpSpPr>
            <p:cNvPr id="99" name="Gruppieren 80"/>
            <p:cNvGrpSpPr/>
            <p:nvPr/>
          </p:nvGrpSpPr>
          <p:grpSpPr>
            <a:xfrm>
              <a:off x="5397480" y="4280040"/>
              <a:ext cx="3429000" cy="2563200"/>
              <a:chOff x="5397480" y="4280040"/>
              <a:chExt cx="3429000" cy="2563200"/>
            </a:xfrm>
          </p:grpSpPr>
          <p:grpSp>
            <p:nvGrpSpPr>
              <p:cNvPr id="100" name="Group 66"/>
              <p:cNvGrpSpPr/>
              <p:nvPr/>
            </p:nvGrpSpPr>
            <p:grpSpPr>
              <a:xfrm>
                <a:off x="5490360" y="4528800"/>
                <a:ext cx="559080" cy="1804680"/>
                <a:chOff x="5490360" y="4528800"/>
                <a:chExt cx="559080" cy="1804680"/>
              </a:xfrm>
            </p:grpSpPr>
            <p:sp>
              <p:nvSpPr>
                <p:cNvPr id="101" name="Line 26"/>
                <p:cNvSpPr/>
                <p:nvPr/>
              </p:nvSpPr>
              <p:spPr>
                <a:xfrm flipV="1">
                  <a:off x="6049440" y="4528800"/>
                  <a:ext cx="0" cy="1750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Line 27"/>
                <p:cNvSpPr/>
                <p:nvPr/>
              </p:nvSpPr>
              <p:spPr>
                <a:xfrm>
                  <a:off x="5490360" y="6243480"/>
                  <a:ext cx="2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03" name="Picture 28" descr="TP_tmp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92520" y="6199560"/>
                  <a:ext cx="360" cy="133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29" descr="TP_tmp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490360" y="4532760"/>
                  <a:ext cx="360" cy="26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5" name="Freihandform 74"/>
              <p:cNvSpPr/>
              <p:nvPr/>
            </p:nvSpPr>
            <p:spPr>
              <a:xfrm>
                <a:off x="6114600" y="4629600"/>
                <a:ext cx="2030040" cy="1580040"/>
              </a:xfrm>
              <a:prstGeom prst="pie">
                <a:avLst/>
              </a:pr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4249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 Box 6"/>
              <p:cNvSpPr/>
              <p:nvPr/>
            </p:nvSpPr>
            <p:spPr>
              <a:xfrm>
                <a:off x="6908040" y="6209640"/>
                <a:ext cx="191844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4249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D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7" name="Picture 8" descr="txp_fig"/>
              <p:cNvPicPr/>
              <p:nvPr/>
            </p:nvPicPr>
            <p:blipFill>
              <a:blip r:embed="rId4"/>
              <a:srcRect l="32588" t="41594" r="63622" b="0"/>
              <a:stretch/>
            </p:blipFill>
            <p:spPr>
              <a:xfrm>
                <a:off x="8519040" y="6147360"/>
                <a:ext cx="243000" cy="47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8" name="Gruppieren 79"/>
              <p:cNvGrpSpPr/>
              <p:nvPr/>
            </p:nvGrpSpPr>
            <p:grpSpPr>
              <a:xfrm>
                <a:off x="5397480" y="4280040"/>
                <a:ext cx="774720" cy="633600"/>
                <a:chOff x="5397480" y="4280040"/>
                <a:chExt cx="774720" cy="633600"/>
              </a:xfrm>
            </p:grpSpPr>
            <p:sp>
              <p:nvSpPr>
                <p:cNvPr id="109" name="Textfeld 77"/>
                <p:cNvSpPr/>
                <p:nvPr/>
              </p:nvSpPr>
              <p:spPr>
                <a:xfrm>
                  <a:off x="5397480" y="4280040"/>
                  <a:ext cx="774720" cy="63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4249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i="1" lang="de-DE" sz="1800" spc="-1" strike="noStrike">
                      <a:solidFill>
                        <a:srgbClr val="000000"/>
                      </a:solidFill>
                      <a:latin typeface="Arial"/>
                    </a:rPr>
                    <a:t>P(   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10" name="Picture 8" descr="txp_fig"/>
                <p:cNvPicPr/>
                <p:nvPr/>
              </p:nvPicPr>
              <p:blipFill>
                <a:blip r:embed="rId5"/>
                <a:srcRect l="32588" t="41594" r="63622" b="0"/>
                <a:stretch/>
              </p:blipFill>
              <p:spPr>
                <a:xfrm>
                  <a:off x="5654160" y="4381200"/>
                  <a:ext cx="243000" cy="47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1" name="Line 27"/>
            <p:cNvSpPr/>
            <p:nvPr/>
          </p:nvSpPr>
          <p:spPr>
            <a:xfrm>
              <a:off x="6032520" y="6271920"/>
              <a:ext cx="258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Gruppieren 67"/>
          <p:cNvGrpSpPr/>
          <p:nvPr/>
        </p:nvGrpSpPr>
        <p:grpSpPr>
          <a:xfrm>
            <a:off x="735120" y="4351320"/>
            <a:ext cx="3233520" cy="2419560"/>
            <a:chOff x="735120" y="4351320"/>
            <a:chExt cx="3233520" cy="2419560"/>
          </a:xfrm>
        </p:grpSpPr>
        <p:grpSp>
          <p:nvGrpSpPr>
            <p:cNvPr id="113" name="Gruppieren 24"/>
            <p:cNvGrpSpPr/>
            <p:nvPr/>
          </p:nvGrpSpPr>
          <p:grpSpPr>
            <a:xfrm>
              <a:off x="735120" y="4351320"/>
              <a:ext cx="3233520" cy="2214720"/>
              <a:chOff x="735120" y="4351320"/>
              <a:chExt cx="3233520" cy="2214720"/>
            </a:xfrm>
          </p:grpSpPr>
          <p:grpSp>
            <p:nvGrpSpPr>
              <p:cNvPr id="114" name="Gruppieren 6"/>
              <p:cNvGrpSpPr/>
              <p:nvPr/>
            </p:nvGrpSpPr>
            <p:grpSpPr>
              <a:xfrm>
                <a:off x="1069920" y="4478040"/>
                <a:ext cx="2898720" cy="1900800"/>
                <a:chOff x="1069920" y="4478040"/>
                <a:chExt cx="2898720" cy="1900800"/>
              </a:xfrm>
            </p:grpSpPr>
            <p:grpSp>
              <p:nvGrpSpPr>
                <p:cNvPr id="115" name="Group 66"/>
                <p:cNvGrpSpPr/>
                <p:nvPr/>
              </p:nvGrpSpPr>
              <p:grpSpPr>
                <a:xfrm>
                  <a:off x="1069920" y="4541040"/>
                  <a:ext cx="2898720" cy="1837800"/>
                  <a:chOff x="1069920" y="4541040"/>
                  <a:chExt cx="2898720" cy="1837800"/>
                </a:xfrm>
              </p:grpSpPr>
              <p:pic>
                <p:nvPicPr>
                  <p:cNvPr id="116" name="Picture 33" descr="TP_tmp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4000" y="4551120"/>
                    <a:ext cx="83628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" name="Line 26"/>
                  <p:cNvSpPr/>
                  <p:nvPr/>
                </p:nvSpPr>
                <p:spPr>
                  <a:xfrm flipV="1">
                    <a:off x="1134720" y="4541040"/>
                    <a:ext cx="0" cy="1781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ts val="4249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27"/>
                  <p:cNvSpPr/>
                  <p:nvPr/>
                </p:nvSpPr>
                <p:spPr>
                  <a:xfrm>
                    <a:off x="1069920" y="6286680"/>
                    <a:ext cx="26798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>
                      <a:lnSpc>
                        <a:spcPts val="4249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19" name="Picture 28" descr="TP_tmp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66680" y="6242400"/>
                    <a:ext cx="201960" cy="1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0" name="Picture 29" descr="TP_tmp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06360" y="4545360"/>
                    <a:ext cx="173160" cy="27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1" name="Gruppieren 31"/>
                <p:cNvGrpSpPr/>
                <p:nvPr/>
              </p:nvGrpSpPr>
              <p:grpSpPr>
                <a:xfrm>
                  <a:off x="1212840" y="4478040"/>
                  <a:ext cx="2396880" cy="1802520"/>
                  <a:chOff x="1212840" y="4478040"/>
                  <a:chExt cx="2396880" cy="1802520"/>
                </a:xfrm>
              </p:grpSpPr>
              <p:sp>
                <p:nvSpPr>
                  <p:cNvPr id="122" name="Freeform 46"/>
                  <p:cNvSpPr/>
                  <p:nvPr/>
                </p:nvSpPr>
                <p:spPr>
                  <a:xfrm>
                    <a:off x="1212840" y="4842000"/>
                    <a:ext cx="2343240" cy="1438560"/>
                  </a:xfrm>
                  <a:prstGeom prst="pie">
                    <a:avLst/>
                  </a:prstGeom>
                  <a:noFill/>
                  <a:ln w="28440">
                    <a:solidFill>
                      <a:srgbClr val="7f7f7f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ts val="4249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Textfeld 10"/>
                  <p:cNvSpPr/>
                  <p:nvPr/>
                </p:nvSpPr>
                <p:spPr>
                  <a:xfrm>
                    <a:off x="2744640" y="4984920"/>
                    <a:ext cx="240120" cy="63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ts val="4249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de-DE" sz="1800" spc="-1" strike="noStrike">
                        <a:solidFill>
                          <a:srgbClr val="ff0000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feld 11"/>
                  <p:cNvSpPr/>
                  <p:nvPr/>
                </p:nvSpPr>
                <p:spPr>
                  <a:xfrm>
                    <a:off x="1302480" y="5641200"/>
                    <a:ext cx="240120" cy="63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ts val="4249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de-DE" sz="1800" spc="-1" strike="noStrike">
                        <a:solidFill>
                          <a:srgbClr val="ff0000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feld 12"/>
                  <p:cNvSpPr/>
                  <p:nvPr/>
                </p:nvSpPr>
                <p:spPr>
                  <a:xfrm>
                    <a:off x="2360160" y="5082120"/>
                    <a:ext cx="240120" cy="63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ts val="4249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de-DE" sz="1800" spc="-1" strike="noStrike">
                        <a:solidFill>
                          <a:srgbClr val="ff0000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Textfeld 13"/>
                  <p:cNvSpPr/>
                  <p:nvPr/>
                </p:nvSpPr>
                <p:spPr>
                  <a:xfrm>
                    <a:off x="1975680" y="5175000"/>
                    <a:ext cx="240120" cy="63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ts val="4249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de-DE" sz="1800" spc="-1" strike="noStrike">
                        <a:solidFill>
                          <a:srgbClr val="ff0000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Textfeld 14"/>
                  <p:cNvSpPr/>
                  <p:nvPr/>
                </p:nvSpPr>
                <p:spPr>
                  <a:xfrm>
                    <a:off x="1591200" y="5365080"/>
                    <a:ext cx="240120" cy="63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ts val="4249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de-DE" sz="1800" spc="-1" strike="noStrike">
                        <a:solidFill>
                          <a:srgbClr val="ff0000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Textfeld 15"/>
                  <p:cNvSpPr/>
                  <p:nvPr/>
                </p:nvSpPr>
                <p:spPr>
                  <a:xfrm>
                    <a:off x="3369600" y="4478040"/>
                    <a:ext cx="240120" cy="63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ts val="4249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de-DE" sz="1800" spc="-1" strike="noStrike">
                        <a:solidFill>
                          <a:srgbClr val="ff0000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Textfeld 16"/>
                  <p:cNvSpPr/>
                  <p:nvPr/>
                </p:nvSpPr>
                <p:spPr>
                  <a:xfrm>
                    <a:off x="3081240" y="4794840"/>
                    <a:ext cx="240120" cy="63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ts val="4249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de-DE" sz="1800" spc="-1" strike="noStrike">
                        <a:solidFill>
                          <a:srgbClr val="ff0000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130" name="Picture 8" descr="txp_fig"/>
              <p:cNvPicPr/>
              <p:nvPr/>
            </p:nvPicPr>
            <p:blipFill>
              <a:blip r:embed="rId9"/>
              <a:srcRect l="32588" t="41594" r="63622" b="0"/>
              <a:stretch/>
            </p:blipFill>
            <p:spPr>
              <a:xfrm>
                <a:off x="735120" y="4351320"/>
                <a:ext cx="252000" cy="47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54360" y="6378840"/>
                <a:ext cx="22896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Text Box 6"/>
            <p:cNvSpPr/>
            <p:nvPr/>
          </p:nvSpPr>
          <p:spPr>
            <a:xfrm>
              <a:off x="1488960" y="6137280"/>
              <a:ext cx="212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ndom proc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uppieren 66"/>
          <p:cNvGrpSpPr/>
          <p:nvPr/>
        </p:nvGrpSpPr>
        <p:grpSpPr>
          <a:xfrm>
            <a:off x="754200" y="3851280"/>
            <a:ext cx="5715000" cy="642960"/>
            <a:chOff x="754200" y="3851280"/>
            <a:chExt cx="5715000" cy="642960"/>
          </a:xfrm>
        </p:grpSpPr>
        <p:sp>
          <p:nvSpPr>
            <p:cNvPr id="134" name="Text Box 3"/>
            <p:cNvSpPr/>
            <p:nvPr/>
          </p:nvSpPr>
          <p:spPr>
            <a:xfrm>
              <a:off x="1468440" y="3851280"/>
              <a:ext cx="50007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28680" indent="-328680">
                <a:lnSpc>
                  <a:spcPct val="124000"/>
                </a:lnSpc>
                <a:spcBef>
                  <a:spcPts val="799"/>
                </a:spcBef>
                <a:tabLst>
                  <a:tab algn="l" pos="0"/>
                  <a:tab algn="l" pos="328680"/>
                  <a:tab algn="l" pos="776160"/>
                  <a:tab algn="l" pos="1225440"/>
                  <a:tab algn="l" pos="1674720"/>
                  <a:tab algn="l" pos="2124000"/>
                  <a:tab algn="l" pos="2573280"/>
                  <a:tab algn="l" pos="3022560"/>
                  <a:tab algn="l" pos="3471840"/>
                  <a:tab algn="l" pos="3921120"/>
                  <a:tab algn="l" pos="4370400"/>
                  <a:tab algn="l" pos="4819680"/>
                  <a:tab algn="l" pos="5268960"/>
                  <a:tab algn="l" pos="5718240"/>
                  <a:tab algn="l" pos="6167520"/>
                  <a:tab algn="l" pos="6616800"/>
                  <a:tab algn="l" pos="7066080"/>
                  <a:tab algn="l" pos="7515360"/>
                  <a:tab algn="l" pos="7964640"/>
                  <a:tab algn="l" pos="8413920"/>
                  <a:tab algn="l" pos="8862840"/>
                  <a:tab algn="l" pos="931212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utput depends on uncertain paramete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Pfeil nach rechts 25"/>
            <p:cNvSpPr/>
            <p:nvPr/>
          </p:nvSpPr>
          <p:spPr>
            <a:xfrm>
              <a:off x="754200" y="3994200"/>
              <a:ext cx="500040" cy="142920"/>
            </a:xfrm>
            <a:prstGeom prst="rightArrow">
              <a:avLst>
                <a:gd name="adj1" fmla="val 50000"/>
                <a:gd name="adj2" fmla="val 49987"/>
              </a:avLst>
            </a:prstGeom>
            <a:solidFill>
              <a:srgbClr val="66ffcc">
                <a:alpha val="52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Datumsplatzhalter 47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ußzeilenplatzhalter 1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A23EC-1AE4-426A-B962-DF359FE189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468360" y="135000"/>
            <a:ext cx="907092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400" spc="-1" strike="noStrike">
                <a:solidFill>
                  <a:srgbClr val="000000"/>
                </a:solidFill>
                <a:latin typeface="Arial"/>
              </a:rPr>
              <a:t>Stochastic Proc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uppieren 20"/>
          <p:cNvGrpSpPr/>
          <p:nvPr/>
        </p:nvGrpSpPr>
        <p:grpSpPr>
          <a:xfrm>
            <a:off x="503280" y="1208160"/>
            <a:ext cx="9070920" cy="5021280"/>
            <a:chOff x="503280" y="1208160"/>
            <a:chExt cx="9070920" cy="5021280"/>
          </a:xfrm>
        </p:grpSpPr>
        <p:sp>
          <p:nvSpPr>
            <p:cNvPr id="141" name="Text Box 2"/>
            <p:cNvSpPr/>
            <p:nvPr/>
          </p:nvSpPr>
          <p:spPr>
            <a:xfrm>
              <a:off x="503280" y="1208160"/>
              <a:ext cx="9070920" cy="50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425520" indent="-320760">
                <a:lnSpc>
                  <a:spcPct val="124000"/>
                </a:lnSpc>
                <a:spcAft>
                  <a:spcPts val="1426"/>
                </a:spcAft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425520"/>
                  <a:tab algn="l" pos="873000"/>
                  <a:tab algn="l" pos="1322280"/>
                  <a:tab algn="l" pos="1771560"/>
                  <a:tab algn="l" pos="2220840"/>
                  <a:tab algn="l" pos="2670120"/>
                  <a:tab algn="l" pos="3119400"/>
                  <a:tab algn="l" pos="3568680"/>
                  <a:tab algn="l" pos="4017960"/>
                  <a:tab algn="l" pos="4467240"/>
                  <a:tab algn="l" pos="4916520"/>
                  <a:tab algn="l" pos="5365800"/>
                  <a:tab algn="l" pos="5815080"/>
                  <a:tab algn="l" pos="6264360"/>
                  <a:tab algn="l" pos="6713640"/>
                  <a:tab algn="l" pos="7162920"/>
                  <a:tab algn="l" pos="7612200"/>
                  <a:tab algn="l" pos="8061480"/>
                  <a:tab algn="l" pos="8510760"/>
                  <a:tab algn="l" pos="8959680"/>
                  <a:tab algn="l" pos="94089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Let              be a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bability sp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425520" indent="-320760">
                <a:lnSpc>
                  <a:spcPct val="124000"/>
                </a:lnSpc>
                <a:spcAft>
                  <a:spcPts val="1426"/>
                </a:spcAft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425520"/>
                  <a:tab algn="l" pos="873000"/>
                  <a:tab algn="l" pos="1322280"/>
                  <a:tab algn="l" pos="1771560"/>
                  <a:tab algn="l" pos="2220840"/>
                  <a:tab algn="l" pos="2670120"/>
                  <a:tab algn="l" pos="3119400"/>
                  <a:tab algn="l" pos="3568680"/>
                  <a:tab algn="l" pos="4017960"/>
                  <a:tab algn="l" pos="4467240"/>
                  <a:tab algn="l" pos="4916520"/>
                  <a:tab algn="l" pos="5365800"/>
                  <a:tab algn="l" pos="5815080"/>
                  <a:tab algn="l" pos="6264360"/>
                  <a:tab algn="l" pos="6713640"/>
                  <a:tab algn="l" pos="7162920"/>
                  <a:tab algn="l" pos="7612200"/>
                  <a:tab algn="l" pos="8061480"/>
                  <a:tab algn="l" pos="8510760"/>
                  <a:tab algn="l" pos="8959680"/>
                  <a:tab algn="l" pos="94089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ochastic process decomposed into finite set of independent random variables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425520" indent="-320760">
                <a:lnSpc>
                  <a:spcPct val="124000"/>
                </a:lnSpc>
                <a:spcAft>
                  <a:spcPts val="1426"/>
                </a:spcAft>
                <a:tabLst>
                  <a:tab algn="l" pos="0"/>
                  <a:tab algn="l" pos="425520"/>
                  <a:tab algn="l" pos="873000"/>
                  <a:tab algn="l" pos="1322280"/>
                  <a:tab algn="l" pos="1771560"/>
                  <a:tab algn="l" pos="2220840"/>
                  <a:tab algn="l" pos="2670120"/>
                  <a:tab algn="l" pos="3119400"/>
                  <a:tab algn="l" pos="3568680"/>
                  <a:tab algn="l" pos="4017960"/>
                  <a:tab algn="l" pos="4467240"/>
                  <a:tab algn="l" pos="4916520"/>
                  <a:tab algn="l" pos="5365800"/>
                  <a:tab algn="l" pos="5815080"/>
                  <a:tab algn="l" pos="6264360"/>
                  <a:tab algn="l" pos="6713640"/>
                  <a:tab algn="l" pos="7162920"/>
                  <a:tab algn="l" pos="7612200"/>
                  <a:tab algn="l" pos="8061480"/>
                  <a:tab algn="l" pos="8510760"/>
                  <a:tab algn="l" pos="8959680"/>
                  <a:tab algn="l" pos="94089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425520" indent="-320760">
                <a:lnSpc>
                  <a:spcPct val="124000"/>
                </a:lnSpc>
                <a:spcAft>
                  <a:spcPts val="1426"/>
                </a:spcAft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425520"/>
                  <a:tab algn="l" pos="873000"/>
                  <a:tab algn="l" pos="1322280"/>
                  <a:tab algn="l" pos="1771560"/>
                  <a:tab algn="l" pos="2220840"/>
                  <a:tab algn="l" pos="2670120"/>
                  <a:tab algn="l" pos="3119400"/>
                  <a:tab algn="l" pos="3568680"/>
                  <a:tab algn="l" pos="4017960"/>
                  <a:tab algn="l" pos="4467240"/>
                  <a:tab algn="l" pos="4916520"/>
                  <a:tab algn="l" pos="5365800"/>
                  <a:tab algn="l" pos="5815080"/>
                  <a:tab algn="l" pos="6264360"/>
                  <a:tab algn="l" pos="6713640"/>
                  <a:tab algn="l" pos="7162920"/>
                  <a:tab algn="l" pos="7612200"/>
                  <a:tab algn="l" pos="8061480"/>
                  <a:tab algn="l" pos="8510760"/>
                  <a:tab algn="l" pos="8959680"/>
                  <a:tab algn="l" pos="94089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Joint probability density function         of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425520" indent="-320760">
                <a:lnSpc>
                  <a:spcPct val="124000"/>
                </a:lnSpc>
                <a:spcAft>
                  <a:spcPts val="1426"/>
                </a:spcAft>
                <a:buClr>
                  <a:srgbClr val="000000"/>
                </a:buClr>
                <a:buSzPct val="45000"/>
                <a:buFont typeface="Wingdings" charset="2"/>
                <a:buChar char=""/>
                <a:tabLst>
                  <a:tab algn="l" pos="425520"/>
                  <a:tab algn="l" pos="873000"/>
                  <a:tab algn="l" pos="1322280"/>
                  <a:tab algn="l" pos="1771560"/>
                  <a:tab algn="l" pos="2220840"/>
                  <a:tab algn="l" pos="2670120"/>
                  <a:tab algn="l" pos="3119400"/>
                  <a:tab algn="l" pos="3568680"/>
                  <a:tab algn="l" pos="4017960"/>
                  <a:tab algn="l" pos="4467240"/>
                  <a:tab algn="l" pos="4916520"/>
                  <a:tab algn="l" pos="5365800"/>
                  <a:tab algn="l" pos="5815080"/>
                  <a:tab algn="l" pos="6264360"/>
                  <a:tab algn="l" pos="6713640"/>
                  <a:tab algn="l" pos="7162920"/>
                  <a:tab algn="l" pos="7612200"/>
                  <a:tab algn="l" pos="8061480"/>
                  <a:tab algn="l" pos="8510760"/>
                  <a:tab algn="l" pos="8959680"/>
                  <a:tab algn="l" pos="94089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reduce infinite dimensional probability space to    -dimensional space    , Hilbert spac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2" name="Picture 3" descr=""/>
            <p:cNvPicPr/>
            <p:nvPr/>
          </p:nvPicPr>
          <p:blipFill>
            <a:blip r:embed="rId1"/>
            <a:stretch/>
          </p:blipFill>
          <p:spPr>
            <a:xfrm>
              <a:off x="1468440" y="1282680"/>
              <a:ext cx="11588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8" descr=""/>
            <p:cNvPicPr/>
            <p:nvPr/>
          </p:nvPicPr>
          <p:blipFill>
            <a:blip r:embed="rId2"/>
            <a:stretch/>
          </p:blipFill>
          <p:spPr>
            <a:xfrm>
              <a:off x="3370320" y="2384280"/>
              <a:ext cx="274140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0" descr=""/>
            <p:cNvPicPr/>
            <p:nvPr/>
          </p:nvPicPr>
          <p:blipFill>
            <a:blip r:embed="rId3"/>
            <a:stretch/>
          </p:blipFill>
          <p:spPr>
            <a:xfrm>
              <a:off x="7308000" y="4320000"/>
              <a:ext cx="336240" cy="2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1" descr=""/>
            <p:cNvPicPr/>
            <p:nvPr/>
          </p:nvPicPr>
          <p:blipFill>
            <a:blip r:embed="rId4"/>
            <a:stretch/>
          </p:blipFill>
          <p:spPr>
            <a:xfrm>
              <a:off x="1836000" y="4780080"/>
              <a:ext cx="244440" cy="2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2" descr=""/>
            <p:cNvPicPr/>
            <p:nvPr/>
          </p:nvPicPr>
          <p:blipFill>
            <a:blip r:embed="rId5"/>
            <a:stretch/>
          </p:blipFill>
          <p:spPr>
            <a:xfrm>
              <a:off x="4068000" y="4716000"/>
              <a:ext cx="82224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4" descr=""/>
            <p:cNvPicPr/>
            <p:nvPr/>
          </p:nvPicPr>
          <p:blipFill>
            <a:blip r:embed="rId6"/>
            <a:stretch/>
          </p:blipFill>
          <p:spPr>
            <a:xfrm>
              <a:off x="5288040" y="3637080"/>
              <a:ext cx="60948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5" descr=""/>
            <p:cNvPicPr/>
            <p:nvPr/>
          </p:nvPicPr>
          <p:blipFill>
            <a:blip r:embed="rId7"/>
            <a:stretch/>
          </p:blipFill>
          <p:spPr>
            <a:xfrm>
              <a:off x="6315120" y="3637080"/>
              <a:ext cx="296640" cy="3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3" descr=""/>
          <p:cNvPicPr/>
          <p:nvPr/>
        </p:nvPicPr>
        <p:blipFill>
          <a:blip r:embed="rId8">
            <a:alphaModFix amt="10000"/>
          </a:blip>
          <a:stretch/>
        </p:blipFill>
        <p:spPr>
          <a:xfrm>
            <a:off x="1189080" y="5519880"/>
            <a:ext cx="3565440" cy="760320"/>
          </a:xfrm>
          <a:prstGeom prst="rect">
            <a:avLst/>
          </a:prstGeom>
          <a:ln w="9360">
            <a:solidFill>
              <a:srgbClr val="009973"/>
            </a:solidFill>
            <a:round/>
          </a:ln>
        </p:spPr>
      </p:pic>
      <p:pic>
        <p:nvPicPr>
          <p:cNvPr id="150" name="Picture 2" descr=""/>
          <p:cNvPicPr/>
          <p:nvPr/>
        </p:nvPicPr>
        <p:blipFill>
          <a:blip r:embed="rId9">
            <a:alphaModFix amt="10000"/>
          </a:blip>
          <a:stretch/>
        </p:blipFill>
        <p:spPr>
          <a:xfrm>
            <a:off x="5468760" y="5519880"/>
            <a:ext cx="2833920" cy="760320"/>
          </a:xfrm>
          <a:prstGeom prst="rect">
            <a:avLst/>
          </a:prstGeom>
          <a:ln w="9360">
            <a:solidFill>
              <a:srgbClr val="009973"/>
            </a:solidFill>
            <a:round/>
          </a:ln>
        </p:spPr>
      </p:pic>
      <p:pic>
        <p:nvPicPr>
          <p:cNvPr id="151" name="Picture 4" descr=""/>
          <p:cNvPicPr/>
          <p:nvPr/>
        </p:nvPicPr>
        <p:blipFill>
          <a:blip r:embed="rId10"/>
          <a:stretch/>
        </p:blipFill>
        <p:spPr>
          <a:xfrm>
            <a:off x="3733920" y="2986200"/>
            <a:ext cx="4235400" cy="3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11"/>
          <a:stretch/>
        </p:blipFill>
        <p:spPr>
          <a:xfrm>
            <a:off x="1468440" y="2986200"/>
            <a:ext cx="976320" cy="365040"/>
          </a:xfrm>
          <a:prstGeom prst="rect">
            <a:avLst/>
          </a:prstGeom>
          <a:ln w="0">
            <a:noFill/>
          </a:ln>
        </p:spPr>
      </p:pic>
      <p:sp>
        <p:nvSpPr>
          <p:cNvPr id="153" name="Pfeil nach rechts 19"/>
          <p:cNvSpPr/>
          <p:nvPr/>
        </p:nvSpPr>
        <p:spPr>
          <a:xfrm>
            <a:off x="2754360" y="3065400"/>
            <a:ext cx="71424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66ffcc">
              <a:alpha val="51000"/>
            </a:srgbClr>
          </a:solidFill>
          <a:ln w="9360">
            <a:solidFill>
              <a:srgbClr val="0099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Datumsplatzhalter 20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-77760"/>
            <a:ext cx="90644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400" spc="-1" strike="noStrike">
                <a:solidFill>
                  <a:srgbClr val="000000"/>
                </a:solidFill>
                <a:latin typeface="Arial"/>
              </a:rPr>
              <a:t>Stochastic Collocation Metho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2920" y="1136520"/>
            <a:ext cx="906444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bine stochastic Galerkin method and Monte Carlo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polynomial approximation in random spaces and sample at discret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thogonal Lagrange interpolation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1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0AC5B-E7D6-4570-A87E-3CE0A8F7A6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Gruppieren 6"/>
          <p:cNvGrpSpPr/>
          <p:nvPr/>
        </p:nvGrpSpPr>
        <p:grpSpPr>
          <a:xfrm>
            <a:off x="787320" y="1636560"/>
            <a:ext cx="3967200" cy="1908360"/>
            <a:chOff x="787320" y="1636560"/>
            <a:chExt cx="3967200" cy="1908360"/>
          </a:xfrm>
        </p:grpSpPr>
        <p:sp>
          <p:nvSpPr>
            <p:cNvPr id="160" name="Text Box 3"/>
            <p:cNvSpPr/>
            <p:nvPr/>
          </p:nvSpPr>
          <p:spPr>
            <a:xfrm>
              <a:off x="3397320" y="2401920"/>
              <a:ext cx="135720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andom sample poin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" name="Picture 7" descr=""/>
            <p:cNvPicPr/>
            <p:nvPr/>
          </p:nvPicPr>
          <p:blipFill>
            <a:blip r:embed="rId1"/>
            <a:stretch/>
          </p:blipFill>
          <p:spPr>
            <a:xfrm>
              <a:off x="787320" y="1636560"/>
              <a:ext cx="2395440" cy="190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uppieren 9"/>
          <p:cNvGrpSpPr/>
          <p:nvPr/>
        </p:nvGrpSpPr>
        <p:grpSpPr>
          <a:xfrm>
            <a:off x="5202360" y="1636560"/>
            <a:ext cx="4195800" cy="1908360"/>
            <a:chOff x="5202360" y="1636560"/>
            <a:chExt cx="4195800" cy="1908360"/>
          </a:xfrm>
        </p:grpSpPr>
        <p:pic>
          <p:nvPicPr>
            <p:cNvPr id="163" name="Picture 6" descr=""/>
            <p:cNvPicPr/>
            <p:nvPr/>
          </p:nvPicPr>
          <p:blipFill>
            <a:blip r:embed="rId2"/>
            <a:stretch/>
          </p:blipFill>
          <p:spPr>
            <a:xfrm>
              <a:off x="5202360" y="1636560"/>
              <a:ext cx="2395440" cy="19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8"/>
            <p:cNvSpPr/>
            <p:nvPr/>
          </p:nvSpPr>
          <p:spPr>
            <a:xfrm>
              <a:off x="7826400" y="1636560"/>
              <a:ext cx="157176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parse grid, generated with Smolyak‘s algorith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2496960" y="5400720"/>
            <a:ext cx="3828960" cy="1252080"/>
            <a:chOff x="2496960" y="5400720"/>
            <a:chExt cx="3828960" cy="1252080"/>
          </a:xfrm>
        </p:grpSpPr>
        <p:pic>
          <p:nvPicPr>
            <p:cNvPr id="166" name="Picture 6" descr=""/>
            <p:cNvPicPr/>
            <p:nvPr/>
          </p:nvPicPr>
          <p:blipFill>
            <a:blip r:embed="rId3"/>
            <a:stretch/>
          </p:blipFill>
          <p:spPr>
            <a:xfrm>
              <a:off x="2496960" y="5758560"/>
              <a:ext cx="3629520" cy="89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7" descr=""/>
            <p:cNvPicPr/>
            <p:nvPr/>
          </p:nvPicPr>
          <p:blipFill>
            <a:blip r:embed="rId4"/>
            <a:stretch/>
          </p:blipFill>
          <p:spPr>
            <a:xfrm>
              <a:off x="2514240" y="5400720"/>
              <a:ext cx="3811680" cy="39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Datumsplatzhalter 15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163080"/>
            <a:ext cx="906444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0412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400" spc="-1" strike="noStrike">
                <a:solidFill>
                  <a:srgbClr val="000000"/>
                </a:solidFill>
                <a:latin typeface="Arial"/>
              </a:rPr>
              <a:t>Stochastic Galerkin metho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ußzeilenplatzhalter 1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FE8DC-29C0-4730-A897-FDD7552C9B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hteck 4"/>
          <p:cNvSpPr/>
          <p:nvPr/>
        </p:nvSpPr>
        <p:spPr>
          <a:xfrm>
            <a:off x="309960" y="1630440"/>
            <a:ext cx="39218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25520" indent="-320760">
              <a:lnSpc>
                <a:spcPct val="124000"/>
              </a:lnSpc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chastic elliptic P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754200" y="4032360"/>
            <a:ext cx="2863800" cy="3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754200" y="4784760"/>
            <a:ext cx="8431200" cy="1187280"/>
          </a:xfrm>
          <a:prstGeom prst="rect">
            <a:avLst/>
          </a:prstGeom>
          <a:ln w="0">
            <a:noFill/>
          </a:ln>
        </p:spPr>
      </p:pic>
      <p:sp>
        <p:nvSpPr>
          <p:cNvPr id="175" name="Rechteck 8"/>
          <p:cNvSpPr/>
          <p:nvPr/>
        </p:nvSpPr>
        <p:spPr>
          <a:xfrm>
            <a:off x="3634560" y="3851280"/>
            <a:ext cx="43290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24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weak solution of the SPDE i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uppieren 12"/>
          <p:cNvGrpSpPr/>
          <p:nvPr/>
        </p:nvGrpSpPr>
        <p:grpSpPr>
          <a:xfrm>
            <a:off x="539640" y="2351160"/>
            <a:ext cx="9001080" cy="914400"/>
            <a:chOff x="539640" y="2351160"/>
            <a:chExt cx="9001080" cy="914400"/>
          </a:xfrm>
        </p:grpSpPr>
        <p:pic>
          <p:nvPicPr>
            <p:cNvPr id="177" name="Picture 7" descr=""/>
            <p:cNvPicPr/>
            <p:nvPr/>
          </p:nvPicPr>
          <p:blipFill>
            <a:blip r:embed="rId3"/>
            <a:stretch/>
          </p:blipFill>
          <p:spPr>
            <a:xfrm>
              <a:off x="1182600" y="2422440"/>
              <a:ext cx="75754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hteck 11"/>
            <p:cNvSpPr/>
            <p:nvPr/>
          </p:nvSpPr>
          <p:spPr>
            <a:xfrm>
              <a:off x="539640" y="2351160"/>
              <a:ext cx="9001080" cy="914400"/>
            </a:xfrm>
            <a:prstGeom prst="rect">
              <a:avLst/>
            </a:prstGeom>
            <a:solidFill>
              <a:srgbClr val="66ffcc">
                <a:alpha val="10000"/>
              </a:srgbClr>
            </a:solidFill>
            <a:ln w="9360">
              <a:solidFill>
                <a:srgbClr val="0099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4249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Datumsplatzhalter 12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ußzeilenplatzhalter 1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C1083-F438-4828-86BE-B9B604E169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539640" y="136440"/>
            <a:ext cx="90727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Numerical Tes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898560" y="1208160"/>
            <a:ext cx="4305240" cy="82872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3"/>
          <p:cNvGrpSpPr/>
          <p:nvPr/>
        </p:nvGrpSpPr>
        <p:grpSpPr>
          <a:xfrm>
            <a:off x="5111640" y="2136600"/>
            <a:ext cx="4071960" cy="3214800"/>
            <a:chOff x="5111640" y="2136600"/>
            <a:chExt cx="4071960" cy="3214800"/>
          </a:xfrm>
        </p:grpSpPr>
        <p:pic>
          <p:nvPicPr>
            <p:cNvPr id="185" name="Picture 4" descr=""/>
            <p:cNvPicPr/>
            <p:nvPr/>
          </p:nvPicPr>
          <p:blipFill>
            <a:blip r:embed="rId2"/>
            <a:stretch/>
          </p:blipFill>
          <p:spPr>
            <a:xfrm>
              <a:off x="5111640" y="2136600"/>
              <a:ext cx="374652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5"/>
            <p:cNvSpPr/>
            <p:nvPr/>
          </p:nvSpPr>
          <p:spPr>
            <a:xfrm>
              <a:off x="5183280" y="4422600"/>
              <a:ext cx="400032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425520" indent="9205920">
                <a:lnSpc>
                  <a:spcPct val="100000"/>
                </a:lnSpc>
                <a:spcAft>
                  <a:spcPts val="1426"/>
                </a:spcAft>
                <a:tabLst>
                  <a:tab algn="l" pos="0"/>
                  <a:tab algn="l" pos="425520"/>
                  <a:tab algn="l" pos="873000"/>
                  <a:tab algn="l" pos="1322280"/>
                  <a:tab algn="l" pos="1771560"/>
                  <a:tab algn="l" pos="2220840"/>
                  <a:tab algn="l" pos="2670120"/>
                  <a:tab algn="l" pos="3119400"/>
                  <a:tab algn="l" pos="3568680"/>
                  <a:tab algn="l" pos="4017960"/>
                  <a:tab algn="l" pos="4467240"/>
                  <a:tab algn="l" pos="4916520"/>
                  <a:tab algn="l" pos="5365800"/>
                  <a:tab algn="l" pos="5815080"/>
                  <a:tab algn="l" pos="6264360"/>
                  <a:tab algn="l" pos="6713640"/>
                  <a:tab algn="l" pos="7162920"/>
                  <a:tab algn="l" pos="7612200"/>
                  <a:tab algn="l" pos="8061480"/>
                  <a:tab algn="l" pos="8510760"/>
                  <a:tab algn="l" pos="8959680"/>
                  <a:tab algn="l" pos="94089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VVariance of the solution of the SPDE for  different coefficient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6"/>
          <p:cNvGrpSpPr/>
          <p:nvPr/>
        </p:nvGrpSpPr>
        <p:grpSpPr>
          <a:xfrm>
            <a:off x="650880" y="2136600"/>
            <a:ext cx="3746520" cy="3258000"/>
            <a:chOff x="650880" y="2136600"/>
            <a:chExt cx="3746520" cy="3258000"/>
          </a:xfrm>
        </p:grpSpPr>
        <p:pic>
          <p:nvPicPr>
            <p:cNvPr id="188" name="Picture 7" descr=""/>
            <p:cNvPicPr/>
            <p:nvPr/>
          </p:nvPicPr>
          <p:blipFill>
            <a:blip r:embed="rId3"/>
            <a:stretch/>
          </p:blipFill>
          <p:spPr>
            <a:xfrm>
              <a:off x="650880" y="2136600"/>
              <a:ext cx="3746520" cy="262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Group 8"/>
            <p:cNvGrpSpPr/>
            <p:nvPr/>
          </p:nvGrpSpPr>
          <p:grpSpPr>
            <a:xfrm>
              <a:off x="896760" y="4620960"/>
              <a:ext cx="3427560" cy="773640"/>
              <a:chOff x="896760" y="4620960"/>
              <a:chExt cx="3427560" cy="773640"/>
            </a:xfrm>
          </p:grpSpPr>
          <p:pic>
            <p:nvPicPr>
              <p:cNvPr id="190" name="Pictur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539360" y="5069160"/>
                <a:ext cx="2504160" cy="28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Text Box 10"/>
              <p:cNvSpPr/>
              <p:nvPr/>
            </p:nvSpPr>
            <p:spPr>
              <a:xfrm>
                <a:off x="896760" y="4620960"/>
                <a:ext cx="3427560" cy="77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4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ifferent realizations for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24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with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Group 11"/>
          <p:cNvGrpSpPr/>
          <p:nvPr/>
        </p:nvGrpSpPr>
        <p:grpSpPr>
          <a:xfrm>
            <a:off x="3897360" y="5722920"/>
            <a:ext cx="3828960" cy="720720"/>
            <a:chOff x="3897360" y="5722920"/>
            <a:chExt cx="3828960" cy="720720"/>
          </a:xfrm>
        </p:grpSpPr>
        <p:pic>
          <p:nvPicPr>
            <p:cNvPr id="193" name="Picture 12" descr=""/>
            <p:cNvPicPr/>
            <p:nvPr/>
          </p:nvPicPr>
          <p:blipFill>
            <a:blip r:embed="rId5"/>
            <a:stretch/>
          </p:blipFill>
          <p:spPr>
            <a:xfrm>
              <a:off x="6832440" y="5724360"/>
              <a:ext cx="89388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3" descr=""/>
            <p:cNvPicPr/>
            <p:nvPr/>
          </p:nvPicPr>
          <p:blipFill>
            <a:blip r:embed="rId6"/>
            <a:stretch/>
          </p:blipFill>
          <p:spPr>
            <a:xfrm>
              <a:off x="3897360" y="5722920"/>
              <a:ext cx="88416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4" descr=""/>
            <p:cNvPicPr/>
            <p:nvPr/>
          </p:nvPicPr>
          <p:blipFill>
            <a:blip r:embed="rId7"/>
            <a:stretch/>
          </p:blipFill>
          <p:spPr>
            <a:xfrm>
              <a:off x="4395960" y="6168960"/>
              <a:ext cx="760320" cy="27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Picture 15" descr=""/>
          <p:cNvPicPr/>
          <p:nvPr/>
        </p:nvPicPr>
        <p:blipFill>
          <a:blip r:embed="rId8"/>
          <a:stretch/>
        </p:blipFill>
        <p:spPr>
          <a:xfrm>
            <a:off x="3468600" y="4668840"/>
            <a:ext cx="811440" cy="325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"/>
          <p:cNvPicPr/>
          <p:nvPr/>
        </p:nvPicPr>
        <p:blipFill>
          <a:blip r:embed="rId9"/>
          <a:stretch/>
        </p:blipFill>
        <p:spPr>
          <a:xfrm>
            <a:off x="8755200" y="5040360"/>
            <a:ext cx="244440" cy="210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7"/>
          <p:cNvSpPr/>
          <p:nvPr/>
        </p:nvSpPr>
        <p:spPr>
          <a:xfrm>
            <a:off x="396720" y="5637240"/>
            <a:ext cx="9072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5520" indent="-320760">
              <a:lnSpc>
                <a:spcPct val="12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chastic solution f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converges for             to the deterministic solution with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Datumsplatzhalter 21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ußzeilenplatzhalter 1"/>
          <p:cNvSpPr/>
          <p:nvPr/>
        </p:nvSpPr>
        <p:spPr>
          <a:xfrm>
            <a:off x="3645000" y="7004160"/>
            <a:ext cx="2108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nne Ties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Foliennummernplatzhalter 2"/>
          <p:cNvSpPr/>
          <p:nvPr/>
        </p:nvSpPr>
        <p:spPr>
          <a:xfrm>
            <a:off x="7199280" y="7002360"/>
            <a:ext cx="8287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94E14-4E3F-4208-815C-8C356FADBC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5450040" y="2922480"/>
            <a:ext cx="2233440" cy="709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968400" y="3094200"/>
            <a:ext cx="3071880" cy="328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>
            <a:off x="5245200" y="3922560"/>
            <a:ext cx="3295440" cy="392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4"/>
          <a:stretch/>
        </p:blipFill>
        <p:spPr>
          <a:xfrm>
            <a:off x="3611520" y="1343160"/>
            <a:ext cx="4498920" cy="8650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539640" y="2422440"/>
            <a:ext cx="907272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5520" indent="-320760">
              <a:lnSpc>
                <a:spcPct val="14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uchy Criteri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Ratio Criter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42000"/>
              </a:lnSpc>
              <a:spcAft>
                <a:spcPts val="1426"/>
              </a:spcAft>
              <a:tabLst>
                <a:tab algn="l" pos="0"/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4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1360"/>
                <a:tab algn="l" pos="1434960"/>
                <a:tab algn="l" pos="215892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02320"/>
                <a:tab algn="l" pos="7226280"/>
                <a:tab algn="l" pos="7950240"/>
                <a:tab algn="l" pos="86742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 in tensor product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539640" y="136440"/>
            <a:ext cx="907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Numerical Tests for the SPD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8" descr=""/>
          <p:cNvPicPr/>
          <p:nvPr/>
        </p:nvPicPr>
        <p:blipFill>
          <a:blip r:embed="rId5"/>
          <a:stretch/>
        </p:blipFill>
        <p:spPr>
          <a:xfrm>
            <a:off x="1100160" y="1090440"/>
            <a:ext cx="1797120" cy="126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" descr=""/>
          <p:cNvPicPr/>
          <p:nvPr/>
        </p:nvPicPr>
        <p:blipFill>
          <a:blip r:embed="rId6"/>
          <a:stretch/>
        </p:blipFill>
        <p:spPr>
          <a:xfrm>
            <a:off x="968400" y="4554360"/>
            <a:ext cx="8183520" cy="2011680"/>
          </a:xfrm>
          <a:prstGeom prst="rect">
            <a:avLst/>
          </a:prstGeom>
          <a:ln w="0">
            <a:noFill/>
          </a:ln>
        </p:spPr>
      </p:pic>
      <p:sp>
        <p:nvSpPr>
          <p:cNvPr id="210" name="Datumsplatzhalter 13"/>
          <p:cNvSpPr/>
          <p:nvPr/>
        </p:nvSpPr>
        <p:spPr>
          <a:xfrm>
            <a:off x="1793880" y="7020000"/>
            <a:ext cx="9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.06.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%%% OOoLatex Preamble %%%%%%%%%%%%%%
\usepackage{amsmath,amssymb}
\usepackage{color}
\usepackage{helvet}
\renewcommand\familydefault{phv}
\definecolor{white}{rgb}{0.99,0.99,0.99}
%\definecolor{white}{rgb}{0, 0, 0}
\def\R{I\!\!R}
%\color{white}
\def\vxi{{\</dc:description>
  <dc:language>en-US</dc:language>
  <cp:lastModifiedBy>Dong Meng</cp:lastModifiedBy>
  <dcterms:modified xsi:type="dcterms:W3CDTF">2009-06-02T18:50:07Z</dcterms:modified>
  <cp:revision>96</cp:revision>
  <dc:subject/>
  <dc:title>SPDE-constrained optimization with stochastic collocation</dc:title>
</cp:coreProperties>
</file>